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EBB-B649-474C-B946-E6B249BD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AF1-7531-4B86-939A-918DABB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6F5-A2C9-4233-9C0A-3446629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7FF-9206-4621-A301-5D3C7419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728-D435-4A30-8591-6B1B251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784E-13BB-4D09-95BB-23D83E6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DA0-D9A8-48F8-8283-C4A94016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17B4-D053-4A9B-82E8-4D3A1AA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7263-6A66-421D-933D-D8D7FE5B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A3B7-4280-4759-AC0E-636FE2E2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CC74-5420-4869-B012-41755CE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643-558F-4DEB-A3B5-9E4C01F0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7B97-9867-459F-8329-53B640D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06E4-C094-4ED2-B1AB-67A03E6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7C6-0EC9-4180-A2A5-DC3C1975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4F4E-2653-4F9A-A3BA-78AD0635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7E6B-E9AE-4947-8245-ED0F1221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B632-C09B-4C02-BBA1-46B40131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8316-E3AE-4F10-BBE7-64262C5B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B4E5-5C07-4087-ACFB-314D201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4B0C-AA51-4F38-B56E-AC75F872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2C0A-640A-4E4B-B17C-8F8DB22E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156-8165-456F-9C2A-F595EA1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3036-7678-4147-9FB7-2A357D0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00D8-06E7-40E9-9582-CCB36CE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8F71-0448-4C50-A0E4-20C22873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7D7E-B427-401A-8B1C-9E2ED48E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3FB0-72A9-47EE-B703-2E21862A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2EF3-5065-43F5-9DC1-6AE9E119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86FE-C346-4CAA-A569-AD0F66A6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83A6-98B5-438D-96E9-2ED2CBF8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D092-5FE1-4045-BE30-25B918B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1821-B1B7-403B-8B29-0FC1B8B8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00B-1205-4638-897F-17A5577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17EE-647D-4094-A5C1-B1A775A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A489-B1F7-4DE6-BBC9-AC9D2DB4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6DF4-8F84-4C3F-B687-DD9D453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BCC6-ACF6-4DB1-9CBB-9CBE28D7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4854-C237-4398-819F-208C7C2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B79D-18B2-48AB-A626-2D85967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4DB8-0F4B-42C3-AC36-873D760D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76D9-FCB2-4401-BFFE-C859A31E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E134-2725-4ADC-B27B-3BDE12A3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C9818-25AB-4F39-B255-B3BC532F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AF3-4639-4AD1-BA5B-9905B358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EE1D8-A5A0-4FAE-865B-9C2933C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4CF1-4E73-4CEE-8C06-49C0A80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5E2B-9E13-45F6-80DB-3D1CD550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C356-1A52-49F2-A556-6733C743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0CF1F-6170-49AB-9D3A-C73EF89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6743-0C4D-4412-8296-C0982DE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EE97-7C8F-4B86-B070-D8BD4F4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B4FC-30D8-43BF-AB3D-8228AAC4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4F55-AF9F-4196-A852-0CEE83E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20FA-07C2-408A-8585-9AB19BBA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A63-0E2D-496C-9082-359F08CB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8F62-874B-4307-BA9D-503F8FA2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2DAA-2F13-44B7-8B09-4A18FC28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BEB42-B6DA-4729-8584-1A3201B7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4759F-13AF-4C94-A630-9B7E1000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A0E4-E72C-4797-863E-F5AE3CE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6C1A-EBA9-4B22-9E52-9FCFB813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DF7A-E289-4EA8-9152-6960329F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4A79-9CE9-4D7F-A637-4B8D98D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E037-7D95-45DF-9B1C-52E9893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1E2E7-94CE-49F8-BD8F-D576FE3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A35-7ADB-4921-B1EB-D57D869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6C47-D1F4-48DB-903B-1B73ECC1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9070E-6CF3-4D62-AF3C-F906A85C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26806-6C60-4289-BB02-EBC2F122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103A-84F9-46B2-AFB2-194DBC5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F8021-8F97-4AF0-BEF6-0A13BFF9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955A3-AAFE-47D0-844A-440EA088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E9ABB-2F99-4E95-83BA-975D68E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50645-49E1-42B0-9B7F-593F242B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B281-EF23-4B5F-9899-2997DF00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48873-7750-476D-93FA-40EC0D9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998-B0E3-4157-B5A4-D1928C0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92C61-DA82-4616-8535-6FFA798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3233-6341-44E1-9BCF-079A65E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51E45-0756-472F-B659-C96F393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E77D3-80B7-4207-BCFF-FC520E03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9360-11FC-4F83-9629-310E270D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17D-F9B6-49CC-8FDD-1A79AD2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8FDD-A85A-4EBA-BC64-C176100E05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068-F9A6-404C-B69C-9EF2CBBA40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358-56DF-4E0B-9DA5-E8083A9998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1CD-EF8D-4D81-9833-5D449A5152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1CD-6A70-4480-8737-D6DEE02BE8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8264-AE1A-4E1F-8691-EF3C3C3828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41A-44B8-4640-9DC7-5B20EFFF83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Наша Родина-Росс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https://million-wallpapers.ru/wallpapers/1/59/471744897736455.jpg"/>
          <p:cNvPicPr/>
          <p:nvPr/>
        </p:nvPicPr>
        <p:blipFill>
          <a:blip r:embed="rId1"/>
          <a:stretch/>
        </p:blipFill>
        <p:spPr>
          <a:xfrm>
            <a:off x="1571760" y="2214720"/>
            <a:ext cx="70009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214280" y="1785960"/>
          <a:ext cx="7929720" cy="4876920"/>
        </p:xfrm>
        <a:graphic>
          <a:graphicData uri="http://schemas.openxmlformats.org/drawingml/2006/table">
            <a:tbl>
              <a:tblPr/>
              <a:tblGrid>
                <a:gridCol w="2643480"/>
                <a:gridCol w="2643120"/>
                <a:gridCol w="26431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а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Определ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Предмет исследо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Археолог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аука, изучающая, прошлое по памятникам материальной культуры(наука, изучающая прошлое по вещественным источника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Орудия труда, утвари, оружия, жилища, поселения, места погребе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Лингвис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аука, изучающая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Язык( говоря, диалектик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Фольклорис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аука, изучающая народное творч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Былины, сказки, пословицы, песни, танцы. Владимир Красное Солнышк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Rectangle 1"/>
          <p:cNvSpPr/>
          <p:nvPr/>
        </p:nvSpPr>
        <p:spPr>
          <a:xfrm>
            <a:off x="1500120" y="12178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«Вспомогательные </a:t>
            </a: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Calibri"/>
              </a:rPr>
              <a:t>исторические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 нау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121428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4.Основные источники знаний по истории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1000080" y="6192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Calibri"/>
              </a:rPr>
              <a:t>-</a:t>
            </a:r>
            <a:r>
              <a:rPr b="0" i="1" lang="ru-RU" sz="3600" spc="-1" strike="noStrike">
                <a:solidFill>
                  <a:srgbClr val="000000"/>
                </a:solidFill>
                <a:latin typeface="Corbel"/>
                <a:ea typeface="Calibri"/>
              </a:rPr>
              <a:t>Что такое история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rbel"/>
                <a:ea typeface="Calibri"/>
              </a:rPr>
              <a:t>-Назовите основные периоды истории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rbel"/>
                <a:ea typeface="Calibri"/>
              </a:rPr>
              <a:t>-Какие виды исторических источников мы знаем в истории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rbel"/>
                <a:ea typeface="Calibri"/>
              </a:rPr>
              <a:t>- Какие существуют вспомогательные исторические нау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1476360" y="404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вто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000080" y="928080"/>
            <a:ext cx="81439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  <a:ea typeface="Calibri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-познакомить с основным содержанием курса, его целями  и задачами, объяснить его специфику и особ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-познакомить со справочным и методическим аппаратом учебника,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-вызвать интерес к новому учебному предмету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5-конечная звезда 1"/>
          <p:cNvSpPr/>
          <p:nvPr/>
        </p:nvSpPr>
        <p:spPr>
          <a:xfrm>
            <a:off x="919080" y="2328840"/>
            <a:ext cx="360360" cy="360360"/>
          </a:xfrm>
          <a:custGeom>
            <a:avLst/>
            <a:gdLst/>
            <a:ahLst/>
            <a:rect l="l" t="t" r="r" b="b"/>
            <a:pathLst>
              <a:path w="360040" h="360040">
                <a:moveTo>
                  <a:pt x="0" y="137523"/>
                </a:moveTo>
                <a:lnTo>
                  <a:pt x="137524" y="137524"/>
                </a:lnTo>
                <a:lnTo>
                  <a:pt x="180020" y="0"/>
                </a:lnTo>
                <a:lnTo>
                  <a:pt x="222516" y="137524"/>
                </a:lnTo>
                <a:lnTo>
                  <a:pt x="360040" y="137523"/>
                </a:lnTo>
                <a:lnTo>
                  <a:pt x="248780" y="222516"/>
                </a:lnTo>
                <a:lnTo>
                  <a:pt x="291278" y="360039"/>
                </a:lnTo>
                <a:lnTo>
                  <a:pt x="180020" y="275044"/>
                </a:lnTo>
                <a:lnTo>
                  <a:pt x="68762" y="360039"/>
                </a:lnTo>
                <a:lnTo>
                  <a:pt x="111260" y="222516"/>
                </a:lnTo>
                <a:lnTo>
                  <a:pt x="0" y="137523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846000" y="3584520"/>
            <a:ext cx="433440" cy="439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782640" y="4408560"/>
            <a:ext cx="4334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8592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rbe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1214280" y="1928880"/>
            <a:ext cx="771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Прочитать стр. 6-8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выучить записи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1000080" y="1019520"/>
            <a:ext cx="814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  <a:ea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-познакомить с основным содержанием курса, его целями  и задачами, объяснить его специфику и особ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-познакомить со справочным и методическим аппаратом учеб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-вызвать интерес к новому учебному предмету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000080" y="1159920"/>
            <a:ext cx="814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1.Как работать с учебни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2.Что такое «История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3.Периодизация истории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4.Основные источники знаний по истории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988920" y="981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rbel"/>
                <a:ea typeface="Calibri"/>
              </a:rPr>
              <a:t>Всеобщая история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1810800" y="214200"/>
            <a:ext cx="66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2.Что такое «История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988920" y="33026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rbel"/>
                <a:ea typeface="Calibri"/>
              </a:rPr>
              <a:t>История Древнего мир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1116000" y="177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развитие человеческих обществ от возникновения до наших д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988920" y="4029120"/>
            <a:ext cx="775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этап всеобщей истории, развитие человеческих обществ от возникновения до Великого переселения нар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1810800" y="214200"/>
            <a:ext cx="66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2.Что такое «История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990720" y="75456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rbel"/>
                <a:ea typeface="Calibri"/>
              </a:rPr>
              <a:t>История Средних веко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000080" y="35344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rbel"/>
                <a:ea typeface="Calibri"/>
              </a:rPr>
              <a:t>История России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–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"/>
          <p:cNvSpPr/>
          <p:nvPr/>
        </p:nvSpPr>
        <p:spPr>
          <a:xfrm>
            <a:off x="1187280" y="1557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ой этап всеобщей истории, развитие человеческих обществ от Великого переселения народов до Великих географических от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1014480" y="4365720"/>
            <a:ext cx="751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всеобщей истории, история нашей Род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928800" y="987840"/>
            <a:ext cx="82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Периоды истории Ро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1)Восточный славяне 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 в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2)Древнерусское государство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XI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 в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3)Политическая раздробленность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XI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 в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4)Становление единого государства Московская Русь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Calibri"/>
              </a:rPr>
              <a:t>XV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 в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31240" y="214200"/>
            <a:ext cx="72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3.Периодизация истории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1022400" y="1500120"/>
            <a:ext cx="84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Виды исторических источнико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121428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4.Основные источники знаний по истории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50840" y="2122560"/>
          <a:ext cx="7715160" cy="2855880"/>
        </p:xfrm>
        <a:graphic>
          <a:graphicData uri="http://schemas.openxmlformats.org/drawingml/2006/table">
            <a:tbl>
              <a:tblPr/>
              <a:tblGrid>
                <a:gridCol w="2857680"/>
                <a:gridCol w="4857480"/>
              </a:tblGrid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Ви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Пример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1022400" y="1500120"/>
            <a:ext cx="84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Виды исторических источнико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121428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4.Основные источники знаний по истории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43000" y="2214720"/>
          <a:ext cx="7715160" cy="4389120"/>
        </p:xfrm>
        <a:graphic>
          <a:graphicData uri="http://schemas.openxmlformats.org/drawingml/2006/table">
            <a:tbl>
              <a:tblPr/>
              <a:tblGrid>
                <a:gridCol w="2857680"/>
                <a:gridCol w="485748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Ви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Пример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Письмен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рисунки, картины, книги, рукописи, устные предания,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 летопис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Веществен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Фрагменты жилищ, кусочки одежды, украшения, монеты, предметы повседневного бы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971640" y="1989000"/>
          <a:ext cx="7929360" cy="388800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86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а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Определ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Предмет исследо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Rectangle 1"/>
          <p:cNvSpPr/>
          <p:nvPr/>
        </p:nvSpPr>
        <p:spPr>
          <a:xfrm>
            <a:off x="1500120" y="12178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«Вспомогательные </a:t>
            </a: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Calibri"/>
              </a:rPr>
              <a:t>исторические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 нау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121428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  <a:ea typeface="Calibri"/>
              </a:rPr>
              <a:t>4.Основные источники знаний по истории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5T16:56:20Z</dcterms:created>
  <dc:creator>Admin</dc:creator>
  <dc:description/>
  <dc:language>en-US</dc:language>
  <cp:lastModifiedBy>Пользователь Windows</cp:lastModifiedBy>
  <dcterms:modified xsi:type="dcterms:W3CDTF">2019-12-18T10:32:21Z</dcterms:modified>
  <cp:revision>6</cp:revision>
  <dc:subject/>
  <dc:title>Наша Родина Россия</dc:title>
</cp:coreProperties>
</file>