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056-BEC3-4F7C-A423-719365B7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226-6EB7-46D9-B66C-4025FEE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3DE-3A8A-4915-AF14-58E31F5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698-77BE-4B01-9182-A80808F6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9077-38CC-4F43-9F0E-B039FDC0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2465-A5A3-4A85-93C1-6779C8D7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E475-E028-476B-91CE-2E62939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4C75-C37E-486E-AE66-39A65F8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830-BBD8-474A-8B77-CF4187C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B7E-6D0F-48C9-8DD3-D70AF06F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087-D8EA-442B-A345-66D700D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644-0CCD-423A-A401-793A422B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DDF-BCF1-461F-A487-6D83CFF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A49-80BC-4BAE-9B0D-241B66F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79D8-40A0-4884-B7AB-063F2934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7ADC-E111-49CA-9443-9A6F031C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4627-27B5-41F0-8EAE-30EDC75B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CAB9-24CE-420A-B5C8-67FFF651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F29A-DEDD-41A2-BDB7-69FDC2E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4419-59EA-4A44-A581-5BE1D21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1479-36A5-4607-BF39-B974FD1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8F2C-EAAA-4C65-B984-4AEFF94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11F-97CA-4E4D-B1DB-C002B9D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519C-D504-49FA-B7A1-311302ED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1B79-879A-4331-A8B6-1C5AA82C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1A39-566C-40B6-8B47-10EC915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AFB5-A66F-40F3-8882-0FA77A9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3567-F6F8-41AE-A54E-E541EA36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33B9-C6E1-4668-BE63-020BB924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F989-0D97-440C-9FDF-F8EC61C8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9C01-4C7B-4DAB-B51C-A79B9E24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1FC9-8BAD-4048-ADDB-8AC0831F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0CC1-48E1-49DC-96C0-349D96AE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15A-5BDC-4E41-8A6E-3654C50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21FB-D8E7-41FA-A9CC-799D102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01F7-3B8A-4221-B36E-2553C5B6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7293-966D-4679-A538-5343B47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B6A5-63A4-4712-92BB-1FAAEA6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8D0E-46D2-4914-A0EC-2015DD8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4FE6-CE54-4BE5-81A9-5DB4AFE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BA66-FB6B-4E98-8D94-0D8FA52C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6680-F7D3-4E76-BF46-FBE806F8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56E8-72AC-4773-8A32-B59EE113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5F28-AAB7-4637-8D08-8C1E3659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DEE-89F4-4325-BB97-7A6A5DE6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159B-3EF2-4C75-835A-B772DA6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B666-27A1-495E-9149-DCFEACF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1C08-1CE3-4846-96F4-02DE16FA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342E1-351A-45FE-99FE-889FF8F4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8270-648E-46F4-9ED4-6F7F83F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463F-B035-4DEF-BD71-37155FD3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8804-6891-4D3E-982D-2F4DBED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CEC6-6ACA-42A2-B8F6-5CF8067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C91F-1825-4E5A-B403-FB0D9DD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8B8E-BB30-4AA8-AE41-868B2730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EA1-D435-4855-B4F5-1DDA9C1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EEAF-0287-4800-A189-4A66734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E3D-EF04-49B9-9F55-0C06AB1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CD3-527D-4B14-9BC4-98131E5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300-33EB-416A-BCA3-5243196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BF2-8A3A-4732-831A-F8D993B89B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44AB-642A-4181-B1FD-A49FA863A3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153-5F29-4869-98A4-7F3618454E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E3E-56BD-46AE-9774-CC0AE9FF39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F90-26BD-44FE-A3D8-756F381526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еолитическая революция. Первые скотоводы, земледельцы, ремесленник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46656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85840" y="1000080"/>
            <a:ext cx="82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одовой общиной управляли старейшины и вож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Старейшина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руководители совместными работами, контролировали обмен с другими племенами, следили за порядками, исполняли религиозные обря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Вождь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военные походы, защ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57120" y="121428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Старейшина и в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ыбирались общин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льзовались всеобщим ува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правляли родом и племе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Были богатыми людьми и передавали это богатство по наслед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ладели рабами (эксплуат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44928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-188280" y="4929120"/>
            <a:ext cx="9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Эксплуатация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– это присвоение результатов чужого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4928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214200" y="121428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оюзы племен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объединение племен, проживающих на определённой территории, которую считали с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о главе союзов племен стояли правители – управление и защита свое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ни устанавливали общие и обязательные для всех правила –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ко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44928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214200" y="17146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се эти изменения приводили к постоянному распаду первобытно-общинного строя и построению новой формы организации жизни люд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44928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214200" y="135720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 смену первобытному обществу приходит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14200" y="285768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оисходило становление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народа (народности) или этноса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 Каждый народ говорил на своем языке, проживал на собственной территории, был связан общей хозяйственной и культурной жизн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571680" y="428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285840" y="17859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араграф 1 (стр. 15-18), конспект, термины, записи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285840" y="1143000"/>
            <a:ext cx="85723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формировать представление о зарождении земледелия и скотоводства на территории нашего края в древности. Определить причины начале распада первобытного общества и появления первых городов. Осознать изменения, произошедшие в жизни первобытных людей во время перехода к производящему хозяй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357120" y="945360"/>
            <a:ext cx="878688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рождение земледелия, скотоводства и ремесла. Неолитическ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Начало распада первобытного об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85840" y="3571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.Зарождение земледелия, скотоводства и ремесла. Неолитическ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214200" y="17146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Зарождение земледелия, скотоводства, ремесла 5-6 тыс. лет наз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85840" y="1859040"/>
            <a:ext cx="8643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Земледелие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(Собирательство)  – обработка земли с целью выращивания сельскохозяйственных растений (мотыжное и плужн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Скотоводство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(Охота)– разведение одомашненного с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85840" y="3571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.Зарождение земледелия, скотоводства и ремесла. Неолитическ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285840" y="16430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исваивающие хозяйст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– древние люди ничего не выращивали, а добывали и присваивали то, что было создано прир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оизводящее хозяйств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– человек сам производит продукты питания и сырье для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еход от присваивающего хозяйства к производящему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неолитической революци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285840" y="3571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.Зарождение земледелия, скотоводства и ремесла. Неолитическая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4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645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14200" y="42876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месленник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это люди производили изделия для всего племени и часто не  занимались земледельческим тру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285840" y="20001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Гончары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- изготовители посуды на гончарном к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14200" y="32148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Кузнецы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 обрабатывали железа и изготавливали из него разные предм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214200" y="45007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кач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делали ткани (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449280" y="21420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 Начало распада первобытного обществ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28584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одовая общин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сообщество кровных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285840" y="2286000"/>
            <a:ext cx="87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оседская (территориальная) общин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— совместное проживание различных родов на определенной территории. Каждая семья ведет своё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Ð¡Ð¾ÑÐµÐ´ÑÐºÐ°Ñ (ÑÐµÑÑÐ¸ÑÐ¾ÑÐ¸Ð°Ð»ÑÐ½Ð°Ñ) Ð¾Ð±ÑÐ¸Ð½Ð° â ÐºÐ°Ð¶Ð´Ð°Ñ ÑÐµÐ¼ÑÑ Ð²ÐµÐ´ÐµÑ ÑÐ²Ð¾Ñ ÑÐ¾Ð·ÑÐ¹ÑÑÐ²Ð¾. ÐÐ¾Ð¶Ð´ÐµÑÑÐ²Ð¾ â Ð¾Ð±ÑÐµÐ´Ð¸Ð½ÐµÐ½Ð¸Ðµ Ð½ÐµÑÐºÐ¾Ð»ÑÐºÐ¸Ñ Ð¾Ð±ÑÐ¸Ð½ Ð¿Ð¾Ð´ Ð²Ð»Ð°ÑÑÑÑ Ð²Ð¾Ð¶Ð´Ñ. "/>
          <p:cNvPicPr/>
          <p:nvPr/>
        </p:nvPicPr>
        <p:blipFill>
          <a:blip r:embed="rId1"/>
          <a:srcRect l="4689" t="4685" r="17971" b="46882"/>
          <a:stretch/>
        </p:blipFill>
        <p:spPr>
          <a:xfrm>
            <a:off x="3286080" y="3857760"/>
            <a:ext cx="5627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09:57:02Z</dcterms:created>
  <dc:creator>Admin</dc:creator>
  <dc:description/>
  <dc:language>en-US</dc:language>
  <cp:lastModifiedBy>Admin</cp:lastModifiedBy>
  <dcterms:modified xsi:type="dcterms:W3CDTF">2019-12-24T15:51:24Z</dcterms:modified>
  <cp:revision>3</cp:revision>
  <dc:subject/>
  <dc:title>Неолитическая революция. Первые сктоводы, земледельцы, ремесленники</dc:title>
</cp:coreProperties>
</file>