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.jpeg" ContentType="image/jpeg"/>
  <Override PartName="/ppt/media/image2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A816-D896-4424-9C43-3281900A0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5669-C468-45CC-86D5-5E87867D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AED9-AF42-469E-B95A-EA77F42C2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41E1-F4CF-4725-A1CE-2B7406778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9BDC-BB44-4F4D-ABBE-8C09B3131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9CB7-07A2-418C-9A6B-B38C73C1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91E3-8119-4354-92D4-355D7649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03B0-B864-44A4-87F7-379F5F33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CC7E-9AB3-4CD2-906E-05053D74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40B0-EBBE-4236-BA95-233A1068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1925-41EF-48DE-BB4B-232A9140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02D2-1410-430D-A037-FB69933C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8991-094B-4519-84DE-2958BC8A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6C499-6CF8-488A-82C9-8253C72C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B514-B4D3-4B8B-BDF2-9C61E399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078A-9F13-48E9-8866-C24EFA43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FB43-585D-406F-A08F-E20341F0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7A2659-F560-4E3F-9717-82C1E12C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24604D-0BC4-48B1-8D76-A6D0743B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83FF22-52F7-46A9-A485-17284D54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9972B7-DC72-45BC-9571-810076D5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0F54B7-6A16-4FB4-ABE1-CA131584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9D12-6DC2-4FE7-A1DD-66BA6166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5EF765-8ADF-424F-8B7E-B8DCD4DF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33F0CD-8223-4F2C-81FF-CD699736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D6AA92-D10B-4B36-B08C-D26ECF73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88DF84-9416-494F-862D-EA6BDA44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725F7D-A59A-4BE2-B64B-BA2AB338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F5E551-88E3-418E-80BF-A4086F356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F8D40C-79FD-4A16-B79B-6D322BD0D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93391-F320-4877-B955-7289633E7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F4DAC-3916-4E64-B286-F36E3268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8CD76-C6CA-4AD7-94C5-23EC8AAE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B8D3-ADC1-421F-9FBC-AFAE11E2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9E435-E7E0-4C90-9786-C6A93630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6A60E-A61A-42B8-8E15-BEA39FA4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8BA5C-FEE2-4CAE-B58A-54C81B94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26CC4-2D6F-4456-BE0E-937D2D21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3215F-9762-4502-A205-1EF69C31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4FBAC-3EA1-4681-8816-98B586F4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57BF3-BDD6-4311-9339-4C136FDC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0BAF5-E12E-4B29-8703-F7B34A4DC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3E57B-FA3A-4ED5-90AD-BE1B8B913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4982AF-72A3-4C84-B6D6-312598BA9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1466-21B8-48E9-B697-7F28E76B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62BAEE-D9FD-43D7-AEFB-37A4DEEC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274847-E3D5-46E9-BADB-2D9616A2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0F2906-F90D-4816-9F75-7D902013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F06B46-3AAF-4C62-90CF-9435A637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61BB6F-D3EA-4321-A1E7-1E264F20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FA4AE9-80EC-4269-A20F-F04B0132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DBBD13-1EB7-44C3-B8C4-CDBDA30E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709783-7AB3-495D-9BBC-B293E231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03BF68-D9A8-40F9-B35A-1A867FBF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4DDA3E-D2E6-441E-AF6B-6314CB0B2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B340-EEBB-4609-8F4D-3CB952E2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B48D40-D008-449F-9860-62747D3D6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0E9D5F-F254-4E3E-965D-36AC8F7A9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F9A18F-DFDF-4162-B1B8-4EAE014F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7B2A76-3AFE-40B9-9157-287718DD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02A22D-F9AD-478E-9332-E0048FDE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6E24C6-08CF-4F9F-AC37-AA8DD5CA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553E3B-94CB-409C-B336-9BFB87BF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911909-2895-4CB1-B3EA-727C3F28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968673-BBE3-4FF7-BBF5-8D74D1BF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96625C-4D39-4239-BE82-0D78807B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ECF2-85C3-4C82-96C8-BD80C3A5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D5DBFA-D5CA-4017-AA83-69384A7B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C94A87-D2E4-4C68-97A1-6FEDF2A45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10E26B-EA77-4904-8FCF-68B0996E6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C29E56-64D1-4EAA-879C-C55894EFC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AC78EB-8872-47D3-B571-286F3BD4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D04485-65C2-4A68-B203-D527838F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C0D3C1-081D-4C16-829D-53DF5BEF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28C337-F7F9-4770-911D-ADAF3726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9F44EA-CFB0-4BA7-9A9B-0B35D852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31AE5E-6C1F-4EDE-ACE6-220DD580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1907-F7F0-4B31-A385-F927BC21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CD760D-4FBE-404F-A867-A2BC06F9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7F8205-F285-4399-BCB8-C8F3959F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80A8A2-701B-41DD-923D-B691D92E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190E1D-7D9E-42A9-A63E-A4DA19CCC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38907A-119B-4F69-BF1E-FB51122D5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4580-15A0-423D-9B37-6ADDE7F7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c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42852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cc0e7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428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4285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c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69B5-7A34-418A-8031-CF30A3E6C10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caa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8cb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8cb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4e7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caa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4e7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caa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caa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42852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cc0e7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428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4285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5A68-9DEA-4C81-BE40-F26C6393051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c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c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42852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cc0e7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428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4285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041E-8289-4B5C-90BB-F28C97F6135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caa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8cb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8cb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4e7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caa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4e7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caa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caa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ccbf9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cc0e7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cbf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cb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807E-2681-4D69-8D67-E9053D460D6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c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c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42852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cc0e7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428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4285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38D0-EDD7-45FF-A21F-34DF454783F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c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c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42852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cc0e7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428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4285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B8FB-2855-4981-AB12-24CAB424F1F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c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42852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cc0e7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428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4285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B7DE-6B36-42E7-A2DC-8BBBFD17F78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501040" cy="1428840"/>
          </a:xfrm>
          <a:prstGeom prst="rect">
            <a:avLst/>
          </a:prstGeom>
          <a:solidFill>
            <a:srgbClr val="c00000"/>
          </a:solidFill>
          <a:ln w="25560">
            <a:solidFill>
              <a:srgbClr val="8c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 Black"/>
              </a:rPr>
              <a:t>ФИЛОСОФСКИЙ ТУРНИР</a:t>
            </a: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pic>
        <p:nvPicPr>
          <p:cNvPr id="352" name="Picture 2" descr="http://live-and-learn.ru/upload/iblock/502/tochka.gif"/>
          <p:cNvPicPr/>
          <p:nvPr/>
        </p:nvPicPr>
        <p:blipFill>
          <a:blip r:embed="rId1"/>
          <a:srcRect l="0" t="0" r="0" b="21048"/>
          <a:stretch/>
        </p:blipFill>
        <p:spPr>
          <a:xfrm>
            <a:off x="6572160" y="1071720"/>
            <a:ext cx="2322720" cy="23572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http://mudriyfilosof.ru.xsph.ru/wp-content/uploads/2014/04/%D0%A1%D1%82%D0%B0%D0%BD%D0%BE%D0%B2%D0%BB%D0%B5%D0%BD%D0%B8%D0%B5-%D0%B8%D1%81%D1%82%D0%BE%D1%80%D0%B8%D0%B8-%D1%84%D0%B8%D0%BB%D0%BE%D1%81%D0%BE%D1%84%D0%B8%D0%B8.jpg"/>
          <p:cNvPicPr/>
          <p:nvPr/>
        </p:nvPicPr>
        <p:blipFill>
          <a:blip r:embed="rId2"/>
          <a:stretch/>
        </p:blipFill>
        <p:spPr>
          <a:xfrm>
            <a:off x="3071880" y="4000680"/>
            <a:ext cx="4711680" cy="2644560"/>
          </a:xfrm>
          <a:prstGeom prst="rect">
            <a:avLst/>
          </a:prstGeom>
          <a:ln w="0">
            <a:noFill/>
          </a:ln>
        </p:spPr>
      </p:pic>
      <p:sp>
        <p:nvSpPr>
          <p:cNvPr id="354" name="Прямоугольник 5"/>
          <p:cNvSpPr/>
          <p:nvPr/>
        </p:nvSpPr>
        <p:spPr>
          <a:xfrm>
            <a:off x="1071720" y="178596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  <a:ea typeface="Verdana"/>
              </a:rPr>
              <a:t>«Идеи мыслителей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  <a:ea typeface="Verdana"/>
              </a:rPr>
              <a:t>и когда они правы, и когда они ошибаются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  <a:ea typeface="Verdana"/>
              </a:rPr>
              <a:t>имеют гораздо большее значение, чем принято думать.    В  действительности только они и правят миром»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Verdana"/>
                <a:ea typeface="Verdana"/>
              </a:rPr>
              <a:t>                                     Дж.М.Кейн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99680" y="642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. Как относился материалист  К.Маркс к диалектике  идеалиста Г.Гегел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2" descr="http://demo.ge/images/big_1057785.jpg"/>
          <p:cNvPicPr/>
          <p:nvPr/>
        </p:nvPicPr>
        <p:blipFill>
          <a:blip r:embed="rId1"/>
          <a:stretch/>
        </p:blipFill>
        <p:spPr>
          <a:xfrm>
            <a:off x="4071960" y="2714760"/>
            <a:ext cx="4786200" cy="35985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http://lib4all.ru/base/B2089/img/B2089p282-1.jpg"/>
          <p:cNvPicPr/>
          <p:nvPr/>
        </p:nvPicPr>
        <p:blipFill>
          <a:blip r:embed="rId2"/>
          <a:stretch/>
        </p:blipFill>
        <p:spPr>
          <a:xfrm>
            <a:off x="428760" y="2714760"/>
            <a:ext cx="35719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74674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42852"/>
                </a:solidFill>
                <a:latin typeface="Arial"/>
              </a:rPr>
              <a:t>III</a:t>
            </a:r>
            <a:r>
              <a:rPr b="1" lang="ru-RU" sz="2700" spc="-1" strike="noStrike">
                <a:solidFill>
                  <a:srgbClr val="242852"/>
                </a:solidFill>
                <a:latin typeface="Arial"/>
              </a:rPr>
              <a:t> АГОН     УЗНАЙТЕ ФИЛОСОФОВ ПО ОПИСАНИЮ (МАКСИМАЛЬНОЕ КОЛИЧЕСТВО – 4 БАЛЛА) </a:t>
            </a:r>
            <a:br>
              <a:rPr sz="2700"/>
            </a:br>
            <a:endParaRPr b="0" lang="en-US" sz="27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99680" y="1357200"/>
            <a:ext cx="74674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180000" indent="-18000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а) Он вёл размеренный образ жизни, вставал и ложился спать в одно и тоже время, ежедневно в любую погоду совершал прогулку по аллее  любимого города, из которого  он почти не выезжал (сегодня эта аллея  носит его имя). Жители города по нему сверяли свои часы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0000" indent="-18000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0000" indent="-18000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80000" indent="-18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80000" indent="-18000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3"/>
          <p:cNvSpPr/>
          <p:nvPr/>
        </p:nvSpPr>
        <p:spPr>
          <a:xfrm>
            <a:off x="785880" y="500076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он поставил 3 главных вопрос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я могу зн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что я могу надея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я должен дел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6"/>
          <p:cNvSpPr/>
          <p:nvPr/>
        </p:nvSpPr>
        <p:spPr>
          <a:xfrm>
            <a:off x="714240" y="3929040"/>
            <a:ext cx="62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 он выдвинул положение об априорных (доопытных) знаниях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7"/>
          <p:cNvSpPr/>
          <p:nvPr/>
        </p:nvSpPr>
        <p:spPr>
          <a:xfrm>
            <a:off x="714240" y="2857680"/>
            <a:ext cx="692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родоначальник немецкой классической философии  жил в Кенигсбер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42852"/>
                </a:solidFill>
                <a:latin typeface="Arial"/>
              </a:rPr>
              <a:t>ИММАНУИЛ  КАНТ   </a:t>
            </a:r>
            <a:r>
              <a:rPr b="0" lang="ru-RU" sz="3000" spc="-1" strike="noStrike">
                <a:solidFill>
                  <a:srgbClr val="242852"/>
                </a:solidFill>
                <a:latin typeface="Arial"/>
              </a:rPr>
              <a:t>  (1724-1804)</a:t>
            </a: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pic>
        <p:nvPicPr>
          <p:cNvPr id="407" name="Picture 2" descr="Иммануил Кант"/>
          <p:cNvPicPr/>
          <p:nvPr/>
        </p:nvPicPr>
        <p:blipFill>
          <a:blip r:embed="rId1"/>
          <a:stretch/>
        </p:blipFill>
        <p:spPr>
          <a:xfrm>
            <a:off x="1214280" y="1785960"/>
            <a:ext cx="31942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714240" y="714240"/>
            <a:ext cx="7467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а)  человеческий ум атакуют «Призраки рода, пещеры, рынка и театра», создавая препятствия для истинных выв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3"/>
          <p:cNvSpPr/>
          <p:nvPr/>
        </p:nvSpPr>
        <p:spPr>
          <a:xfrm>
            <a:off x="642960" y="435780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если в его фамилии поставить ударение на второй слог, получится  особый мясной продук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4"/>
          <p:cNvSpPr/>
          <p:nvPr/>
        </p:nvSpPr>
        <p:spPr>
          <a:xfrm>
            <a:off x="714240" y="335772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автор изречения «Знание-сила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5"/>
          <p:cNvSpPr/>
          <p:nvPr/>
        </p:nvSpPr>
        <p:spPr>
          <a:xfrm>
            <a:off x="785880" y="228600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английский философ 18 века, родоначальник эмпир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42852"/>
                </a:solidFill>
                <a:latin typeface="Arial"/>
              </a:rPr>
              <a:t>Ф.БЭКОН    1561-1626</a:t>
            </a: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pic>
        <p:nvPicPr>
          <p:cNvPr id="413" name="Picture 4" descr="Фрэнсис Бэкон. Цитаты"/>
          <p:cNvPicPr/>
          <p:nvPr/>
        </p:nvPicPr>
        <p:blipFill>
          <a:blip r:embed="rId1"/>
          <a:stretch/>
        </p:blipFill>
        <p:spPr>
          <a:xfrm>
            <a:off x="2357280" y="1500120"/>
            <a:ext cx="38754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28400" y="285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а) его  настоящее имя Аристокл; известен миру по имени-прозвищу, данному  учите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3"/>
          <p:cNvSpPr/>
          <p:nvPr/>
        </p:nvSpPr>
        <p:spPr>
          <a:xfrm>
            <a:off x="642960" y="457200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чувственные вещи – временны, текуч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йдосы – вечны, неделимы, это суть ве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4"/>
          <p:cNvSpPr/>
          <p:nvPr/>
        </p:nvSpPr>
        <p:spPr>
          <a:xfrm>
            <a:off x="714240" y="3105000"/>
            <a:ext cx="700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он положил начало  объективному идеализ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5"/>
          <p:cNvSpPr/>
          <p:nvPr/>
        </p:nvSpPr>
        <p:spPr>
          <a:xfrm>
            <a:off x="744840" y="1785960"/>
            <a:ext cx="68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он ввел в философию понятие эйд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42852"/>
                </a:solidFill>
                <a:latin typeface="Arial"/>
              </a:rPr>
              <a:t>ПЛАТОН</a:t>
            </a: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pic>
        <p:nvPicPr>
          <p:cNvPr id="419" name="Picture 4" descr="Платон3"/>
          <p:cNvPicPr/>
          <p:nvPr/>
        </p:nvPicPr>
        <p:blipFill>
          <a:blip r:embed="rId1"/>
          <a:stretch/>
        </p:blipFill>
        <p:spPr>
          <a:xfrm>
            <a:off x="2428920" y="1571760"/>
            <a:ext cx="4044960" cy="4500360"/>
          </a:xfrm>
          <a:prstGeom prst="rect">
            <a:avLst/>
          </a:prstGeom>
          <a:ln w="0">
            <a:noFill/>
          </a:ln>
        </p:spPr>
      </p:pic>
      <p:sp>
        <p:nvSpPr>
          <p:cNvPr id="42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6840" y="1600200"/>
            <a:ext cx="746748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создал учебное заведение-пансионат  «Сад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3"/>
          <p:cNvSpPr/>
          <p:nvPr/>
        </p:nvSpPr>
        <p:spPr>
          <a:xfrm>
            <a:off x="642960" y="414324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Богов и смерти бояться не следует. «Пока мы живы, смерти для нас нет; когда она наступит, нас не буде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 4"/>
          <p:cNvSpPr/>
          <p:nvPr/>
        </p:nvSpPr>
        <p:spPr>
          <a:xfrm>
            <a:off x="571680" y="2214720"/>
            <a:ext cx="735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сторонник Демокрита. Полагал, что атомы могут отклоняться от траектории, в том числе атомы души человека. Поэтому человек свобод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оугольник 6"/>
          <p:cNvSpPr/>
          <p:nvPr/>
        </p:nvSpPr>
        <p:spPr>
          <a:xfrm>
            <a:off x="785880" y="285840"/>
            <a:ext cx="75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а) по его имени названо одно из течений античной фило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ПИКУР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(341 - 270 ГГ. ДО Н. Э.)</a:t>
            </a:r>
            <a:endParaRPr b="0" lang="en-US" sz="3200" spc="-1" strike="noStrike">
              <a:solidFill>
                <a:srgbClr val="242852"/>
              </a:solidFill>
              <a:latin typeface="Arial"/>
            </a:endParaRPr>
          </a:p>
        </p:txBody>
      </p:sp>
      <p:graphicFrame>
        <p:nvGraphicFramePr>
          <p:cNvPr id="426" name="Object 4"/>
          <p:cNvGraphicFramePr/>
          <p:nvPr/>
        </p:nvGraphicFramePr>
        <p:xfrm>
          <a:off x="2500200" y="1785960"/>
          <a:ext cx="29592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0200" y="1785960"/>
                    <a:ext cx="29592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28400" y="1785960"/>
            <a:ext cx="74674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 он  - умеренный реалист в вопросе  об универсал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324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3"/>
          <p:cNvSpPr/>
          <p:nvPr/>
        </p:nvSpPr>
        <p:spPr>
          <a:xfrm>
            <a:off x="928800" y="50004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А)  философию рассматривал как логик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мощью которой  можно доказать существование Б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4"/>
          <p:cNvSpPr/>
          <p:nvPr/>
        </p:nvSpPr>
        <p:spPr>
          <a:xfrm>
            <a:off x="785880" y="4286160"/>
            <a:ext cx="66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его имя – в названии  философии современного католицизма (неотомиз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5"/>
          <p:cNvSpPr/>
          <p:nvPr/>
        </p:nvSpPr>
        <p:spPr>
          <a:xfrm>
            <a:off x="714240" y="2928960"/>
            <a:ext cx="700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автор изречения «Философия –служанка богослов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Алгебра логики"/>
          <p:cNvPicPr/>
          <p:nvPr/>
        </p:nvPicPr>
        <p:blipFill>
          <a:blip r:embed="rId1"/>
          <a:stretch/>
        </p:blipFill>
        <p:spPr>
          <a:xfrm>
            <a:off x="142920" y="3429000"/>
            <a:ext cx="2008080" cy="2581200"/>
          </a:xfrm>
          <a:prstGeom prst="rect">
            <a:avLst/>
          </a:prstGeom>
          <a:ln w="0">
            <a:noFill/>
          </a:ln>
        </p:spPr>
      </p:pic>
      <p:sp>
        <p:nvSpPr>
          <p:cNvPr id="356" name="Овал 6"/>
          <p:cNvSpPr/>
          <p:nvPr/>
        </p:nvSpPr>
        <p:spPr>
          <a:xfrm>
            <a:off x="2000160" y="5572080"/>
            <a:ext cx="2271960" cy="9288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8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аг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и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6" descr="Религия и философия"/>
          <p:cNvPicPr/>
          <p:nvPr/>
        </p:nvPicPr>
        <p:blipFill>
          <a:blip r:embed="rId2"/>
          <a:stretch/>
        </p:blipFill>
        <p:spPr>
          <a:xfrm>
            <a:off x="5715000" y="0"/>
            <a:ext cx="2714760" cy="1714680"/>
          </a:xfrm>
          <a:prstGeom prst="rect">
            <a:avLst/>
          </a:prstGeom>
          <a:ln w="0">
            <a:noFill/>
          </a:ln>
        </p:spPr>
      </p:pic>
      <p:sp>
        <p:nvSpPr>
          <p:cNvPr id="358" name="Шестиугольник 9"/>
          <p:cNvSpPr/>
          <p:nvPr/>
        </p:nvSpPr>
        <p:spPr>
          <a:xfrm>
            <a:off x="1000080" y="500040"/>
            <a:ext cx="4000680" cy="914400"/>
          </a:xfrm>
          <a:prstGeom prst="hexagon">
            <a:avLst>
              <a:gd name="adj" fmla="val 24995"/>
              <a:gd name="vf" fmla="val 115470"/>
            </a:avLst>
          </a:prstGeom>
          <a:solidFill>
            <a:srgbClr val="297fd5"/>
          </a:solidFill>
          <a:ln w="25560">
            <a:solidFill>
              <a:srgbClr val="417b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 аг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илософия в лиц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Скругленный прямоугольник 10"/>
          <p:cNvSpPr/>
          <p:nvPr/>
        </p:nvSpPr>
        <p:spPr>
          <a:xfrm>
            <a:off x="3357720" y="2000160"/>
            <a:ext cx="414324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2428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  аг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шаем  проблемы вмес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Скругленный прямоугольник 11"/>
          <p:cNvSpPr/>
          <p:nvPr/>
        </p:nvSpPr>
        <p:spPr>
          <a:xfrm>
            <a:off x="2928960" y="3286080"/>
            <a:ext cx="2714760" cy="1357200"/>
          </a:xfrm>
          <a:prstGeom prst="roundRect">
            <a:avLst>
              <a:gd name="adj" fmla="val 16667"/>
            </a:avLst>
          </a:prstGeom>
          <a:solidFill>
            <a:srgbClr val="abab15"/>
          </a:solidFill>
          <a:ln w="25560">
            <a:solidFill>
              <a:srgbClr val="8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7 аг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Многое сказать коротко и яс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Шестиугольник 12"/>
          <p:cNvSpPr/>
          <p:nvPr/>
        </p:nvSpPr>
        <p:spPr>
          <a:xfrm>
            <a:off x="428760" y="2286000"/>
            <a:ext cx="2428920" cy="91440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417b84"/>
          </a:solidFill>
          <a:ln w="2556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 аг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огически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с двумя скругленными противолежащими углами 14"/>
          <p:cNvSpPr/>
          <p:nvPr/>
        </p:nvSpPr>
        <p:spPr>
          <a:xfrm>
            <a:off x="6500880" y="3643200"/>
            <a:ext cx="2071800" cy="914400"/>
          </a:xfrm>
          <a:prstGeom prst="pie">
            <a:avLst/>
          </a:prstGeom>
          <a:solidFill>
            <a:srgbClr val="002060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 аг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бро и з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3" name="Прямая со стрелкой 19"/>
          <p:cNvCxnSpPr/>
          <p:nvPr/>
        </p:nvCxnSpPr>
        <p:spPr>
          <a:xfrm flipH="1" flipV="1">
            <a:off x="2142360" y="3214440"/>
            <a:ext cx="857880" cy="2286720"/>
          </a:xfrm>
          <a:prstGeom prst="straightConnector1">
            <a:avLst/>
          </a:prstGeom>
          <a:ln w="12600">
            <a:solidFill>
              <a:srgbClr val="cc0000"/>
            </a:solidFill>
            <a:miter/>
            <a:tailEnd len="med" type="arrow" w="med"/>
          </a:ln>
        </p:spPr>
      </p:cxnSp>
      <p:cxnSp>
        <p:nvCxnSpPr>
          <p:cNvPr id="364" name="Прямая со стрелкой 23"/>
          <p:cNvCxnSpPr/>
          <p:nvPr/>
        </p:nvCxnSpPr>
        <p:spPr>
          <a:xfrm flipV="1">
            <a:off x="1571760" y="1499400"/>
            <a:ext cx="1357920" cy="786600"/>
          </a:xfrm>
          <a:prstGeom prst="straightConnector1">
            <a:avLst/>
          </a:prstGeom>
          <a:ln w="12600">
            <a:solidFill>
              <a:srgbClr val="cc0000"/>
            </a:solidFill>
            <a:miter/>
            <a:tailEnd len="med" type="arrow" w="med"/>
          </a:ln>
        </p:spPr>
      </p:cxnSp>
      <p:cxnSp>
        <p:nvCxnSpPr>
          <p:cNvPr id="365" name="Прямая со стрелкой 27"/>
          <p:cNvCxnSpPr/>
          <p:nvPr/>
        </p:nvCxnSpPr>
        <p:spPr>
          <a:xfrm>
            <a:off x="3357360" y="1428480"/>
            <a:ext cx="1143720" cy="500760"/>
          </a:xfrm>
          <a:prstGeom prst="straightConnector1">
            <a:avLst/>
          </a:prstGeom>
          <a:ln w="12600">
            <a:solidFill>
              <a:srgbClr val="cc0000"/>
            </a:solidFill>
            <a:miter/>
            <a:tailEnd len="med" type="arrow" w="med"/>
          </a:ln>
        </p:spPr>
      </p:cxnSp>
      <p:cxnSp>
        <p:nvCxnSpPr>
          <p:cNvPr id="366" name="Прямая со стрелкой 34"/>
          <p:cNvCxnSpPr>
            <a:stCxn id="359" idx="2"/>
            <a:endCxn id="362" idx="4"/>
          </p:cNvCxnSpPr>
          <p:nvPr/>
        </p:nvCxnSpPr>
        <p:spPr>
          <a:xfrm>
            <a:off x="5429160" y="2914560"/>
            <a:ext cx="2108880" cy="729360"/>
          </a:xfrm>
          <a:prstGeom prst="straightConnector1">
            <a:avLst/>
          </a:prstGeom>
          <a:ln w="12600">
            <a:solidFill>
              <a:srgbClr val="cc0000"/>
            </a:solidFill>
            <a:miter/>
            <a:tailEnd len="med" type="arrow" w="med"/>
          </a:ln>
        </p:spPr>
      </p:cxnSp>
      <p:cxnSp>
        <p:nvCxnSpPr>
          <p:cNvPr id="367" name="Прямая со стрелкой 38"/>
          <p:cNvCxnSpPr/>
          <p:nvPr/>
        </p:nvCxnSpPr>
        <p:spPr>
          <a:xfrm flipH="1" flipV="1">
            <a:off x="5142960" y="4642920"/>
            <a:ext cx="1143720" cy="501120"/>
          </a:xfrm>
          <a:prstGeom prst="straightConnector1">
            <a:avLst/>
          </a:prstGeom>
          <a:ln w="12600">
            <a:solidFill>
              <a:srgbClr val="cc0000"/>
            </a:solidFill>
            <a:miter/>
            <a:tailEnd len="med" type="arrow" w="med"/>
          </a:ln>
        </p:spPr>
      </p:cxnSp>
      <p:sp>
        <p:nvSpPr>
          <p:cNvPr id="368" name="Параллелограмм 47"/>
          <p:cNvSpPr/>
          <p:nvPr/>
        </p:nvSpPr>
        <p:spPr>
          <a:xfrm>
            <a:off x="5286240" y="5143680"/>
            <a:ext cx="2500560" cy="1214280"/>
          </a:xfrm>
          <a:prstGeom prst="parallelogram">
            <a:avLst>
              <a:gd name="adj" fmla="val 25007"/>
            </a:avLst>
          </a:prstGeom>
          <a:solidFill>
            <a:srgbClr val="c00000"/>
          </a:solidFill>
          <a:ln w="25560">
            <a:solidFill>
              <a:srgbClr val="8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 аг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нкве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Прямая со стрелкой 49"/>
          <p:cNvCxnSpPr/>
          <p:nvPr/>
        </p:nvCxnSpPr>
        <p:spPr>
          <a:xfrm flipH="1">
            <a:off x="6786000" y="4572000"/>
            <a:ext cx="214920" cy="572400"/>
          </a:xfrm>
          <a:prstGeom prst="straightConnector1">
            <a:avLst/>
          </a:prstGeom>
          <a:ln w="12600">
            <a:solidFill>
              <a:srgbClr val="cc0000"/>
            </a:solidFill>
            <a:miter/>
            <a:tailEnd len="med" type="arrow" w="med"/>
          </a:ln>
        </p:spPr>
      </p:cxn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42852"/>
                </a:solidFill>
                <a:latin typeface="Arial"/>
              </a:rPr>
              <a:t>ФОМА АКВИНСКИЙ</a:t>
            </a:r>
            <a:r>
              <a:rPr b="0" lang="ru-RU" sz="3000" spc="-1" strike="noStrike">
                <a:solidFill>
                  <a:srgbClr val="242852"/>
                </a:solidFill>
                <a:latin typeface="Arial"/>
              </a:rPr>
              <a:t> (1225-1274</a:t>
            </a: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928960" y="1714680"/>
            <a:ext cx="30672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642600" y="2142720"/>
            <a:ext cx="746748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в СССР его  учение признавалось самым верным из всех философски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рямоугольник 3"/>
          <p:cNvSpPr/>
          <p:nvPr/>
        </p:nvSpPr>
        <p:spPr>
          <a:xfrm>
            <a:off x="642960" y="4286160"/>
            <a:ext cx="69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вместе с другом создал диамат и истм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оугольник 4"/>
          <p:cNvSpPr/>
          <p:nvPr/>
        </p:nvSpPr>
        <p:spPr>
          <a:xfrm>
            <a:off x="785880" y="3244680"/>
            <a:ext cx="53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автор работы «Капита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оугольник 6"/>
          <p:cNvSpPr/>
          <p:nvPr/>
        </p:nvSpPr>
        <p:spPr>
          <a:xfrm>
            <a:off x="785880" y="571680"/>
            <a:ext cx="71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 а) Он не только  теоретик. Он крупный общественный деятель 19 века. Основатель 1-ого Интернацио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000" spc="-1" strike="noStrike">
                <a:solidFill>
                  <a:srgbClr val="242852"/>
                </a:solidFill>
                <a:latin typeface="Arial"/>
              </a:rPr>
              <a:t>КА</a:t>
            </a:r>
            <a:r>
              <a:rPr b="1" lang="ru-RU" sz="3000" spc="-1" strike="noStrike">
                <a:solidFill>
                  <a:srgbClr val="242852"/>
                </a:solidFill>
                <a:latin typeface="Arial"/>
              </a:rPr>
              <a:t>РЛ    </a:t>
            </a:r>
            <a:r>
              <a:rPr b="1" lang="vi-VN" sz="3000" spc="-1" strike="noStrike">
                <a:solidFill>
                  <a:srgbClr val="242852"/>
                </a:solidFill>
                <a:latin typeface="Arial"/>
              </a:rPr>
              <a:t>МАРКС</a:t>
            </a:r>
            <a:r>
              <a:rPr b="0" lang="vi-VN" sz="3000" spc="-1" strike="noStrike">
                <a:solidFill>
                  <a:srgbClr val="242852"/>
                </a:solidFill>
                <a:latin typeface="Arial"/>
              </a:rPr>
              <a:t> </a:t>
            </a:r>
            <a:r>
              <a:rPr b="0" lang="ru-RU" sz="3000" spc="-1" strike="noStrike">
                <a:solidFill>
                  <a:srgbClr val="242852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242852"/>
                </a:solidFill>
                <a:latin typeface="Arial"/>
              </a:rPr>
              <a:t>1818—1883)</a:t>
            </a: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pic>
        <p:nvPicPr>
          <p:cNvPr id="439" name="Picture 2" descr="C:\Users\1\Downloads\Karl_Marx.png"/>
          <p:cNvPicPr/>
          <p:nvPr/>
        </p:nvPicPr>
        <p:blipFill>
          <a:blip r:embed="rId1"/>
          <a:stretch/>
        </p:blipFill>
        <p:spPr>
          <a:xfrm>
            <a:off x="1785960" y="1428840"/>
            <a:ext cx="37576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Прямоугольник 1"/>
          <p:cNvSpPr/>
          <p:nvPr/>
        </p:nvSpPr>
        <p:spPr>
          <a:xfrm>
            <a:off x="857160" y="4143240"/>
            <a:ext cx="650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) Ему посвятил стихотворение А.С.Пу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оварищ, верь: взойдет она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везда пленительного счастья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оссия вспрянет ото сна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 на обломках самовластья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пишут наши имен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оугольник 2"/>
          <p:cNvSpPr/>
          <p:nvPr/>
        </p:nvSpPr>
        <p:spPr>
          <a:xfrm>
            <a:off x="642960" y="214308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 Он - автор «Философических писем». После   публикации  «Первого»  был  объявлен царем сумасшедш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оугольник 3"/>
          <p:cNvSpPr/>
          <p:nvPr/>
        </p:nvSpPr>
        <p:spPr>
          <a:xfrm>
            <a:off x="642960" y="357120"/>
            <a:ext cx="7715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А) «Мы не принадлежим ни к Западу, ни к Востоку, — утверждал он. Смысл  России — быть уроком всему человечеств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…мы призваны решить большую часть проблем социального порядка… ответить на важнейшие вопросы, какие занимают человечеств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оугольник 4"/>
          <p:cNvSpPr/>
          <p:nvPr/>
        </p:nvSpPr>
        <p:spPr>
          <a:xfrm>
            <a:off x="857160" y="2967120"/>
            <a:ext cx="742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он оказал сильное влияние на русскую философию. Его сторонники оформились в западников, а его критики — в славянофи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42852"/>
                </a:solidFill>
                <a:latin typeface="Arial"/>
              </a:rPr>
              <a:t>ПЕТР ЯКОВЛЕВИЧ ЧААДАЕВ (1794-1856)</a:t>
            </a: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pic>
        <p:nvPicPr>
          <p:cNvPr id="445" name="Picture 2" descr="http://qasym.kz/wp-content/uploads/2015/11/mediapreview-150x150.jpg"/>
          <p:cNvPicPr/>
          <p:nvPr/>
        </p:nvPicPr>
        <p:blipFill>
          <a:blip r:embed="rId1"/>
          <a:stretch/>
        </p:blipFill>
        <p:spPr>
          <a:xfrm>
            <a:off x="2643120" y="1928880"/>
            <a:ext cx="385776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8672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42852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242852"/>
                </a:solidFill>
                <a:latin typeface="Arial"/>
              </a:rPr>
              <a:t>IV </a:t>
            </a:r>
            <a:r>
              <a:rPr b="0" lang="ru-RU" sz="2700" spc="-1" strike="noStrike">
                <a:solidFill>
                  <a:srgbClr val="242852"/>
                </a:solidFill>
                <a:latin typeface="Arial"/>
              </a:rPr>
              <a:t>АГОН   РАФАЭЛЬ САНТИ    «АФИНСКАЯ ШКОЛА»</a:t>
            </a:r>
            <a:endParaRPr b="0" lang="en-US" sz="2700" spc="-1" strike="noStrike">
              <a:solidFill>
                <a:srgbClr val="242852"/>
              </a:solidFill>
              <a:latin typeface="Arial"/>
            </a:endParaRPr>
          </a:p>
        </p:txBody>
      </p:sp>
      <p:pic>
        <p:nvPicPr>
          <p:cNvPr id="447" name="Picture 2" descr="C:\Users\1\Downloads\112552.b.jpg"/>
          <p:cNvPicPr/>
          <p:nvPr/>
        </p:nvPicPr>
        <p:blipFill>
          <a:blip r:embed="rId1"/>
          <a:stretch/>
        </p:blipFill>
        <p:spPr>
          <a:xfrm>
            <a:off x="571680" y="1000080"/>
            <a:ext cx="79088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242852"/>
                </a:solidFill>
                <a:latin typeface="Arial"/>
              </a:rPr>
              <a:t>IV</a:t>
            </a:r>
            <a:r>
              <a:rPr b="1" lang="ru-RU" sz="3100" spc="-1" strike="noStrike">
                <a:solidFill>
                  <a:srgbClr val="242852"/>
                </a:solidFill>
                <a:latin typeface="Arial"/>
              </a:rPr>
              <a:t> АГОН (А)</a:t>
            </a:r>
            <a:r>
              <a:rPr b="1" lang="en-US" sz="3100" spc="-1" strike="noStrike">
                <a:solidFill>
                  <a:srgbClr val="242852"/>
                </a:solidFill>
                <a:latin typeface="Arial"/>
              </a:rPr>
              <a:t>   </a:t>
            </a:r>
            <a:r>
              <a:rPr b="1" lang="ru-RU" sz="3100" spc="-1" strike="noStrike">
                <a:solidFill>
                  <a:srgbClr val="242852"/>
                </a:solidFill>
                <a:latin typeface="Arial"/>
              </a:rPr>
              <a:t>ПЛАТОН И АРИСТОТЕЛЬ</a:t>
            </a:r>
            <a:br>
              <a:rPr sz="3100"/>
            </a:br>
            <a:endParaRPr b="0" lang="en-US" sz="3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928760" y="1600200"/>
            <a:ext cx="29955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1" descr="C:\Users\1\Downloads\ПЛАТОН.jpg"/>
          <p:cNvPicPr/>
          <p:nvPr/>
        </p:nvPicPr>
        <p:blipFill>
          <a:blip r:embed="rId1"/>
          <a:stretch/>
        </p:blipFill>
        <p:spPr>
          <a:xfrm>
            <a:off x="357120" y="1428840"/>
            <a:ext cx="4286160" cy="508932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1"/>
          <p:cNvSpPr/>
          <p:nvPr/>
        </p:nvSpPr>
        <p:spPr>
          <a:xfrm>
            <a:off x="5143680" y="2507040"/>
            <a:ext cx="3143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444"/>
                </a:solidFill>
                <a:latin typeface="Arial"/>
                <a:ea typeface="Times New Roman"/>
              </a:rPr>
              <a:t>Какой смысл заложен в жестах античных мыслител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5" descr="C:\Users\1\Downloads\020.jpg"/>
          <p:cNvPicPr/>
          <p:nvPr/>
        </p:nvPicPr>
        <p:blipFill>
          <a:blip r:embed="rId1"/>
          <a:stretch/>
        </p:blipFill>
        <p:spPr>
          <a:xfrm>
            <a:off x="214200" y="1071720"/>
            <a:ext cx="5477040" cy="33559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" descr="C:\Users\1\Downloads\паулюс.jpg"/>
          <p:cNvPicPr/>
          <p:nvPr/>
        </p:nvPicPr>
        <p:blipFill>
          <a:blip r:embed="rId2"/>
          <a:srcRect l="8986" t="22562" r="16801" b="0"/>
          <a:stretch/>
        </p:blipFill>
        <p:spPr>
          <a:xfrm>
            <a:off x="5929200" y="1000080"/>
            <a:ext cx="2643480" cy="412272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42852"/>
                </a:solidFill>
                <a:latin typeface="Arial"/>
              </a:rPr>
              <a:t>IV</a:t>
            </a:r>
            <a:r>
              <a:rPr b="0" lang="ru-RU" sz="3000" spc="-1" strike="noStrike">
                <a:solidFill>
                  <a:srgbClr val="242852"/>
                </a:solidFill>
                <a:latin typeface="Arial"/>
              </a:rPr>
              <a:t>  АГОН (Б)</a:t>
            </a: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Прямоугольник 2"/>
          <p:cNvSpPr/>
          <p:nvPr/>
        </p:nvSpPr>
        <p:spPr>
          <a:xfrm>
            <a:off x="357120" y="642960"/>
            <a:ext cx="82155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2024"/>
                </a:solidFill>
                <a:latin typeface="Arial"/>
                <a:ea typeface="Arial"/>
              </a:rPr>
              <a:t>А.Гитл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2024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1b2024"/>
                </a:solidFill>
                <a:latin typeface="Arial"/>
                <a:ea typeface="Arial"/>
              </a:rPr>
              <a:t>«Земной шар — это всего лишь переходящий кубок, который достается чемпиону-победител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22"/>
                </a:solidFill>
                <a:latin typeface="Arial"/>
                <a:ea typeface="Times New Roman"/>
              </a:rPr>
              <a:t>«Кто хочет жить, тот обязан бороться, а кто не захочет сопротивляться в этом мире вечной борьбы, тот не заслуживает права на жизн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«Солдаты! Я освобождаю вас  от  химеры, именуемой совестью и моралью, и от претензий на свободу и личную независимость, до которых дорастают лишь немноги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25772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42852"/>
                </a:solidFill>
                <a:latin typeface="Arial"/>
              </a:rPr>
              <a:t>Ф.НИЦШЕ (1844-1900ГГ.)</a:t>
            </a:r>
            <a:endParaRPr b="0" lang="en-US" sz="27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58" name="Rectangle 1"/>
          <p:cNvSpPr/>
          <p:nvPr/>
        </p:nvSpPr>
        <p:spPr>
          <a:xfrm>
            <a:off x="357120" y="1097640"/>
            <a:ext cx="5072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Arial"/>
                <a:ea typeface="Times New Roman"/>
              </a:rPr>
              <a:t>«….Лозунг «Г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ния превыше всего” – это конец  немецкой философи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Мой совет Вам – не мир, а война….» (война  за свои мысли, война  с «тварью» в человек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ильная раса” должна быть господствующей ( раса  сверхлюдей с моралью господ. Для нее характерна высокая степень самоуважения, возвышенное, гордое состояние души,  ради которого можно пожертвовать своим богатством и жизнью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2" descr="C:\Users\1\Downloads\220px-Nietzsche187a.jpg"/>
          <p:cNvPicPr/>
          <p:nvPr/>
        </p:nvPicPr>
        <p:blipFill>
          <a:blip r:embed="rId1"/>
          <a:stretch/>
        </p:blipFill>
        <p:spPr>
          <a:xfrm>
            <a:off x="5500800" y="642960"/>
            <a:ext cx="327636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42852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242852"/>
                </a:solidFill>
                <a:latin typeface="Arial"/>
              </a:rPr>
              <a:t>I </a:t>
            </a:r>
            <a:r>
              <a:rPr b="0" lang="ru-RU" sz="3000" spc="-1" strike="noStrike">
                <a:solidFill>
                  <a:srgbClr val="242852"/>
                </a:solidFill>
                <a:latin typeface="Arial"/>
              </a:rPr>
              <a:t>АГОН</a:t>
            </a:r>
            <a:br>
              <a:rPr sz="3000"/>
            </a:br>
            <a:r>
              <a:rPr b="0" lang="ru-RU" sz="3000" spc="-1" strike="noStrike">
                <a:solidFill>
                  <a:srgbClr val="242852"/>
                </a:solidFill>
                <a:latin typeface="Arial"/>
              </a:rPr>
              <a:t>А) ОБЪЯСНИТЕ  ЗНАЧЕНИЕ  ПОНЯТИЙ:</a:t>
            </a: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99680" y="1571760"/>
            <a:ext cx="74674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   Да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3"/>
          <p:cNvSpPr/>
          <p:nvPr/>
        </p:nvSpPr>
        <p:spPr>
          <a:xfrm>
            <a:off x="571680" y="2357280"/>
            <a:ext cx="49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  Кар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4"/>
          <p:cNvSpPr/>
          <p:nvPr/>
        </p:nvSpPr>
        <p:spPr>
          <a:xfrm>
            <a:off x="714240" y="3143160"/>
            <a:ext cx="492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 Мок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5"/>
          <p:cNvSpPr/>
          <p:nvPr/>
        </p:nvSpPr>
        <p:spPr>
          <a:xfrm>
            <a:off x="642960" y="3929040"/>
            <a:ext cx="614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  Универса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6"/>
          <p:cNvSpPr/>
          <p:nvPr/>
        </p:nvSpPr>
        <p:spPr>
          <a:xfrm>
            <a:off x="714240" y="4714920"/>
            <a:ext cx="628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  Атара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7"/>
          <p:cNvSpPr/>
          <p:nvPr/>
        </p:nvSpPr>
        <p:spPr>
          <a:xfrm>
            <a:off x="714240" y="5429160"/>
            <a:ext cx="485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6  Ся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pic>
        <p:nvPicPr>
          <p:cNvPr id="461" name="Мастер и Маргарита - Воланд и Левий Матвей.mp4" descr=""/>
          <p:cNvPicPr/>
          <p:nvPr/>
        </p:nvPicPr>
        <p:blipFill>
          <a:blip r:embed="rId1"/>
          <a:stretch/>
        </p:blipFill>
        <p:spPr>
          <a:xfrm>
            <a:off x="108000" y="93600"/>
            <a:ext cx="859320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6" dur="1" fill="hold"/>
                                        <p:tgtEl>
                                          <p:spTgt spid="4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42852"/>
                </a:solidFill>
                <a:latin typeface="Arial"/>
              </a:rPr>
              <a:t>V</a:t>
            </a:r>
            <a:r>
              <a:rPr b="1" lang="ru-RU" sz="3000" spc="-1" strike="noStrike">
                <a:solidFill>
                  <a:srgbClr val="242852"/>
                </a:solidFill>
                <a:latin typeface="Arial"/>
              </a:rPr>
              <a:t> АГОН </a:t>
            </a:r>
            <a:br>
              <a:rPr sz="3000"/>
            </a:br>
            <a:r>
              <a:rPr b="1" lang="en-US" sz="3000" spc="-1" strike="noStrike">
                <a:solidFill>
                  <a:srgbClr val="242852"/>
                </a:solidFill>
                <a:latin typeface="Arial"/>
              </a:rPr>
              <a:t>  </a:t>
            </a:r>
            <a:r>
              <a:rPr b="1" lang="ru-RU" sz="3000" spc="-1" strike="noStrike">
                <a:solidFill>
                  <a:srgbClr val="242852"/>
                </a:solidFill>
                <a:latin typeface="Arial"/>
              </a:rPr>
              <a:t>ДОБРО И ЗЛО</a:t>
            </a: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63" name="Прямоугольник 2"/>
          <p:cNvSpPr/>
          <p:nvPr/>
        </p:nvSpPr>
        <p:spPr>
          <a:xfrm>
            <a:off x="428760" y="1714680"/>
            <a:ext cx="792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ланд «Что бы делало ваше добро, если бы не было зла?..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"/>
          <p:cNvSpPr/>
          <p:nvPr/>
        </p:nvSpPr>
        <p:spPr>
          <a:xfrm>
            <a:off x="387360" y="2859120"/>
            <a:ext cx="69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22"/>
                </a:solidFill>
                <a:latin typeface="Arial"/>
                <a:ea typeface="Times New Roman"/>
              </a:rPr>
              <a:t>И.Гёте: «зло – обратная сторона доб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2"/>
          <p:cNvSpPr/>
          <p:nvPr/>
        </p:nvSpPr>
        <p:spPr>
          <a:xfrm>
            <a:off x="428760" y="3721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ействительно ли, ч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существования добра необходимо зл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42852"/>
                </a:solidFill>
                <a:latin typeface="Arial"/>
              </a:rPr>
              <a:t>VI</a:t>
            </a:r>
            <a:r>
              <a:rPr b="1" lang="ru-RU" sz="2700" spc="-1" strike="noStrike">
                <a:solidFill>
                  <a:srgbClr val="242852"/>
                </a:solidFill>
                <a:latin typeface="Arial"/>
              </a:rPr>
              <a:t>АГОН</a:t>
            </a:r>
            <a:r>
              <a:rPr b="1" lang="en-US" sz="2700" spc="-1" strike="noStrike">
                <a:solidFill>
                  <a:srgbClr val="242852"/>
                </a:solidFill>
                <a:latin typeface="Arial"/>
              </a:rPr>
              <a:t>. </a:t>
            </a:r>
            <a:r>
              <a:rPr b="1" lang="ru-RU" sz="2700" spc="-1" strike="noStrike">
                <a:solidFill>
                  <a:srgbClr val="242852"/>
                </a:solidFill>
                <a:latin typeface="Arial"/>
              </a:rPr>
              <a:t>СИНКВЕЙН</a:t>
            </a: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242852"/>
                </a:solidFill>
                <a:latin typeface="Arial"/>
              </a:rPr>
              <a:t>ТРАДИЦИОННЫЙ СИНКВЕЙН  (2-4-6-8-2)</a:t>
            </a:r>
            <a:endParaRPr b="0" lang="en-US" sz="27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67" name="Rectangle 1"/>
          <p:cNvSpPr/>
          <p:nvPr/>
        </p:nvSpPr>
        <p:spPr>
          <a:xfrm>
            <a:off x="1143000" y="1871640"/>
            <a:ext cx="72867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444"/>
                </a:solidFill>
                <a:latin typeface="Arial"/>
                <a:ea typeface="Times New Roman"/>
              </a:rPr>
              <a:t>Вчера</a:t>
            </a:r>
            <a:br>
              <a:rPr sz="4000"/>
            </a:br>
            <a:r>
              <a:rPr b="0" lang="ru-RU" sz="4000" spc="-1" strike="noStrike">
                <a:solidFill>
                  <a:srgbClr val="444444"/>
                </a:solidFill>
                <a:latin typeface="Arial"/>
                <a:ea typeface="Times New Roman"/>
              </a:rPr>
              <a:t>Зал опустел,</a:t>
            </a:r>
            <a:br>
              <a:rPr sz="4000"/>
            </a:br>
            <a:r>
              <a:rPr b="0" lang="ru-RU" sz="4000" spc="-1" strike="noStrike">
                <a:solidFill>
                  <a:srgbClr val="444444"/>
                </a:solidFill>
                <a:latin typeface="Arial"/>
                <a:ea typeface="Times New Roman"/>
              </a:rPr>
              <a:t>Когда свои стихи</a:t>
            </a:r>
            <a:br>
              <a:rPr sz="4000"/>
            </a:br>
            <a:r>
              <a:rPr b="0" lang="ru-RU" sz="4000" spc="-1" strike="noStrike">
                <a:solidFill>
                  <a:srgbClr val="444444"/>
                </a:solidFill>
                <a:latin typeface="Arial"/>
                <a:ea typeface="Times New Roman"/>
              </a:rPr>
              <a:t>На сцене с выраженьем ты</a:t>
            </a:r>
            <a:br>
              <a:rPr sz="4000"/>
            </a:br>
            <a:r>
              <a:rPr b="0" lang="ru-RU" sz="4000" spc="-1" strike="noStrike">
                <a:solidFill>
                  <a:srgbClr val="444444"/>
                </a:solidFill>
                <a:latin typeface="Arial"/>
                <a:ea typeface="Times New Roman"/>
              </a:rPr>
              <a:t>Чита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42852"/>
                </a:solidFill>
                <a:latin typeface="Arial"/>
              </a:rPr>
              <a:t>VI. </a:t>
            </a:r>
            <a:r>
              <a:rPr b="1" lang="ru-RU" sz="3000" spc="-1" strike="noStrike">
                <a:solidFill>
                  <a:srgbClr val="242852"/>
                </a:solidFill>
                <a:latin typeface="Arial"/>
              </a:rPr>
              <a:t>ДИДАКТИЧЕСКИЙ СИНКВЕЙН</a:t>
            </a: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69" name="Rectangle 1"/>
          <p:cNvSpPr/>
          <p:nvPr/>
        </p:nvSpPr>
        <p:spPr>
          <a:xfrm>
            <a:off x="428760" y="1024920"/>
            <a:ext cx="72151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4444"/>
                </a:solidFill>
                <a:latin typeface="Arial"/>
                <a:ea typeface="Times New Roman"/>
              </a:rPr>
              <a:t>Текст в пятистрочной форме основывается не на слоговой зависимости, а на смысловой и синтаксической заданности для каждой стро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4444"/>
                </a:solidFill>
                <a:latin typeface="Arial"/>
                <a:ea typeface="Times New Roman"/>
              </a:rPr>
              <a:t>Первая строка – одно существительное или местоимение, выражающее главную тему синквей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4444"/>
                </a:solidFill>
                <a:latin typeface="Arial"/>
                <a:ea typeface="Times New Roman"/>
              </a:rPr>
              <a:t>Вторая строка – два прилагательных или причастия, описывающие признаки и свойства выбранной 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4444"/>
                </a:solidFill>
                <a:latin typeface="Arial"/>
                <a:ea typeface="Times New Roman"/>
              </a:rPr>
              <a:t>Третья строка – три глагола или деепричастия, описывающие действия в рамках 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4444"/>
                </a:solidFill>
                <a:latin typeface="Arial"/>
                <a:ea typeface="Times New Roman"/>
              </a:rPr>
              <a:t>Четвертая строка — фраза из четырёх слов, выражающая отношение автора к описываемому предме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4444"/>
                </a:solidFill>
                <a:latin typeface="Arial"/>
                <a:ea typeface="Times New Roman"/>
              </a:rPr>
              <a:t>Пятая строка — одно слово-резюме, описывающее суть предмета</a:t>
            </a:r>
            <a:r>
              <a:rPr b="0" lang="ru-RU" sz="2000" spc="-1" strike="noStrike">
                <a:solidFill>
                  <a:srgbClr val="444444"/>
                </a:solidFill>
                <a:latin typeface="Verdana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456840" y="285480"/>
            <a:ext cx="7467480" cy="61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Юноша устроился учеником у мастера. Ему было 17 лет, но он уже глубоко страдал. Мастеру было семьдесят лет, а он улыбался и радовался просто так, без всякой прич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жды юноша спросил: «Как вам это удается, мастер?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н ответил:"Каждый человек внутри себя свободен в выборе. Это - мой выбор. Каждое утро, открыв глаза, я спрашиваю себя, что лучше выбрать сегодня - блаженство или страдание? И почему-то все время выбираю блаженство. Но ведь это, по-моему, так естественно"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1" name=""/>
          <p:cNvGraphicFramePr/>
          <p:nvPr/>
        </p:nvGraphicFramePr>
        <p:xfrm>
          <a:off x="857160" y="285840"/>
          <a:ext cx="7500960" cy="6221160"/>
        </p:xfrm>
        <a:graphic>
          <a:graphicData uri="http://schemas.openxmlformats.org/drawingml/2006/table">
            <a:tbl>
              <a:tblPr/>
              <a:tblGrid>
                <a:gridCol w="3751200"/>
                <a:gridCol w="3749760"/>
              </a:tblGrid>
              <a:tr h="31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Учись так, как будто постоянно ощущаешь, что знаний не хватает,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 так, как будто все время боишься их растерять».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фу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конечно наше дел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м неточность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т проб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ершенству нет предел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у жизни есть предел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cbcb"/>
                    </a:solidFill>
                  </a:tcPr>
                </a:tc>
              </a:tr>
            </a:tbl>
          </a:graphicData>
        </a:graphic>
      </p:graphicFrame>
      <p:pic>
        <p:nvPicPr>
          <p:cNvPr id="472" name="Picture 3" descr=""/>
          <p:cNvPicPr/>
          <p:nvPr/>
        </p:nvPicPr>
        <p:blipFill>
          <a:blip r:embed="rId1"/>
          <a:stretch/>
        </p:blipFill>
        <p:spPr>
          <a:xfrm>
            <a:off x="5357880" y="357120"/>
            <a:ext cx="2690640" cy="29750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" descr="C:\Users\1\Downloads\68205.jpg"/>
          <p:cNvPicPr/>
          <p:nvPr/>
        </p:nvPicPr>
        <p:blipFill>
          <a:blip r:embed="rId2"/>
          <a:stretch/>
        </p:blipFill>
        <p:spPr>
          <a:xfrm>
            <a:off x="857160" y="3429000"/>
            <a:ext cx="37432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42852"/>
                </a:solidFill>
                <a:latin typeface="Arial"/>
              </a:rPr>
              <a:t>I</a:t>
            </a:r>
            <a:r>
              <a:rPr b="0" lang="ru-RU" sz="3000" spc="-1" strike="noStrike">
                <a:solidFill>
                  <a:srgbClr val="242852"/>
                </a:solidFill>
                <a:latin typeface="Arial"/>
              </a:rPr>
              <a:t>.  АГОН    Б) ОБЪЯСНИТЕ ПРОИСХОЖДЕНИЕ ПОНЯТИЙ</a:t>
            </a: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785520" y="1428480"/>
            <a:ext cx="70390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1  Схоластика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3"/>
          <p:cNvSpPr/>
          <p:nvPr/>
        </p:nvSpPr>
        <p:spPr>
          <a:xfrm>
            <a:off x="714240" y="19288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  Герменев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4"/>
          <p:cNvSpPr/>
          <p:nvPr/>
        </p:nvSpPr>
        <p:spPr>
          <a:xfrm>
            <a:off x="642960" y="2571840"/>
            <a:ext cx="614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  Патрис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5"/>
          <p:cNvSpPr/>
          <p:nvPr/>
        </p:nvSpPr>
        <p:spPr>
          <a:xfrm>
            <a:off x="714240" y="3214800"/>
            <a:ext cx="671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  Досокра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6"/>
          <p:cNvSpPr/>
          <p:nvPr/>
        </p:nvSpPr>
        <p:spPr>
          <a:xfrm>
            <a:off x="714240" y="3929040"/>
            <a:ext cx="632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  Агности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7"/>
          <p:cNvSpPr/>
          <p:nvPr/>
        </p:nvSpPr>
        <p:spPr>
          <a:xfrm>
            <a:off x="714240" y="4714920"/>
            <a:ext cx="621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  Атеис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42852"/>
                </a:solidFill>
                <a:latin typeface="Arial"/>
              </a:rPr>
              <a:t>II </a:t>
            </a:r>
            <a:r>
              <a:rPr b="0" lang="ru-RU" sz="3000" spc="-1" strike="noStrike">
                <a:solidFill>
                  <a:srgbClr val="242852"/>
                </a:solidFill>
                <a:latin typeface="Arial"/>
              </a:rPr>
              <a:t>АГОН  ЛОГИЧЕСКИЕ ЗАДАНИЯ</a:t>
            </a:r>
            <a:br>
              <a:rPr sz="3000"/>
            </a:br>
            <a:endParaRPr b="0" lang="en-US" sz="3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87" name="Прямоугольник 3"/>
          <p:cNvSpPr/>
          <p:nvPr/>
        </p:nvSpPr>
        <p:spPr>
          <a:xfrm>
            <a:off x="428760" y="1928880"/>
            <a:ext cx="74293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Президент компании одной из латиноамериканских стран на вопрос журналиста, что он любит читать, ответил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 конце рабочего дня люблю почитать труды Сократа»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азал ли он  правду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571320" y="500040"/>
            <a:ext cx="778644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вестный философ античности Диоген днём ходил  по людной площади с горящим факелом в руках. Какую фразу он выкрикивал и какая пословица в связи с этим родилас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" descr="http://img1.liveinternet.ru/images/attach/b/4/112/704/112704503_Ioganna_Tishbeyna_Diogen_iskal_cheloveka.jpg"/>
          <p:cNvPicPr/>
          <p:nvPr/>
        </p:nvPicPr>
        <p:blipFill>
          <a:blip r:embed="rId1"/>
          <a:stretch/>
        </p:blipFill>
        <p:spPr>
          <a:xfrm>
            <a:off x="3571920" y="3929040"/>
            <a:ext cx="38559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6840" y="642600"/>
            <a:ext cx="7467480" cy="58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виженья нет, сказал мудрец брадаты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гой смолчал и …………………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льнее бы не мог он возразить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валили все ответ замысловатый»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.С.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енон Элейский доказывал собравшимся  философам, что летящая стрела не движется. Она не может преодолеть бесконечное число  бесконечно малых отрезков. Какой аргумент привел Антисфен, чтобы доказать обратн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99680" y="213840"/>
            <a:ext cx="746748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Какой смысл вкладывал монах Филофей Псковский (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V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) в формулу  «Москва – третий Рим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4"/>
          <p:cNvSpPr/>
          <p:nvPr/>
        </p:nvSpPr>
        <p:spPr>
          <a:xfrm>
            <a:off x="4071960" y="2214720"/>
            <a:ext cx="400032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…внимай, благочестивый царь, тому, что все христианские царства сошлись в одно твое, что два Рима пали, а третий стоит, а четвертому же не бывать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 обращения Филофея  к великому князю Василию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6" descr="http://samoderzhavnaya.ru/media/illustrations/starets_filofej.jpg"/>
          <p:cNvPicPr/>
          <p:nvPr/>
        </p:nvPicPr>
        <p:blipFill>
          <a:blip r:embed="rId1"/>
          <a:stretch/>
        </p:blipFill>
        <p:spPr>
          <a:xfrm>
            <a:off x="571680" y="2214720"/>
            <a:ext cx="3344760" cy="378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5143680" y="1000080"/>
            <a:ext cx="3511440" cy="42148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1"/>
          <p:cNvSpPr/>
          <p:nvPr/>
        </p:nvSpPr>
        <p:spPr>
          <a:xfrm>
            <a:off x="714240" y="528120"/>
            <a:ext cx="40006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 Французский писатель-экзистенциалист  Альбер Камю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913 – 1960)  полагает, что «люди заброшены в этот мир, в эту историю. Они смертны, и жизнь предстает перед ними как абсурд в абсурдном мире.  Человек  с  самого  начала  должен  ответить  на  фундаментальный вопрос бытия (фундаментальный вопрос философии)  --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……? Какой вопро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6T11:23:19Z</dcterms:created>
  <dc:creator>1</dc:creator>
  <dc:description/>
  <dc:language>en-US</dc:language>
  <cp:lastModifiedBy>Пользователь Windows</cp:lastModifiedBy>
  <dcterms:modified xsi:type="dcterms:W3CDTF">2020-01-16T12:21:02Z</dcterms:modified>
  <cp:revision>126</cp:revision>
  <dc:subject/>
  <dc:title>Философский турнир</dc:title>
</cp:coreProperties>
</file>