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BF93-FD7C-4F5D-B5FE-3F8ACA6E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A894-189C-44A2-93A8-A6FCA36B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D787-C2CE-4491-BD8A-2594BB86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16F9-2364-4CC6-AC97-9ECCB47D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5E04-4063-4852-B19C-DD82CE94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8AF8-7DC8-41CB-AC88-A3661CE8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DC11-F958-48B1-BE5C-6BB1E4B7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A067-6BFF-46C6-9822-5E35736A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A2BD-8A3A-44D7-9078-CB8A1A19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AF7A-7336-46A7-91A5-C6F7285C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0A70-7056-47DC-B817-742BA96F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559C-A6B3-46CE-BE56-6BDE9C0C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6351-B761-4AC5-9CFC-72A978936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685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к нам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падает кни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рпо.gif"/>
          <p:cNvPicPr/>
          <p:nvPr/>
        </p:nvPicPr>
        <p:blipFill>
          <a:blip r:embed="rId1"/>
          <a:stretch/>
        </p:blipFill>
        <p:spPr>
          <a:xfrm rot="21240600">
            <a:off x="457200" y="1828440"/>
            <a:ext cx="33750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в печатную машину попадает чистая бумага, а выходит с текстом и разноцветными рисунками. Эти листы сортируют, подбирают по страничкам. Затем специальная машина делает переплёт т.е.сшивает, склеивает листы, а другая машина надевает на неё обложку. Затем книги из типографии везут на склад, где они хранятся, а потом со склада доставляют в магазин, библиотеку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2" descr="ячся.jpg"/>
          <p:cNvPicPr/>
          <p:nvPr/>
        </p:nvPicPr>
        <p:blipFill>
          <a:blip r:embed="rId1"/>
          <a:stretch/>
        </p:blipFill>
        <p:spPr>
          <a:xfrm>
            <a:off x="228600" y="1447920"/>
            <a:ext cx="4316400" cy="32446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вамы.jpeg"/>
          <p:cNvPicPr/>
          <p:nvPr/>
        </p:nvPicPr>
        <p:blipFill>
          <a:blip r:embed="rId2"/>
          <a:stretch/>
        </p:blipFill>
        <p:spPr>
          <a:xfrm>
            <a:off x="4724280" y="2743200"/>
            <a:ext cx="4125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такой интересный путь проделывает книга.  Очень много людей трудится над её созданием, поэтому к книгам нужно относиться бережно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2" descr="чывс.jpg"/>
          <p:cNvPicPr/>
          <p:nvPr/>
        </p:nvPicPr>
        <p:blipFill>
          <a:blip r:embed="rId1"/>
          <a:stretch/>
        </p:blipFill>
        <p:spPr>
          <a:xfrm>
            <a:off x="1066680" y="1143000"/>
            <a:ext cx="724392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 путь будущая книга начинает в тайге, в лес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3" descr="ччс.jpeg"/>
          <p:cNvPicPr/>
          <p:nvPr/>
        </p:nvPicPr>
        <p:blipFill>
          <a:blip r:embed="rId1"/>
          <a:stretch/>
        </p:blipFill>
        <p:spPr>
          <a:xfrm>
            <a:off x="533520" y="736560"/>
            <a:ext cx="826776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о поутру лесорубы шагают в лесную чащу. Сначала они делают зарубки на деревьях, которые надо срубить. Молодые деревья не трогают, им ещё надо ра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2" descr="3.jpg"/>
          <p:cNvPicPr/>
          <p:nvPr/>
        </p:nvPicPr>
        <p:blipFill>
          <a:blip r:embed="rId1"/>
          <a:stretch/>
        </p:blipFill>
        <p:spPr>
          <a:xfrm>
            <a:off x="228600" y="1371600"/>
            <a:ext cx="4978440" cy="37339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3" descr="bratsk_02.jpg"/>
          <p:cNvPicPr/>
          <p:nvPr/>
        </p:nvPicPr>
        <p:blipFill>
          <a:blip r:embed="rId2"/>
          <a:srcRect l="8712" t="0" r="44391" b="496"/>
          <a:stretch/>
        </p:blipFill>
        <p:spPr>
          <a:xfrm>
            <a:off x="5638680" y="1981080"/>
            <a:ext cx="3254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жжит в умелых руках бензопила.  Одно за другим падают на землю деревь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2" descr="4.jpg"/>
          <p:cNvPicPr/>
          <p:nvPr/>
        </p:nvPicPr>
        <p:blipFill>
          <a:blip r:embed="rId1"/>
          <a:srcRect l="24788" t="0" r="0" b="1306"/>
          <a:stretch/>
        </p:blipFill>
        <p:spPr>
          <a:xfrm>
            <a:off x="304920" y="838080"/>
            <a:ext cx="3352680" cy="2799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оглб.jpg"/>
          <p:cNvPicPr/>
          <p:nvPr/>
        </p:nvPicPr>
        <p:blipFill>
          <a:blip r:embed="rId2"/>
          <a:stretch/>
        </p:blipFill>
        <p:spPr>
          <a:xfrm>
            <a:off x="4416480" y="838080"/>
            <a:ext cx="4406760" cy="2667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rosconcert.com/ic/images.newsru.com/pict/id/large/914825_20061218125056.gif"/>
          <p:cNvPicPr/>
          <p:nvPr/>
        </p:nvPicPr>
        <p:blipFill>
          <a:blip r:embed="rId3"/>
          <a:stretch/>
        </p:blipFill>
        <p:spPr>
          <a:xfrm>
            <a:off x="2590920" y="34290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о лесной дороге на помощь лесорубам спешит трактор. Лесорубы отрубают ветки, вяжут накрепко и стягивают стволы деревьев железными канатами. Вздрогнет, запыхтит лесной вездеход и потянет тяжелую ношу к реке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2.jpg"/>
          <p:cNvPicPr/>
          <p:nvPr/>
        </p:nvPicPr>
        <p:blipFill>
          <a:blip r:embed="rId1"/>
          <a:srcRect l="6000" t="2738" r="10001" b="5481"/>
          <a:stretch/>
        </p:blipFill>
        <p:spPr>
          <a:xfrm>
            <a:off x="4495680" y="3124080"/>
            <a:ext cx="4267440" cy="3403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" descr="ртьр.jpg"/>
          <p:cNvPicPr/>
          <p:nvPr/>
        </p:nvPicPr>
        <p:blipFill>
          <a:blip r:embed="rId2"/>
          <a:srcRect l="0" t="0" r="9379" b="3337"/>
          <a:stretch/>
        </p:blipFill>
        <p:spPr>
          <a:xfrm>
            <a:off x="380880" y="990720"/>
            <a:ext cx="4191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а самая просторная дорога для леса. Точно огромные рыбы плывут, по ней брёвна вниз по течению. Порой брёвна сталкиваются, цепляются друг за друга и образуют заторы .Заторы – это скопление большого количества брёвен которые дальше не могут двигатьс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5" descr="ьоб.jpeg"/>
          <p:cNvPicPr/>
          <p:nvPr/>
        </p:nvPicPr>
        <p:blipFill>
          <a:blip r:embed="rId1"/>
          <a:srcRect l="0" t="2898" r="429" b="0"/>
          <a:stretch/>
        </p:blipFill>
        <p:spPr>
          <a:xfrm>
            <a:off x="609480" y="1371600"/>
            <a:ext cx="7479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таких заторов не было, за движением леса зорко следят сплавщики . Сплавщики - это рабочие которые сплавляют лес по реке. Они подплывают на моторных лодках к месту затора, длинными баграми с острыми наконечниками расталкивают, разгоняют сцепленные брёвна и вот они снова продолжают свой путь по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е.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2" descr="онорпапа.jpg"/>
          <p:cNvPicPr/>
          <p:nvPr/>
        </p:nvPicPr>
        <p:blipFill>
          <a:blip r:embed="rId1"/>
          <a:srcRect l="0" t="0" r="236" b="5708"/>
          <a:stretch/>
        </p:blipFill>
        <p:spPr>
          <a:xfrm>
            <a:off x="762120" y="1523880"/>
            <a:ext cx="777240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реки брёвна попали на бумажный комбинат. В цехах деревья распилили, измельчили и превратили в опилки, которые потом сварили и получили массу похожую на жидкое тесто. Всё это делают умные машины под управлением человека. Машины разливают, раскатывают бумажное тесто в длинные широкие полосы, а потом из полос получается бумага. Бумагу скатывают в огромные бумажные рулоны для хранения.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2" descr="вы.jpg"/>
          <p:cNvPicPr/>
          <p:nvPr/>
        </p:nvPicPr>
        <p:blipFill>
          <a:blip r:embed="rId1"/>
          <a:stretch/>
        </p:blipFill>
        <p:spPr>
          <a:xfrm>
            <a:off x="152280" y="2895480"/>
            <a:ext cx="3733920" cy="36626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мси.jpg"/>
          <p:cNvPicPr/>
          <p:nvPr/>
        </p:nvPicPr>
        <p:blipFill>
          <a:blip r:embed="rId2"/>
          <a:stretch/>
        </p:blipFill>
        <p:spPr>
          <a:xfrm>
            <a:off x="4038480" y="1981080"/>
            <a:ext cx="487692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пография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книжная фабрика, где много цехов. В одном  готовят бумагу нужного размера, в другом набирают текст, в третьем готовят краску и везде работают специальные машин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ссм.jpg"/>
          <p:cNvPicPr/>
          <p:nvPr/>
        </p:nvPicPr>
        <p:blipFill>
          <a:blip r:embed="rId1"/>
          <a:srcRect l="38881" t="1553" r="10507" b="8261"/>
          <a:stretch/>
        </p:blipFill>
        <p:spPr>
          <a:xfrm>
            <a:off x="380880" y="1143000"/>
            <a:ext cx="4246560" cy="50418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6" descr="яяыч.jpg"/>
          <p:cNvPicPr/>
          <p:nvPr/>
        </p:nvPicPr>
        <p:blipFill>
          <a:blip r:embed="rId2"/>
          <a:stretch/>
        </p:blipFill>
        <p:spPr>
          <a:xfrm>
            <a:off x="5257800" y="1287360"/>
            <a:ext cx="358128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Хусаинов Р Ш</dc:creator>
  <dc:description/>
  <dc:language>en-US</dc:language>
  <cp:lastModifiedBy>Хусаинов Р Ш</cp:lastModifiedBy>
  <dcterms:modified xsi:type="dcterms:W3CDTF">2019-01-27T09:08:06Z</dcterms:modified>
  <cp:revision>27</cp:revision>
  <dc:subject/>
  <dc:title>Свой путь будущая книга начинает в тайге, в лесу.</dc:title>
</cp:coreProperties>
</file>