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1B0-812E-499E-9499-D1CAAAC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DD5-E1F5-4B68-846B-4AF043F3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D06-9C5C-427B-BFE0-14636A8B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EA-EAEA-433C-A265-FF506084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0C58-1190-40B0-8CCF-24D2371E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A92-DE7F-4336-818A-588E02C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FDD2-DED9-4613-BB73-1CD9180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4A75-F07E-4734-9A7D-785BB0D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319D-EEBA-41CB-AB85-E8C5F95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388-3613-4D48-902C-FA852CF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ABA-A74B-40C8-AA3A-BFE6887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6ED-3AE5-41BC-B64E-A927915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F878-48F3-447F-8089-1FE6D84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69F1-662B-489C-8FE1-F191DDF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580-963C-4D52-9AB8-23ECF28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43CC-77A1-42A9-A57C-7273C95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AFFB-1143-4732-B277-D35AE701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FDA7-D44D-47D7-93C2-AF4D3171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8B8C-CC4D-48D7-806B-2B67B40A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AC8A-6DB8-41AB-A4BD-C697A88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265E-F43C-49FD-8E45-7AB406D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860C-A595-402F-9DD1-CCA2891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B65-4776-4A18-82E1-86192504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FBD7-D2D9-4254-AC1D-2AC02F8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CE6F-0497-4A3E-91CA-6306E0E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5049-8D23-4CFD-BD09-441147B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F7E0-F1F9-481A-862B-F58F70A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2B2B-852B-4031-828D-4CAA3C4F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9D4F-C41A-4CA4-A9E0-65F1D8A1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DD83-3049-4D20-A692-4C4857B1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286E-43E4-43D3-B64A-146A1279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FC49-C935-4F52-B286-0229275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940C-6817-4310-9C72-770F100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592-E509-409F-8819-CCDAA5F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7792C-7EE2-44F4-9455-3C77633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951E-351D-4E55-869A-79B5483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1D7E-BF0C-4738-A5B2-9F5D63D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FBFB-2326-4173-ABC9-B7BC664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E332-E633-4172-B9E6-7D1F4E5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4F8D-FDAF-48AA-A65C-463C5FE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7538-597E-4452-909E-D337D7E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4C39-148E-4730-A0B2-0D257504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9E0E-0B2F-45EE-9DC3-F40E4F5D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ADAF-D03D-4698-853A-7C87A15A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D19-423E-4B8F-B447-56FF79D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7B59-BCF2-48FF-B701-AB9009F4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D74F-C6C1-4ABD-B917-24F05CE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8501-0623-4AF0-8C7C-C5493CDE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4928-28C5-415F-B78E-FA4D4205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6A0A-F3A7-42A6-9F18-C45F0B87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D8DAC-B3DD-4E52-AD36-41C58A26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E3EC2-4B4A-4E2C-924A-06F404E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B8E7-6E53-45DB-8680-FC470E2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4378-0F6A-4029-88DD-96E9920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A5E7-DDE5-4C60-81F1-C95095CC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342-5448-44BD-A62C-69CD79BC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41BD-6771-47E4-9313-4D974DC1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2DA-BF35-4426-9D3C-2B2CB01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5F5-9663-4698-ABEF-A50DF8C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7A2-99B9-4756-8E15-216D916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9D8-5899-4809-A18D-1EF7D3EA4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C55D-0E33-4A58-B3B1-60E77CBBB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A2D-CF7C-46D6-9376-5331C75F2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F14E-2274-4952-89ED-2FF655CB2D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3007-A790-4356-BF89-69BB32052C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14160" y="3822840"/>
            <a:ext cx="8065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8461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352320" y="2666520"/>
            <a:ext cx="533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Сочинение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Анкетирование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Тестирование  школь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Нравственное воспитание в условиях  классного коллект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174400" y="3352680"/>
            <a:ext cx="6969240" cy="18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ЕДАГОГИ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99"/>
                </a:solidFill>
                <a:uFillTx/>
                <a:latin typeface="Arial"/>
              </a:rPr>
              <a:t>Проблема: </a:t>
            </a:r>
            <a:br>
              <a:rPr sz="2400"/>
            </a:br>
            <a:br>
              <a:rPr sz="900"/>
            </a:b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тсутствие эффективных механизмов формирования нравственных  компетентностей в условиях 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бразовательного процес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99"/>
                </a:solidFill>
                <a:uFillTx/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формирование у младших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нравственных основ личности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дачи и ожидаемые 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8600" y="914400"/>
          <a:ext cx="8686800" cy="5300640"/>
        </p:xfrm>
        <a:graphic>
          <a:graphicData uri="http://schemas.openxmlformats.org/drawingml/2006/table">
            <a:tbl>
              <a:tblPr/>
              <a:tblGrid>
                <a:gridCol w="4759200"/>
                <a:gridCol w="3927600"/>
              </a:tblGrid>
              <a:tr h="9576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ВЫЙ ЭТАП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отивационны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36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Ожидаем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121212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психологической, педагоги-ческой и учебно-методическо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ы по теме исслед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имание учащимися роли прав и обязанностей в школьной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зни, в жизни обществ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1269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мотивации участников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ко-ориентированного проек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ь понятие «нравственности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дачи и ожидаемые 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1523880"/>
          <a:ext cx="8763120" cy="4572000"/>
        </p:xfrm>
        <a:graphic>
          <a:graphicData uri="http://schemas.openxmlformats.org/drawingml/2006/table">
            <a:tbl>
              <a:tblPr/>
              <a:tblGrid>
                <a:gridCol w="4417920"/>
                <a:gridCol w="4345200"/>
              </a:tblGrid>
              <a:tr h="7668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ОЙ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ланирующий - подготовительны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692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Ожидаем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</a:tr>
              <a:tr h="112716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темы и цели дет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а, формулирование зада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 у учащихся основ  планирования своей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</a:tr>
              <a:tr h="131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ие с учащимися плана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ы над проекто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15328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дачи и ожидаемые 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4920" y="914400"/>
          <a:ext cx="8610480" cy="5510160"/>
        </p:xfrm>
        <a:graphic>
          <a:graphicData uri="http://schemas.openxmlformats.org/drawingml/2006/table">
            <a:tbl>
              <a:tblPr/>
              <a:tblGrid>
                <a:gridCol w="4717800"/>
                <a:gridCol w="3892680"/>
              </a:tblGrid>
              <a:tr h="8096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ТИЙ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информационно-операционны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36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Ожидаем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6664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ить с учащимися необходим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 деятельности литературу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ава и обязанности учащихся МОУ СОШ пос. Железнодорожный» ( из «Устава МОУ СОШ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нциклопедия этикета для детей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оздание «Азбуки нравственности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Умение учащимися оценивать свои поступки в соответствии с общепринятыми правами и обязанностями в классном коллективе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106452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аботка детьми «Азбуки нравственности»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Arial"/>
              </a:rPr>
              <a:t>Задачи и ожидаемые 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28600" y="985680"/>
          <a:ext cx="8686800" cy="5632560"/>
        </p:xfrm>
        <a:graphic>
          <a:graphicData uri="http://schemas.openxmlformats.org/drawingml/2006/table">
            <a:tbl>
              <a:tblPr/>
              <a:tblGrid>
                <a:gridCol w="4759200"/>
                <a:gridCol w="3927600"/>
              </a:tblGrid>
              <a:tr h="727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ТВЕРТЫЙ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рефлексивно-оценочны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Ожидаем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</a:tr>
              <a:tr h="106848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ументальное оформление проек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Оценка  учениками своего участия в проект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Обращение к  «Азбуке нравственности» как общепринятым правилам повед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риобрести опыт публичных выступлен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</a:tr>
              <a:tr h="129852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полученных результатов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авнение того, что получилось, 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, что было задума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зентация проекта на  конференции младших школьник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e2f7"/>
                        </a:gs>
                        <a:gs pos="50000">
                          <a:srgbClr val="ffffcc"/>
                        </a:gs>
                        <a:gs pos="100000">
                          <a:srgbClr val="fae2f7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лученные результаты</a:t>
            </a:r>
            <a:br>
              <a:rPr sz="40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33520" y="914400"/>
            <a:ext cx="8076960" cy="83808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1.  Создание «Азбуки нравственности»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400"/>
            </a:br>
            <a:br>
              <a:rPr sz="3000"/>
            </a:br>
            <a:br>
              <a:rPr sz="3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6" descr="SDC16796"/>
          <p:cNvPicPr/>
          <p:nvPr/>
        </p:nvPicPr>
        <p:blipFill>
          <a:blip r:embed="rId2"/>
          <a:stretch/>
        </p:blipFill>
        <p:spPr>
          <a:xfrm>
            <a:off x="3581280" y="2057400"/>
            <a:ext cx="47721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77320" cy="3048120"/>
          </a:xfrm>
          <a:prstGeom prst="rect">
            <a:avLst/>
          </a:prstGeom>
          <a:solidFill>
            <a:srgbClr val="ffff99">
              <a:alpha val="2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2. Получение знаний о нравственности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3. Формирование умения оценивать свои поступки в соответствии с общепринятыми нормами поведения в классном коллективе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4. Применение полученных знаний   в жизни классного коллектива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1-06T22:56:4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