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8B17A-4AB6-4836-9D4E-F4B7F5B524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E4DDD-7221-40B5-9F4B-CB59187B1F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D8514-E52E-40F7-B927-57347CF535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4711E-1146-487E-A148-FE04CD3E0C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39884-995D-496D-A427-28A46440EF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48F33-6544-4392-8046-6DC3C831B4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12450-A02A-45D4-A8C3-1C5525B59B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BD9A9-9BEE-4516-B337-1E21DABAF5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59648-3C80-4F89-A9B9-FC0C4A6213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F41F-7777-4CBB-B39D-C36017E6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604-766F-4BC5-B282-98856CA0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BB5-D21C-4CF3-92B3-3BC26C76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9F4-663B-4C6D-8422-0E32B5CD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0128-8A8D-46C2-811F-C5816CF9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59BE-3DB9-406C-AFE6-2F23DA8A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0264-5C8F-4951-8C7A-47DF621C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FE4-6C75-459E-A782-2A422E3F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5283-D2D0-4F49-BDC8-C154BE7F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741-A660-46CA-A32D-E54F8568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7CDB-BD88-4D87-8F2D-64AD0CD5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7B7-62D4-4AC1-A4B3-8BADC0D3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2E1CF-2F1F-4A7F-AF48-5AE1A50116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2268360" y="144360"/>
            <a:ext cx="57610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Times New Roman"/>
              </a:rPr>
              <a:t>Педагогический про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2448000" y="863640"/>
            <a:ext cx="54007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Наши права</a:t>
            </a:r>
            <a:r>
              <a:rPr b="1" i="1" lang="en-GB" sz="5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700360" y="6265800"/>
            <a:ext cx="47037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lvl="1" marL="341280" indent="-341280" algn="ctr">
              <a:lnSpc>
                <a:spcPct val="96000"/>
              </a:lnSpc>
              <a:spcBef>
                <a:spcPts val="3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ект выполнила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 algn="ctr">
              <a:lnSpc>
                <a:spcPct val="96000"/>
              </a:lnSpc>
              <a:spcBef>
                <a:spcPts val="3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воспитател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ршей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 algn="ctr">
              <a:lnSpc>
                <a:spcPct val="96000"/>
              </a:lnSpc>
              <a:spcBef>
                <a:spcPts val="3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барева Е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879640" y="1800360"/>
            <a:ext cx="4319640" cy="43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1604880" y="185760"/>
            <a:ext cx="70106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Участники проект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287280" y="1006560"/>
            <a:ext cx="944712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6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Д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ет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ршей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групп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6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. Родители воспитан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6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Музыкальный руковод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6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Логопед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3024360" y="217440"/>
            <a:ext cx="396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179280" y="1079640"/>
            <a:ext cx="9720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Максимально способствовать социальной адаптации ребенка старшего дошкольного возраста при помощи формирования  основ    правовых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843280" y="2411280"/>
            <a:ext cx="4516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Задач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79280" y="3384720"/>
            <a:ext cx="972036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 Познакомить детей с понятиями «права» и «обязаннос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. Сформировать у детей первоначальные правовые знания на основе Конвенции о правах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3. Способствовать развитию правового мировоззрения и нравственных  предста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4. Повысить уровень культуры межличностного взаимодействия детей в груп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. Создание благоприятного фона для контактов с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6. Разработать перспективный план работы с детьми и мероприятий с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1187280" y="179280"/>
            <a:ext cx="7413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 этап. Подготовите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79280" y="1079640"/>
            <a:ext cx="9541080" cy="27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1. Опрос родит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2. Знакомство с Конвенцией о правах ребе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3. Знакомство с методической литератур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4. Составление плана рабо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523960" y="3780000"/>
            <a:ext cx="482148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1"/>
          <p:cNvSpPr/>
          <p:nvPr/>
        </p:nvSpPr>
        <p:spPr>
          <a:xfrm>
            <a:off x="5759280" y="5543640"/>
            <a:ext cx="720720" cy="5396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"/>
          <p:cNvSpPr/>
          <p:nvPr/>
        </p:nvSpPr>
        <p:spPr>
          <a:xfrm flipH="1">
            <a:off x="3885840" y="5508720"/>
            <a:ext cx="723960" cy="5396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556000" y="216000"/>
            <a:ext cx="4976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I этап. Основ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3600360" y="2879640"/>
            <a:ext cx="2700360" cy="1260720"/>
          </a:xfrm>
          <a:prstGeom prst="roundRect">
            <a:avLst>
              <a:gd name="adj" fmla="val 125"/>
            </a:avLst>
          </a:prstGeom>
          <a:solidFill>
            <a:srgbClr val="cc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rm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Работа с деть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1800360" y="1440000"/>
            <a:ext cx="2340000" cy="720720"/>
          </a:xfrm>
          <a:prstGeom prst="roundRect">
            <a:avLst>
              <a:gd name="adj" fmla="val 218"/>
            </a:avLst>
          </a:prstGeom>
          <a:solidFill>
            <a:srgbClr val="cc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rm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759280" y="1440000"/>
            <a:ext cx="2340000" cy="720720"/>
          </a:xfrm>
          <a:prstGeom prst="roundRect">
            <a:avLst>
              <a:gd name="adj" fmla="val 218"/>
            </a:avLst>
          </a:prstGeom>
          <a:solidFill>
            <a:srgbClr val="cc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rm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ес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539640" y="3132000"/>
            <a:ext cx="2521080" cy="720720"/>
          </a:xfrm>
          <a:prstGeom prst="roundRect">
            <a:avLst>
              <a:gd name="adj" fmla="val 218"/>
            </a:avLst>
          </a:prstGeom>
          <a:solidFill>
            <a:srgbClr val="cc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rm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Чтение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6840360" y="3132000"/>
            <a:ext cx="1979640" cy="720720"/>
          </a:xfrm>
          <a:prstGeom prst="roundRect">
            <a:avLst>
              <a:gd name="adj" fmla="val 218"/>
            </a:avLst>
          </a:prstGeom>
          <a:solidFill>
            <a:srgbClr val="cc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rm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рогу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3959280" y="4859280"/>
            <a:ext cx="2160360" cy="720720"/>
          </a:xfrm>
          <a:prstGeom prst="roundRect">
            <a:avLst>
              <a:gd name="adj" fmla="val 218"/>
            </a:avLst>
          </a:prstGeom>
          <a:solidFill>
            <a:srgbClr val="cc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rm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5580000" y="6048360"/>
            <a:ext cx="2160720" cy="720720"/>
          </a:xfrm>
          <a:prstGeom prst="roundRect">
            <a:avLst>
              <a:gd name="adj" fmla="val 218"/>
            </a:avLst>
          </a:prstGeom>
          <a:solidFill>
            <a:srgbClr val="cc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rm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идак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2519280" y="6012000"/>
            <a:ext cx="2160720" cy="720720"/>
          </a:xfrm>
          <a:prstGeom prst="roundRect">
            <a:avLst>
              <a:gd name="adj" fmla="val 218"/>
            </a:avLst>
          </a:prstGeom>
          <a:solidFill>
            <a:srgbClr val="cc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rm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южетно-ро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5400720" y="2157120"/>
            <a:ext cx="1619280" cy="72396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H="1" flipV="1">
            <a:off x="2877840" y="2157120"/>
            <a:ext cx="1803240" cy="72396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6300720" y="3492360"/>
            <a:ext cx="53964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>
            <a:off x="3059280" y="3492360"/>
            <a:ext cx="54288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5040360" y="4140360"/>
            <a:ext cx="1440" cy="72072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1332000" y="216000"/>
            <a:ext cx="74800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Конвенция о правах реб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869160" y="3419640"/>
            <a:ext cx="2455920" cy="1800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6840360" y="1440000"/>
            <a:ext cx="2351160" cy="180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965160" y="1440000"/>
            <a:ext cx="2455920" cy="180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4"/>
          <a:stretch/>
        </p:blipFill>
        <p:spPr>
          <a:xfrm>
            <a:off x="900000" y="3419640"/>
            <a:ext cx="2524320" cy="180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5"/>
          <a:stretch/>
        </p:blipFill>
        <p:spPr>
          <a:xfrm>
            <a:off x="3754440" y="936720"/>
            <a:ext cx="2546280" cy="1800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6"/>
          <a:stretch/>
        </p:blipFill>
        <p:spPr>
          <a:xfrm>
            <a:off x="3959280" y="3095640"/>
            <a:ext cx="2455920" cy="18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7"/>
          <a:stretch/>
        </p:blipFill>
        <p:spPr>
          <a:xfrm>
            <a:off x="5148360" y="5400720"/>
            <a:ext cx="2549520" cy="180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8"/>
          <a:stretch/>
        </p:blipFill>
        <p:spPr>
          <a:xfrm>
            <a:off x="2411280" y="5400720"/>
            <a:ext cx="24526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1"/>
          <p:cNvSpPr/>
          <p:nvPr/>
        </p:nvSpPr>
        <p:spPr>
          <a:xfrm flipH="1">
            <a:off x="2914560" y="3672000"/>
            <a:ext cx="54288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"/>
          <p:cNvSpPr/>
          <p:nvPr/>
        </p:nvSpPr>
        <p:spPr>
          <a:xfrm>
            <a:off x="6659640" y="3672000"/>
            <a:ext cx="53964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 flipV="1">
            <a:off x="5111640" y="2193480"/>
            <a:ext cx="1800" cy="9032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56000" y="216000"/>
            <a:ext cx="4976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I этап. Основ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3348000" y="3060720"/>
            <a:ext cx="3421080" cy="1260360"/>
          </a:xfrm>
          <a:prstGeom prst="roundRect">
            <a:avLst>
              <a:gd name="adj" fmla="val 125"/>
            </a:avLst>
          </a:prstGeom>
          <a:solidFill>
            <a:srgbClr val="cc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rm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Работа с родител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252360" y="3240000"/>
            <a:ext cx="2700360" cy="900360"/>
          </a:xfrm>
          <a:prstGeom prst="roundRect">
            <a:avLst>
              <a:gd name="adj" fmla="val 176"/>
            </a:avLst>
          </a:prstGeom>
          <a:solidFill>
            <a:srgbClr val="cc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rm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Групповые собр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7164360" y="3203640"/>
            <a:ext cx="2700360" cy="900000"/>
          </a:xfrm>
          <a:prstGeom prst="roundRect">
            <a:avLst>
              <a:gd name="adj" fmla="val 176"/>
            </a:avLst>
          </a:prstGeom>
          <a:solidFill>
            <a:srgbClr val="cc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rm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ндивиду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онсуль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2916360" y="5040360"/>
            <a:ext cx="4500360" cy="900000"/>
          </a:xfrm>
          <a:prstGeom prst="roundRect">
            <a:avLst>
              <a:gd name="adj" fmla="val 176"/>
            </a:avLst>
          </a:prstGeom>
          <a:solidFill>
            <a:srgbClr val="cc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rm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Оформление информационных стен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700360" y="1332000"/>
            <a:ext cx="4500720" cy="900000"/>
          </a:xfrm>
          <a:prstGeom prst="roundRect">
            <a:avLst>
              <a:gd name="adj" fmla="val 176"/>
            </a:avLst>
          </a:prstGeom>
          <a:solidFill>
            <a:srgbClr val="ccff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rm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овместная деятельность с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5111640" y="4319640"/>
            <a:ext cx="1800" cy="72072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79280" y="1052640"/>
            <a:ext cx="954108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rm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1. Обобщить и распространить положительный опыт семейного воспит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2. Сформировать модель информационно-просветительской работы с родителями по вопросам правовой культу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3. Способствовать развитию у детей самоуважения и  уважения к другим людям, чувства собственного достоинства, социальной актив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4. Сформировать модель единого культурного пространства «Ребенок – Семья – Социум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220760" y="252360"/>
            <a:ext cx="76374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ПРЕДПОЛАГАЕМЫЙ РЕЗУЛЬТ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gore</cp:lastModifiedBy>
  <dcterms:modified xsi:type="dcterms:W3CDTF">2019-12-21T14:35:05Z</dcterms:modified>
  <cp:revision>2</cp:revision>
  <dc:subject/>
  <dc:title>Презентация PowerPoint</dc:title>
</cp:coreProperties>
</file>