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83B-855B-4833-A477-CAAAB619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7B3-5458-401F-8412-F0A39161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5AA-0D83-4D56-BFD3-43195CA0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354-079E-4B34-BC28-BE372173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BF8-1BD2-40C0-8E8A-251401C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168-DADF-47D2-A7D7-8289E9C2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5C6-872C-4BB7-9BBD-977C32F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7BD-EB04-4455-A1D7-4146D22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A5C-CB4E-4918-9BB6-A581966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ED7-07FB-44E3-8F97-40EBA24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AD8-1FE5-42B9-B615-63AAFD2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A62-789F-4723-A910-5B03E9D2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C095-FC10-4324-999D-E75CD2345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408720" cy="457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0440" y="5445000"/>
            <a:ext cx="591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убочист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8280" y="5645160"/>
            <a:ext cx="89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варежка-прихват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960" y="5776920"/>
            <a:ext cx="879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резиновые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перчат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4373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430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уб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604836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4950000" cy="6310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5200" y="1268280"/>
            <a:ext cx="3177000" cy="31104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Зажи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дл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ресни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7048440" cy="483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20920" y="5230800"/>
            <a:ext cx="330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балет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205840" cy="334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34360" y="4727520"/>
            <a:ext cx="334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5050"/>
                </a:solidFill>
                <a:latin typeface="Arial"/>
              </a:rPr>
              <a:t>стайл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3815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97800" y="5300640"/>
            <a:ext cx="247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пуд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619200"/>
            <a:ext cx="7345440" cy="504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02360" y="5662440"/>
            <a:ext cx="278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пает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696960"/>
            <a:ext cx="8064360" cy="536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4160" y="5516640"/>
            <a:ext cx="782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Спицы для вяза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832360" cy="5494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22160" y="5157720"/>
            <a:ext cx="308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олер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431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8000" y="5229360"/>
            <a:ext cx="571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варёш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500880" cy="6500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45080" y="5445000"/>
            <a:ext cx="196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кра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96000" cy="489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3440" y="5445000"/>
            <a:ext cx="812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Сушилка для ног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408720" cy="6408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7080" y="476280"/>
            <a:ext cx="350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бленд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32560" cy="5802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67840" y="523080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клат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84496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8360" y="5445000"/>
            <a:ext cx="729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Гладильная дос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4773600" cy="477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12560" y="5303880"/>
            <a:ext cx="55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леск для гу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835440" cy="511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9640" y="1774800"/>
            <a:ext cx="335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расл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545080" cy="619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89280" y="5375160"/>
            <a:ext cx="244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хому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816120"/>
            <a:ext cx="7490160" cy="5225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24200" y="5661000"/>
            <a:ext cx="44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ламбрик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20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37640" y="5303880"/>
            <a:ext cx="395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лабуте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66348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84720" y="5373720"/>
            <a:ext cx="41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опат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5689440" cy="468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8520" y="4221000"/>
            <a:ext cx="559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Кондиционер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для бел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2894040" cy="576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88000" y="5546880"/>
            <a:ext cx="29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ёр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337080" cy="407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56360" y="5445000"/>
            <a:ext cx="37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енч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256360" cy="413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3280" y="547992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молоток для мя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21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9160" y="5369040"/>
            <a:ext cx="90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ожка для спагет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960" y="5851440"/>
            <a:ext cx="905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формочки для печен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72360" cy="539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103640" cy="388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41440" y="5300640"/>
            <a:ext cx="43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орон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5:04:04Z</dcterms:created>
  <dc:creator>GYPNORION</dc:creator>
  <dc:description/>
  <dc:language>en-US</dc:language>
  <cp:lastModifiedBy>GYPNORION</cp:lastModifiedBy>
  <dcterms:modified xsi:type="dcterms:W3CDTF">2018-03-04T15:50:19Z</dcterms:modified>
  <cp:revision>2</cp:revision>
  <dc:subject/>
  <dc:title>Слайд 1</dc:title>
</cp:coreProperties>
</file>