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28-EBB1-43F7-9E60-B1D0367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809-B7BA-4494-AA4E-B6E22806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0DF-6245-49AB-8971-D7AB4844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720-684D-4C93-A0E9-6F393ECF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A7C-AC04-497C-ADEE-ECBDA77E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695-29A1-42F5-B19A-BC85661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910-C13B-4229-92BD-B06F252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233-A614-46DB-B4E4-105367FA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79E-CADD-4A99-BBFE-BB67791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7B0-4B55-4D41-A7FF-8A9F386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0C7-BB9A-49F6-A9C5-5E573C0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A49-FAEB-44AD-923C-4196B21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458-8E61-45B8-8DB3-B9F860E0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пользование проектно – исследовательской технологии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ная работ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«Азбука вежливости»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Определение потребности и краткая формулировка задач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абор первоначальных идей и предварительное обсуждение путей реализации поставленной цел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оработка одной или нескольких иде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Изготовление одного или нескольких издел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Обсуждение результатов и оценка продела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c6d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лассный календарь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накомство с календаря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ление на группы. Распределение раб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бор материалов, оформление стенд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пределение вида календар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езентац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«Охрана природы»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роведение экскурс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частие в проведении урока-проекта «Охрана природы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Доклады учащихся на внеклассных мероприятиях о животных и растениях, занесенных в «Красную книгу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онкурс рисунк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Инсценировка «Встреча в лесу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рактическая работа по изготовлению кормушек «Птичья столовая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Изготовление книжек-малышек по темам проект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становка природоохран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b8d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Автобиографические сказк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дерсена»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бор сказ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учение биографии писател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осмотр фильма «Андерсен. Жизнь без любв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очное путешествие по дому-музею Г.Х. Андерс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ценарии для инсценирования сказок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Кроссворды, вопросы по содержанию, толковые словарики сказ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6e1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«Здоровый образ жизни»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1 груп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бор материалов, конкурс рекламы, конкурс рисунков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 группа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бор материалов, кроссворды и загадки, оформление альбома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3 груп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учение поставленного вопроса, сбор текстов для физминуток, анкетирование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4 груп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бор материалов, оформление фотогазеты, описание игр, комплексов утренней гимнастики, инсценировок и стихотворений.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5 групп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бор материалов, изготовление плакатов, инсценирование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5:57:55Z</dcterms:created>
  <dc:creator>User</dc:creator>
  <dc:description/>
  <dc:language>en-US</dc:language>
  <cp:lastModifiedBy>Loner-XP</cp:lastModifiedBy>
  <dcterms:modified xsi:type="dcterms:W3CDTF">2002-12-31T22:46:19Z</dcterms:modified>
  <cp:revision>7</cp:revision>
  <dc:subject/>
  <dc:title>Проектная работа «Азбука вежливости»  1. Определение потребности и краткая формулировка задачи.  2. Набор первоначальных идей и предварительное обсуждение путей реализации поставленной цели. 3. Проработка одной или нескольких идей.  4. Изготовление одного или нескольких изделий. 5. обсуждение результатов и оценка проделанной работы.</dc:title>
</cp:coreProperties>
</file>