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31.jpeg" ContentType="image/jpeg"/>
  <Override PartName="/ppt/media/image35.jpeg" ContentType="image/jpeg"/>
  <Override PartName="/ppt/media/image48.wmf" ContentType="image/x-wmf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3.jpeg" ContentType="image/jpeg"/>
  <Override PartName="/ppt/media/image49.wmf" ContentType="image/x-wmf"/>
  <Override PartName="/ppt/media/image6.png" ContentType="image/png"/>
  <Override PartName="/ppt/media/image13.jpeg" ContentType="image/jpeg"/>
  <Override PartName="/ppt/media/image5.png" ContentType="image/pn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CCF7-0210-4342-9A84-2157F364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430-2DDE-49FF-A9F8-0CEC34DC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DBD9-D91D-42A1-8FE9-7AD407F8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D1D-D88C-4AF3-AAF8-6CD22D98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FAF-AD38-4345-A0AE-C7D8B5F8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8156-5C2E-44B4-B49F-F029CFDD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332-295D-401C-8B03-57E22972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FB91-6700-4A60-8FD2-56F0AB79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1700-0042-4EEB-A49C-1CB7185B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F66-F5AF-480F-ADBC-599DA7CB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F08-7606-4B80-9F6C-9B392F7C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443-2DDF-42B1-B757-811A98C8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E067-15CD-4971-8920-88DF4F4F8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знерский детский сад общеразвивающего вида №5 «Сказка»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4005360"/>
            <a:ext cx="7345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и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атель:Н.И. Дериглаз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гопед:  А.С. Самигул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знер 2017-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2276640"/>
            <a:ext cx="6553080" cy="14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99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чевая мозаика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99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Ожидаемый результа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507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возрастание интереса у детей к играм, развивающим мелкую мотори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значительное повышение внимания и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ложительная динамика в развитии мелкой моторики, экспрессивной ре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акопление впечатлений, личного опы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обогащение эмоциональной сфе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активизация познавательно - речевых и художественных способно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риобретение детьми начальных навыков диалогического 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этап – подготовительны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Изучение тематики, формулировка проблемы. Поиск эффективных, нетрадиционных технологий и методик по развитию мелкой моторики рук и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ыбор путей реализации 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дбор литературы, изучение опыта исследов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Мониторинг сформированности мелкой моторики рук и речи детей в начале проекта. Выявление отклонения в развитии тонких движений пальцев рук детей и сформированности речи, планирование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этап - основно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оставление перспективного плана работы по развитию мелкой моторики рук и речи на основе тематического планирования с подбором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атериа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пражнения с элементами самомассаж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пражнения для кисти ру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гры и упражнения с различными предме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атические упраж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инамические упраж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 игры с бизиборда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ключение речевых пальчиковых игр в разные режимные момен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полнение развивающей среды в группе играми и пособиями для развития мелкой моторики и речи в непосредственно - образовательной и самостоя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гры с предметами, мозаикой,  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пазл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6652200">
            <a:off x="1850040" y="3415320"/>
            <a:ext cx="3346200" cy="2509920"/>
          </a:xfrm>
          <a:prstGeom prst="rect">
            <a:avLst/>
          </a:prstGeom>
          <a:ln w="31680">
            <a:solidFill>
              <a:srgbClr val="33cccc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5247000">
            <a:off x="6030360" y="3697200"/>
            <a:ext cx="3300480" cy="2475000"/>
          </a:xfrm>
          <a:prstGeom prst="rect">
            <a:avLst/>
          </a:prstGeom>
          <a:ln w="31680">
            <a:solidFill>
              <a:srgbClr val="ffcc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6396000">
            <a:off x="4309920" y="1458720"/>
            <a:ext cx="3252600" cy="2440080"/>
          </a:xfrm>
          <a:prstGeom prst="rect">
            <a:avLst/>
          </a:prstGeom>
          <a:ln w="31680">
            <a:solidFill>
              <a:srgbClr val="339966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4989600">
            <a:off x="-87840" y="1608840"/>
            <a:ext cx="3297240" cy="2473200"/>
          </a:xfrm>
          <a:prstGeom prst="rect">
            <a:avLst/>
          </a:prstGeom>
          <a:ln w="31680">
            <a:solidFill>
              <a:srgbClr val="ff3399"/>
            </a:solidFill>
            <a:miter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rot="4180200">
            <a:off x="271080" y="3481200"/>
            <a:ext cx="3300480" cy="2474640"/>
          </a:xfrm>
          <a:prstGeom prst="rect">
            <a:avLst/>
          </a:prstGeom>
          <a:ln w="31680">
            <a:solidFill>
              <a:srgbClr val="339966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rot="4148400">
            <a:off x="3931200" y="3421440"/>
            <a:ext cx="3396960" cy="2548080"/>
          </a:xfrm>
          <a:prstGeom prst="rect">
            <a:avLst/>
          </a:prstGeom>
          <a:ln w="31680">
            <a:solidFill>
              <a:srgbClr val="ffcc00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оительные игры,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констру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 rot="6418800">
            <a:off x="5587920" y="973080"/>
            <a:ext cx="3394080" cy="2546280"/>
          </a:xfrm>
          <a:prstGeom prst="rect">
            <a:avLst/>
          </a:prstGeom>
          <a:ln w="31680">
            <a:solidFill>
              <a:srgbClr val="ff3399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692360" y="1484280"/>
            <a:ext cx="3487680" cy="2616120"/>
          </a:xfrm>
          <a:prstGeom prst="rect">
            <a:avLst/>
          </a:prstGeom>
          <a:ln w="31680">
            <a:solidFill>
              <a:srgbClr val="3366ff"/>
            </a:solidFill>
            <a:miter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ного вида шнуро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4928400">
            <a:off x="14040" y="1937880"/>
            <a:ext cx="3630600" cy="2722680"/>
          </a:xfrm>
          <a:prstGeom prst="rect">
            <a:avLst/>
          </a:prstGeom>
          <a:ln w="31680">
            <a:solidFill>
              <a:srgbClr val="3366ff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 rot="6288000">
            <a:off x="2129760" y="2485800"/>
            <a:ext cx="3973680" cy="2979720"/>
          </a:xfrm>
          <a:prstGeom prst="rect">
            <a:avLst/>
          </a:prstGeom>
          <a:ln w="31680">
            <a:solidFill>
              <a:srgbClr val="ff3399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 rot="5729400">
            <a:off x="4966920" y="2098440"/>
            <a:ext cx="4329000" cy="3246480"/>
          </a:xfrm>
          <a:prstGeom prst="rect">
            <a:avLst/>
          </a:prstGeom>
          <a:ln w="31680">
            <a:solidFill>
              <a:srgbClr val="33cccc"/>
            </a:solidFill>
            <a:miter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гры с бумагой; с прищепками; природным материалом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пка, рис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 rot="6763200">
            <a:off x="2854800" y="3202920"/>
            <a:ext cx="3371760" cy="2528640"/>
          </a:xfrm>
          <a:prstGeom prst="rect">
            <a:avLst/>
          </a:prstGeom>
          <a:ln w="31680">
            <a:solidFill>
              <a:srgbClr val="ffcc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 rot="4549800">
            <a:off x="200160" y="2184480"/>
            <a:ext cx="3289320" cy="2466720"/>
          </a:xfrm>
          <a:prstGeom prst="rect">
            <a:avLst/>
          </a:prstGeom>
          <a:ln w="31680">
            <a:solidFill>
              <a:srgbClr val="339966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219640" y="1557360"/>
            <a:ext cx="3541680" cy="2657520"/>
          </a:xfrm>
          <a:prstGeom prst="rect">
            <a:avLst/>
          </a:prstGeom>
          <a:ln w="31680">
            <a:solidFill>
              <a:srgbClr val="ff3399"/>
            </a:solidFill>
            <a:miter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льчиковые игры, пальчиковый теа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3297240" cy="2473200"/>
          </a:xfrm>
          <a:prstGeom prst="rect">
            <a:avLst/>
          </a:prstGeom>
          <a:ln w="31680">
            <a:solidFill>
              <a:srgbClr val="ffcc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3343320" cy="2506680"/>
          </a:xfrm>
          <a:prstGeom prst="rect">
            <a:avLst/>
          </a:prstGeom>
          <a:ln w="31680">
            <a:solidFill>
              <a:srgbClr val="33cccc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 rot="4036200">
            <a:off x="1194840" y="3852720"/>
            <a:ext cx="2821320" cy="2116440"/>
          </a:xfrm>
          <a:prstGeom prst="rect">
            <a:avLst/>
          </a:prstGeom>
          <a:ln w="31680">
            <a:solidFill>
              <a:srgbClr val="3366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076720" y="4005360"/>
            <a:ext cx="2511360" cy="2546280"/>
          </a:xfrm>
          <a:prstGeom prst="rect">
            <a:avLst/>
          </a:prstGeom>
          <a:ln w="31680">
            <a:solidFill>
              <a:srgbClr val="ff00ff"/>
            </a:solidFill>
            <a:miter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6110400">
            <a:off x="3929760" y="2199240"/>
            <a:ext cx="4567320" cy="3425760"/>
          </a:xfrm>
          <a:prstGeom prst="rect">
            <a:avLst/>
          </a:prstGeom>
          <a:ln w="31680">
            <a:solidFill>
              <a:srgbClr val="33cccc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жимные момен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 rot="5049600">
            <a:off x="388080" y="2140560"/>
            <a:ext cx="4664160" cy="3497040"/>
          </a:xfrm>
          <a:prstGeom prst="rect">
            <a:avLst/>
          </a:prstGeom>
          <a:ln w="31680">
            <a:solidFill>
              <a:srgbClr val="ff3399"/>
            </a:solidFill>
            <a:miter/>
          </a:ln>
        </p:spPr>
      </p:pic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с родителя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610080"/>
                <a:gridCol w="461952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кетир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Развити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лкой моторики в раннем возрасте»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Речь на кончиках пальцев»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ьское собр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накомление с проект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инар-практику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олшебны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ьчики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опрос - ответ»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ые бесед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6194400">
            <a:off x="4380120" y="1603800"/>
            <a:ext cx="4819680" cy="3427560"/>
          </a:xfrm>
          <a:prstGeom prst="rect">
            <a:avLst/>
          </a:prstGeom>
          <a:ln w="31680">
            <a:solidFill>
              <a:srgbClr val="ff339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54007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Истоки способностей и дарований детей на кончиках их пальцев. Чем больше уверенности в движениях детской руки, тем тоньше взаимодействие руки с орудием труда, сложнее движения, ярче творческая стихия детского разума. А чем больше мастерства в детской руке, тем ребенок умне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. А. Сухом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4038480" cy="3129120"/>
          </a:xfrm>
          <a:prstGeom prst="rect">
            <a:avLst/>
          </a:prstGeom>
          <a:ln w="31680">
            <a:solidFill>
              <a:srgbClr val="33cccc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284720" y="2924280"/>
            <a:ext cx="4038480" cy="3090600"/>
          </a:xfrm>
          <a:prstGeom prst="rect">
            <a:avLst/>
          </a:prstGeom>
          <a:ln w="31680">
            <a:solidFill>
              <a:srgbClr val="333399"/>
            </a:solidFill>
            <a:miter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 rot="6511200">
            <a:off x="4216680" y="2270880"/>
            <a:ext cx="4567320" cy="3425760"/>
          </a:xfrm>
          <a:prstGeom prst="rect">
            <a:avLst/>
          </a:prstGeom>
          <a:ln w="31680">
            <a:solidFill>
              <a:srgbClr val="ff3399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готовление пособий по развитию мелкой моторики по ходу реализации проек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 rot="4724400">
            <a:off x="15120" y="2295360"/>
            <a:ext cx="4761000" cy="3570120"/>
          </a:xfrm>
          <a:prstGeom prst="rect">
            <a:avLst/>
          </a:prstGeom>
          <a:ln w="31680">
            <a:solidFill>
              <a:srgbClr val="33cccc"/>
            </a:solidFill>
            <a:miter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5142600">
            <a:off x="-127440" y="1935720"/>
            <a:ext cx="4186080" cy="3139920"/>
          </a:xfrm>
          <a:prstGeom prst="rect">
            <a:avLst/>
          </a:prstGeom>
          <a:ln w="31680">
            <a:solidFill>
              <a:srgbClr val="ffcc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 rot="5856000">
            <a:off x="2923200" y="900720"/>
            <a:ext cx="3970440" cy="2977920"/>
          </a:xfrm>
          <a:prstGeom prst="rect">
            <a:avLst/>
          </a:prstGeom>
          <a:ln w="31680">
            <a:solidFill>
              <a:srgbClr val="ff3399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 rot="5947200">
            <a:off x="5479920" y="3168360"/>
            <a:ext cx="3684600" cy="2764080"/>
          </a:xfrm>
          <a:prstGeom prst="rect">
            <a:avLst/>
          </a:prstGeom>
          <a:ln w="31680">
            <a:solidFill>
              <a:srgbClr val="33cccc"/>
            </a:solidFill>
            <a:miter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5133000">
            <a:off x="356760" y="1234440"/>
            <a:ext cx="3757680" cy="2818080"/>
          </a:xfrm>
          <a:prstGeom prst="rect">
            <a:avLst/>
          </a:prstGeom>
          <a:ln w="31680">
            <a:solidFill>
              <a:srgbClr val="33cccc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rot="5891400">
            <a:off x="5685120" y="1090800"/>
            <a:ext cx="3195360" cy="2397240"/>
          </a:xfrm>
          <a:prstGeom prst="rect">
            <a:avLst/>
          </a:prstGeom>
          <a:ln w="31680">
            <a:solidFill>
              <a:srgbClr val="ff3399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348000" y="2565360"/>
            <a:ext cx="3051360" cy="4067280"/>
          </a:xfrm>
          <a:prstGeom prst="rect">
            <a:avLst/>
          </a:prstGeom>
          <a:ln w="31680">
            <a:solidFill>
              <a:srgbClr val="3366ff"/>
            </a:solidFill>
            <a:miter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4664160" cy="3497040"/>
          </a:xfrm>
          <a:prstGeom prst="rect">
            <a:avLst/>
          </a:prstGeom>
          <a:ln w="31680">
            <a:solidFill>
              <a:srgbClr val="ff00ff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364000" y="1341360"/>
            <a:ext cx="3370320" cy="4494240"/>
          </a:xfrm>
          <a:prstGeom prst="rect">
            <a:avLst/>
          </a:prstGeom>
          <a:ln w="31680">
            <a:solidFill>
              <a:srgbClr val="33cccc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476360" y="4076640"/>
            <a:ext cx="3444840" cy="2584440"/>
          </a:xfrm>
          <a:prstGeom prst="rect">
            <a:avLst/>
          </a:prstGeom>
          <a:ln w="31680">
            <a:solidFill>
              <a:srgbClr val="cc99ff"/>
            </a:solidFill>
            <a:miter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 rot="631200">
            <a:off x="4140360" y="3068640"/>
            <a:ext cx="4376520" cy="3282840"/>
          </a:xfrm>
          <a:prstGeom prst="rect">
            <a:avLst/>
          </a:prstGeom>
          <a:ln w="31680">
            <a:solidFill>
              <a:srgbClr val="33cccc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 rot="20796000">
            <a:off x="250920" y="836280"/>
            <a:ext cx="4618080" cy="3463920"/>
          </a:xfrm>
          <a:prstGeom prst="rect">
            <a:avLst/>
          </a:prstGeom>
          <a:ln w="31680">
            <a:solidFill>
              <a:srgbClr val="ff99cc"/>
            </a:solidFill>
            <a:miter/>
          </a:ln>
        </p:spPr>
      </p:pic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141720"/>
            <a:ext cx="4422600" cy="3316320"/>
          </a:xfrm>
          <a:prstGeom prst="rect">
            <a:avLst/>
          </a:prstGeom>
          <a:ln w="31680">
            <a:solidFill>
              <a:srgbClr val="ffcc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 rot="20743200">
            <a:off x="468000" y="1125360"/>
            <a:ext cx="4664160" cy="3497400"/>
          </a:xfrm>
          <a:prstGeom prst="rect">
            <a:avLst/>
          </a:prstGeom>
          <a:ln w="31680">
            <a:solidFill>
              <a:srgbClr val="33cccc"/>
            </a:solidFill>
            <a:miter/>
          </a:ln>
        </p:spPr>
      </p:pic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3 этап – заключите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одведение итогов и анали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вторный мониторинг в конце учебного года. Определить эффективность проводимой работы в развитии тонких движений пальцев рук, в формировании психоречевого развития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анкетирование родителей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для определения результативности проделанной работы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ыставка дидактических игр и пособий по развитию мелкой мото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остановка задачи на будуще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ация проекта через разные виды дет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вень развития мелкой моторики у детей младшего дошкольного возраста</a:t>
            </a:r>
            <a:br>
              <a:rPr sz="32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о методике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О. Озерецкого и Н.И. Гуревича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91520" cy="4419720"/>
        </p:xfrm>
        <a:graphic>
          <a:graphicData uri="http://schemas.openxmlformats.org/drawingml/2006/table">
            <a:tbl>
              <a:tblPr/>
              <a:tblGrid>
                <a:gridCol w="5627520"/>
                <a:gridCol w="1366920"/>
                <a:gridCol w="129708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нарушение кинестетического праксис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ая рука - правое полушарие правая рука или обе - теменная.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нарушение зрительно-пространственной организации движ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односторонняя пространственная агноз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нертность движений (лобные доли).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нарушение кинестетической основы дви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1880" y="274680"/>
          <a:ext cx="8220240" cy="585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1880" y="274680"/>
                    <a:ext cx="822024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частники проект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дети, воспитатели, логопед,  род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озрастная групп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дети младшего до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ип проект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развивающий, групповой, творческо-исследователь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рок реализации проекта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лгосрочный (Сентябрь 2017 – май 2018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полнилась развивающая среда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адились контакты с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изились нарушения развития мелкой мото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ловия для развития речи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4005360"/>
            <a:ext cx="1008000" cy="93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395280" y="907920"/>
          <a:ext cx="8353440" cy="5597640"/>
        </p:xfrm>
        <a:graphic>
          <a:graphicData uri="http://schemas.openxmlformats.org/drawingml/2006/table">
            <a:tbl>
              <a:tblPr/>
              <a:tblGrid>
                <a:gridCol w="4753080"/>
                <a:gridCol w="1800000"/>
                <a:gridCol w="180036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ые ориенти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еет активной и пассивной речью, включённой в общение; может обращаться с вопросами и просьбами, понимает речь взрослых; знает названия окружающих предметов и игрушек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й-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-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ий-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й-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-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ий-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461880" y="274680"/>
          <a:ext cx="8220240" cy="585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1880" y="274680"/>
                    <a:ext cx="822024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евременная работа по развитию мелкой моторики способствует устранению нарушений развития мелкой моторики, что в свою очередь создаёт благоприятные условия для развития речи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26920" y="620640"/>
            <a:ext cx="7632720" cy="22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 практическая значимост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ек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920" y="1268280"/>
            <a:ext cx="8353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33cc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33cc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33cc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33cc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 внимание!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33cc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Актуальность темы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мелкой моторики, т. е. гибкость и точность движений пальцев рук, и тактильной чувствительности – это мощный стимул развития у детей восприятия, внимания, памяти, мышления и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ти, у которых лучше развита мелкая моторика рук, имеют более развитый мозг, особенно те отделы, которые отвечают за речь, так как  пальцы рук наделены большим количеством рецепторов, посылающие импульсы в центральную нервную систему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вестный исследователь детской речи М. Кольцов отмечал, что кисть руки надо рассматривать как орган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 развитие движений пальцев рук соответствует возрасту, то и речевое развитие ребёнка будет в пределах н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Пробле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44956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оследнее время в дошкольных образовательных учреждениях наблюдается увеличение количества детей, имеющих проблемы в речевом развитии. Проведённые диагностические исследования показали, что у таких детей значительно отстаёт от нормы и развитие мелкой мо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5814000">
            <a:off x="4642560" y="2133720"/>
            <a:ext cx="4038840" cy="3028680"/>
          </a:xfrm>
          <a:prstGeom prst="rect">
            <a:avLst/>
          </a:prstGeom>
          <a:ln w="31680">
            <a:solidFill>
              <a:srgbClr val="ff00ff"/>
            </a:solidFill>
            <a:miter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37680" y="409320"/>
            <a:ext cx="8323200" cy="5820120"/>
            <a:chOff x="337680" y="409320"/>
            <a:chExt cx="8323200" cy="5820120"/>
          </a:xfrm>
        </p:grpSpPr>
        <p:sp>
          <p:nvSpPr>
            <p:cNvPr id="53" name="_s8212"/>
            <p:cNvSpPr/>
            <p:nvPr/>
          </p:nvSpPr>
          <p:spPr>
            <a:xfrm flipH="1" flipV="1">
              <a:off x="2439720" y="3058920"/>
              <a:ext cx="1035000" cy="244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8211"/>
            <p:cNvSpPr/>
            <p:nvPr/>
          </p:nvSpPr>
          <p:spPr>
            <a:xfrm>
              <a:off x="337680" y="2035440"/>
              <a:ext cx="2157480" cy="1565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социаль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коммуникативно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развитие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8210"/>
            <p:cNvSpPr/>
            <p:nvPr/>
          </p:nvSpPr>
          <p:spPr>
            <a:xfrm flipH="1">
              <a:off x="3226320" y="4173840"/>
              <a:ext cx="640080" cy="640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8209"/>
            <p:cNvSpPr/>
            <p:nvPr/>
          </p:nvSpPr>
          <p:spPr>
            <a:xfrm>
              <a:off x="1514880" y="4663800"/>
              <a:ext cx="2157480" cy="1565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физическо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развитие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8208"/>
            <p:cNvSpPr/>
            <p:nvPr/>
          </p:nvSpPr>
          <p:spPr>
            <a:xfrm>
              <a:off x="5127840" y="4173840"/>
              <a:ext cx="644040" cy="640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8207"/>
            <p:cNvSpPr/>
            <p:nvPr/>
          </p:nvSpPr>
          <p:spPr>
            <a:xfrm>
              <a:off x="5325480" y="4663800"/>
              <a:ext cx="2158200" cy="15656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художествен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эстетическо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развитие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8206"/>
            <p:cNvSpPr/>
            <p:nvPr/>
          </p:nvSpPr>
          <p:spPr>
            <a:xfrm flipV="1">
              <a:off x="5519880" y="3056760"/>
              <a:ext cx="1038600" cy="246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8205"/>
            <p:cNvSpPr/>
            <p:nvPr/>
          </p:nvSpPr>
          <p:spPr>
            <a:xfrm>
              <a:off x="6503400" y="2035440"/>
              <a:ext cx="2157480" cy="15656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познавательно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развитие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8204"/>
            <p:cNvSpPr/>
            <p:nvPr/>
          </p:nvSpPr>
          <p:spPr>
            <a:xfrm flipV="1">
              <a:off x="4497840" y="1972080"/>
              <a:ext cx="0" cy="790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8203"/>
            <p:cNvSpPr/>
            <p:nvPr/>
          </p:nvSpPr>
          <p:spPr>
            <a:xfrm>
              <a:off x="3420000" y="409320"/>
              <a:ext cx="2157480" cy="15649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речевое 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развитие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8202"/>
            <p:cNvSpPr/>
            <p:nvPr/>
          </p:nvSpPr>
          <p:spPr>
            <a:xfrm>
              <a:off x="3420000" y="2763000"/>
              <a:ext cx="2157480" cy="15656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Образовательные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област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ать и усовершенствовать условия для развития мелкой моторики, способствующие развитию реч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195640" y="2708280"/>
            <a:ext cx="4405320" cy="3305160"/>
          </a:xfrm>
          <a:prstGeom prst="rect">
            <a:avLst/>
          </a:prstGeom>
          <a:ln w="31680">
            <a:solidFill>
              <a:srgbClr val="33cccc"/>
            </a:solidFill>
            <a:miter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Задач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добрать и оформить дидактические игры и пособия по развитию мелкой моторики рук, нацеленных на формирование и развитие ре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 развивать мелкую моторику пальцев рук у детей раннего возраста, используя разнообразные формы, методы и приё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ривлечь родителей к изгото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вающей среды в группе по 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лкой моторики и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DownRibbonSharp"/>
          <p:cNvSpPr/>
          <p:nvPr/>
        </p:nvSpPr>
        <p:spPr>
          <a:xfrm>
            <a:off x="611280" y="476280"/>
            <a:ext cx="7632720" cy="1219320"/>
          </a:xfrm>
          <a:custGeom>
            <a:avLst/>
            <a:gdLst>
              <a:gd name="textAreaLeft" fmla="*/ 1908000 w 7632720"/>
              <a:gd name="textAreaRight" fmla="*/ 5724720 w 7632720"/>
              <a:gd name="textAreaTop" fmla="*/ 15228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2700"/>
                </a:moveTo>
                <a:lnTo>
                  <a:pt x="5400" y="2700"/>
                </a:lnTo>
                <a:lnTo>
                  <a:pt x="5400" y="18900"/>
                </a:lnTo>
              </a:path>
              <a:path fill="none" w="21600" h="21600">
                <a:moveTo>
                  <a:pt x="5400" y="2700"/>
                </a:moveTo>
                <a:lnTo>
                  <a:pt x="8100" y="0"/>
                </a:lnTo>
              </a:path>
              <a:path fill="none" w="21600" h="21600">
                <a:moveTo>
                  <a:pt x="13500" y="2700"/>
                </a:moveTo>
                <a:lnTo>
                  <a:pt x="16200" y="2700"/>
                </a:lnTo>
                <a:lnTo>
                  <a:pt x="16200" y="18900"/>
                </a:lnTo>
              </a:path>
              <a:path fill="none" w="21600" h="21600">
                <a:moveTo>
                  <a:pt x="16200" y="2700"/>
                </a:moveTo>
                <a:lnTo>
                  <a:pt x="13500" y="0"/>
                </a:lnTo>
              </a:path>
            </a:pathLst>
          </a:custGeom>
          <a:gradFill rotWithShape="0">
            <a:gsLst>
              <a:gs pos="0">
                <a:srgbClr val="d5e6e7">
                  <a:alpha val="91372"/>
                </a:srgbClr>
              </a:gs>
              <a:gs pos="100000">
                <a:srgbClr val="bbe0e3">
                  <a:alpha val="9215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Гипотез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416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витие мелкой моторики в  младшем дошкольном возрасте является основой в развитии речи 2-3 летних детей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2:37:26Z</dcterms:created>
  <dc:creator>Наталья</dc:creator>
  <dc:description/>
  <dc:language>en-US</dc:language>
  <cp:lastModifiedBy>Наталья</cp:lastModifiedBy>
  <dcterms:modified xsi:type="dcterms:W3CDTF">2020-01-07T19:40:39Z</dcterms:modified>
  <cp:revision>4</cp:revision>
  <dc:subject/>
  <dc:title>Речевая мозаика</dc:title>
</cp:coreProperties>
</file>