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A8E3-21B0-4A43-A864-6E727BA37D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F4B4-8A56-43D6-A597-2C1D770F1B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5387-BD60-447F-A6BC-6EA3AAFB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7329-27C9-4F12-9473-D52840F5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CFED-150F-44D6-9E6B-3E608204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FD31-842A-4F65-B344-984E377F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4E23-B9C9-417F-A1F9-CB411581C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CFAA-ED71-4839-BB73-B649F653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622E-F39F-4297-97A5-62D4DF3A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4C19-48F7-4238-B2D7-C3D948E9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F14B-F580-4BB4-9BA9-8203E370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5557-5C36-4141-9CAB-7AD8CE5F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86B4-6B84-44BA-8D95-5089C7BD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5CD7-1C89-4F62-A61C-37FD0DCF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719A-BC1F-4790-89AC-6701AA32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3764-2261-4215-9581-7A69A946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C08E-ED40-4591-9B88-38B12B19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46BA-1CB5-4FA6-BE1D-38E8561D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B1DB-3BFD-4C81-AB61-83D711FB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D061-C52A-4018-B89F-8A59F52E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0ABA-A8C7-4F20-A958-772790BE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EE05-C231-4F41-B968-C8818748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36B5-23B4-42C9-A4F3-073BC919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8139-8E15-45EB-9C3A-9BF6E32F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C94A-E6FF-416C-A6F2-3C8F7881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7766-94DF-4D18-8A2F-CD0C4B1D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FADE-7C65-45A4-98C4-1C70E2E59315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CF27-58A9-4B2B-9CC1-E0826EB36B4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0422-9ECA-447B-8E4F-935EDF0DAF70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68A7-5A11-4391-AAF2-0E9B3ADA796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1341000"/>
            <a:ext cx="7623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3399"/>
                </a:solidFill>
                <a:latin typeface="Garamond"/>
              </a:rPr>
              <a:t>Решение систем линейных уравнений</a:t>
            </a:r>
            <a:br>
              <a:rPr sz="5000"/>
            </a:b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79280" y="4005000"/>
            <a:ext cx="655308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онятия систем линейных урав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ричный метод решения систем линейных урав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 Крам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 Гау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Дата 1"/>
          <p:cNvSpPr/>
          <p:nvPr/>
        </p:nvSpPr>
        <p:spPr>
          <a:xfrm>
            <a:off x="6804000" y="190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0782-0A56-43F3-A76F-9CB8DECFCE05}" type="datetime">
              <a:rPr b="1" lang="ru-RU" sz="1800" spc="-1" strike="noStrike">
                <a:solidFill>
                  <a:srgbClr val="000000"/>
                </a:solidFill>
                <a:latin typeface="Garamond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99"/>
                </a:solidFill>
                <a:uFillTx/>
                <a:latin typeface="Garamond"/>
              </a:rPr>
              <a:t>Раздел 1. Линейная и векторная алгебра</a:t>
            </a:r>
            <a:br>
              <a:rPr sz="38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"/>
          <p:cNvSpPr/>
          <p:nvPr/>
        </p:nvSpPr>
        <p:spPr>
          <a:xfrm>
            <a:off x="340920" y="965160"/>
            <a:ext cx="46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дана система уравн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Объект 3"/>
              <p:cNvSpPr txBox="1"/>
              <p:nvPr/>
            </p:nvSpPr>
            <p:spPr>
              <a:xfrm>
                <a:off x="4932360" y="1052640"/>
                <a:ext cx="354348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Прямоугольник 4"/>
          <p:cNvSpPr/>
          <p:nvPr/>
        </p:nvSpPr>
        <p:spPr>
          <a:xfrm>
            <a:off x="477000" y="3068640"/>
            <a:ext cx="29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м матриц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Объект 6"/>
              <p:cNvSpPr txBox="1"/>
              <p:nvPr/>
            </p:nvSpPr>
            <p:spPr>
              <a:xfrm>
                <a:off x="755640" y="3716280"/>
                <a:ext cx="197496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Объект 8"/>
              <p:cNvSpPr txBox="1"/>
              <p:nvPr/>
            </p:nvSpPr>
            <p:spPr>
              <a:xfrm>
                <a:off x="3276720" y="3552840"/>
                <a:ext cx="79056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Объект 10"/>
              <p:cNvSpPr txBox="1"/>
              <p:nvPr/>
            </p:nvSpPr>
            <p:spPr>
              <a:xfrm>
                <a:off x="4788000" y="3530520"/>
                <a:ext cx="9363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Прямоугольник 11"/>
          <p:cNvSpPr/>
          <p:nvPr/>
        </p:nvSpPr>
        <p:spPr>
          <a:xfrm>
            <a:off x="503280" y="515772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у уравнений можно запис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99"/>
                </a:solidFill>
                <a:uFillTx/>
                <a:latin typeface="Garamond"/>
              </a:rPr>
              <a:t>Раздел 1. Линейная и векторная алгебра</a:t>
            </a:r>
            <a:br>
              <a:rPr sz="38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"/>
          <p:cNvSpPr/>
          <p:nvPr/>
        </p:nvSpPr>
        <p:spPr>
          <a:xfrm>
            <a:off x="324000" y="98100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матриц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акой системы квадратная, определитель этой матрицы называе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ределителем сист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Если определитель отличен от нуля, то система называе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вырожден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дем решение данной системы, в случае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≠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елаем следующее преобразова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к.   А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= Е, то  Е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 = А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 = А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"/>
          <p:cNvSpPr/>
          <p:nvPr/>
        </p:nvSpPr>
        <p:spPr>
          <a:xfrm>
            <a:off x="3059280" y="4941720"/>
            <a:ext cx="2952720" cy="563760"/>
          </a:xfrm>
          <a:prstGeom prst="rect">
            <a:avLst/>
          </a:prstGeom>
          <a:noFill/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99"/>
                </a:solidFill>
                <a:uFillTx/>
                <a:latin typeface="Garamond"/>
              </a:rPr>
              <a:t>Раздел 1. Линейная и векторная алгебра</a:t>
            </a:r>
            <a:br>
              <a:rPr sz="38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"/>
          <p:cNvSpPr/>
          <p:nvPr/>
        </p:nvSpPr>
        <p:spPr>
          <a:xfrm>
            <a:off x="414360" y="105264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 19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ешить систему уравн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Объект 3"/>
              <p:cNvSpPr txBox="1"/>
              <p:nvPr/>
            </p:nvSpPr>
            <p:spPr>
              <a:xfrm>
                <a:off x="2771640" y="1522440"/>
                <a:ext cx="25005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Объект 5"/>
              <p:cNvSpPr txBox="1"/>
              <p:nvPr/>
            </p:nvSpPr>
            <p:spPr>
              <a:xfrm>
                <a:off x="809640" y="3645000"/>
                <a:ext cx="478800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, B =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, A 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Прямоугольник 8"/>
          <p:cNvSpPr/>
          <p:nvPr/>
        </p:nvSpPr>
        <p:spPr>
          <a:xfrm>
            <a:off x="372960" y="2997360"/>
            <a:ext cx="16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укописные данные 2" descr=""/>
          <p:cNvPicPr/>
          <p:nvPr/>
        </p:nvPicPr>
        <p:blipFill>
          <a:blip r:embed="rId1"/>
          <a:stretch/>
        </p:blipFill>
        <p:spPr>
          <a:xfrm>
            <a:off x="4349880" y="4541760"/>
            <a:ext cx="23760" cy="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99"/>
                </a:solidFill>
                <a:uFillTx/>
                <a:latin typeface="Garamond"/>
              </a:rPr>
              <a:t>Раздел 1. Линейная и векторная алгебра</a:t>
            </a:r>
            <a:br>
              <a:rPr sz="38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740800" cy="1584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422280" y="3284640"/>
            <a:ext cx="81820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99"/>
                </a:solidFill>
                <a:uFillTx/>
                <a:latin typeface="Garamond"/>
              </a:rPr>
              <a:t>Раздел 1. Линейная и векторная алгебра</a:t>
            </a:r>
            <a:br>
              <a:rPr sz="38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365040" y="1052640"/>
            <a:ext cx="8334360" cy="2152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365040" y="3571920"/>
            <a:ext cx="86058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99"/>
                </a:solidFill>
                <a:uFillTx/>
                <a:latin typeface="Garamond"/>
              </a:rPr>
              <a:t>Раздел 1. Линейная и векторная алгебра</a:t>
            </a:r>
            <a:br>
              <a:rPr sz="38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438120" y="1577880"/>
            <a:ext cx="826776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99"/>
                </a:solidFill>
                <a:uFillTx/>
                <a:latin typeface="Garamond"/>
              </a:rPr>
              <a:t>Раздел 1. Линейная и векторная алгебра</a:t>
            </a:r>
            <a:br>
              <a:rPr sz="38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"/>
          <p:cNvSpPr/>
          <p:nvPr/>
        </p:nvSpPr>
        <p:spPr>
          <a:xfrm>
            <a:off x="395280" y="105264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Метод Кра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абриель Крамер (1704-1752) швейцарский математ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"/>
          <p:cNvSpPr/>
          <p:nvPr/>
        </p:nvSpPr>
        <p:spPr>
          <a:xfrm>
            <a:off x="539640" y="206064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й метод также применим только в случае систем линейных уравнений, где число переменных совпадает с числом уравнений. Кроме того, необходимо ввести ограничения на коэффициенты системы. Необходимо, чтобы все уравнения были линейно независимы, т.е. ни одно уравнение не являлось бы линейной комбинацией осталь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этого необходимо, чтобы определитель матрицы системы не равнялся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99"/>
                </a:solidFill>
                <a:uFillTx/>
                <a:latin typeface="Garamond"/>
              </a:rPr>
              <a:t>Раздел 1. Линейная и векторная алгебра</a:t>
            </a:r>
            <a:br>
              <a:rPr sz="38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"/>
          <p:cNvSpPr/>
          <p:nvPr/>
        </p:nvSpPr>
        <p:spPr>
          <a:xfrm>
            <a:off x="395280" y="981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еорема.1.1 (правило Краме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дана система и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равнений 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извест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Объект 3"/>
              <p:cNvSpPr txBox="1"/>
              <p:nvPr/>
            </p:nvSpPr>
            <p:spPr>
              <a:xfrm>
                <a:off x="3203640" y="1916280"/>
                <a:ext cx="266364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9" name="Прямоугольник 4"/>
          <p:cNvSpPr/>
          <p:nvPr/>
        </p:nvSpPr>
        <p:spPr>
          <a:xfrm>
            <a:off x="611280" y="3500280"/>
            <a:ext cx="806436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лучае если определитель системы не равен нулю,  она имеет единственное решение и это решение находится по формул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 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а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пределитель матрицы, получаемой из матрицы системы заменой столбц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олбцом свободных член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99"/>
                </a:solidFill>
                <a:uFillTx/>
                <a:latin typeface="Garamond"/>
              </a:rPr>
              <a:t>Раздел 1. Линейная и векторная алгебра</a:t>
            </a:r>
            <a:br>
              <a:rPr sz="38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"/>
          <p:cNvSpPr/>
          <p:nvPr/>
        </p:nvSpPr>
        <p:spPr>
          <a:xfrm>
            <a:off x="418680" y="981000"/>
            <a:ext cx="56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астном случае, пр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3, получа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Объект 5"/>
              <p:cNvSpPr txBox="1"/>
              <p:nvPr/>
            </p:nvSpPr>
            <p:spPr>
              <a:xfrm>
                <a:off x="517680" y="1463760"/>
                <a:ext cx="27032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Объект 7"/>
              <p:cNvSpPr txBox="1"/>
              <p:nvPr/>
            </p:nvSpPr>
            <p:spPr>
              <a:xfrm>
                <a:off x="539640" y="2781360"/>
                <a:ext cx="19306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Объект 9"/>
              <p:cNvSpPr txBox="1"/>
              <p:nvPr/>
            </p:nvSpPr>
            <p:spPr>
              <a:xfrm>
                <a:off x="2916360" y="2852640"/>
                <a:ext cx="1535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Объект 11"/>
              <p:cNvSpPr txBox="1"/>
              <p:nvPr/>
            </p:nvSpPr>
            <p:spPr>
              <a:xfrm>
                <a:off x="4932360" y="2924280"/>
                <a:ext cx="15476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Объект 13"/>
              <p:cNvSpPr txBox="1"/>
              <p:nvPr/>
            </p:nvSpPr>
            <p:spPr>
              <a:xfrm>
                <a:off x="6875640" y="2924280"/>
                <a:ext cx="166680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Прямоугольник 14"/>
          <p:cNvSpPr/>
          <p:nvPr/>
        </p:nvSpPr>
        <p:spPr>
          <a:xfrm>
            <a:off x="3220920" y="4437000"/>
            <a:ext cx="45720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det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det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det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99"/>
                </a:solidFill>
                <a:uFillTx/>
                <a:latin typeface="Garamond"/>
              </a:rPr>
              <a:t>Раздел 1. Линейная и векторная алгебра</a:t>
            </a:r>
            <a:br>
              <a:rPr sz="38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"/>
          <p:cNvSpPr/>
          <p:nvPr/>
        </p:nvSpPr>
        <p:spPr>
          <a:xfrm>
            <a:off x="324000" y="981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2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ти решение системы уравн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Объект 3"/>
              <p:cNvSpPr txBox="1"/>
              <p:nvPr/>
            </p:nvSpPr>
            <p:spPr>
              <a:xfrm>
                <a:off x="3132000" y="1484280"/>
                <a:ext cx="197820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0" name="Прямоугольник 4"/>
          <p:cNvSpPr/>
          <p:nvPr/>
        </p:nvSpPr>
        <p:spPr>
          <a:xfrm>
            <a:off x="542520" y="3059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99"/>
                </a:solidFill>
                <a:uFillTx/>
                <a:latin typeface="Garamond"/>
              </a:rPr>
              <a:t>Раздел 1. Линейная и векторная алгебра</a:t>
            </a:r>
            <a:br>
              <a:rPr sz="38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"/>
          <p:cNvSpPr/>
          <p:nvPr/>
        </p:nvSpPr>
        <p:spPr>
          <a:xfrm>
            <a:off x="360360" y="836640"/>
            <a:ext cx="835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.4. Системы линейных уравнений: основные понятия и 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395280" y="16686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.1.13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истемой линейных алгебраических уравн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одержащи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авнений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известных, называется система ви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Объект 4"/>
              <p:cNvSpPr txBox="1"/>
              <p:nvPr/>
            </p:nvSpPr>
            <p:spPr>
              <a:xfrm>
                <a:off x="2838600" y="3117960"/>
                <a:ext cx="30351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Прямоугольник 5"/>
          <p:cNvSpPr/>
          <p:nvPr/>
        </p:nvSpPr>
        <p:spPr>
          <a:xfrm>
            <a:off x="485640" y="4581360"/>
            <a:ext cx="81727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1,2,…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1,2,…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зываю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эффициент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ист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чис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– свободными член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извест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еличи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лежащие нахожд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99"/>
                </a:solidFill>
                <a:uFillTx/>
                <a:latin typeface="Garamond"/>
              </a:rPr>
              <a:t>Раздел 1. Линейная и векторная алгебра</a:t>
            </a:r>
            <a:br>
              <a:rPr sz="38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71520" y="1773360"/>
            <a:ext cx="8439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99"/>
                </a:solidFill>
                <a:uFillTx/>
                <a:latin typeface="Garamond"/>
              </a:rPr>
              <a:t>Раздел 1. Линейная и векторная алгебра</a:t>
            </a:r>
            <a:br>
              <a:rPr sz="38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461880" y="1341360"/>
            <a:ext cx="8220240" cy="1695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644400" y="4076640"/>
            <a:ext cx="8010720" cy="145728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1"/>
          <p:cNvSpPr/>
          <p:nvPr/>
        </p:nvSpPr>
        <p:spPr>
          <a:xfrm>
            <a:off x="488880" y="6237360"/>
            <a:ext cx="822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видно, результат совпадает с результатом, полученным выше матричным метод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3"/>
          <a:srcRect l="0" t="81025" r="37947" b="5022"/>
          <a:stretch/>
        </p:blipFill>
        <p:spPr>
          <a:xfrm>
            <a:off x="461880" y="5494320"/>
            <a:ext cx="513072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99"/>
                </a:solidFill>
                <a:uFillTx/>
                <a:latin typeface="Garamond"/>
              </a:rPr>
              <a:t>Раздел 1. Линейная и векторная алгебра</a:t>
            </a:r>
            <a:br>
              <a:rPr sz="38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"/>
          <p:cNvSpPr/>
          <p:nvPr/>
        </p:nvSpPr>
        <p:spPr>
          <a:xfrm>
            <a:off x="395280" y="981000"/>
            <a:ext cx="835344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чание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ема дает достаточное условие совместимости системы, но это условие не является необходимым. Равенство определителя нулю не означает, что система несовмест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чан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ли система однородна, т.е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0, то при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 система имеет единственное нулевое реш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…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0. При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0 система имеет бесконечное множество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428760" y="4292640"/>
            <a:ext cx="81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2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йти решение системы уравн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Объект 4"/>
              <p:cNvSpPr txBox="1"/>
              <p:nvPr/>
            </p:nvSpPr>
            <p:spPr>
              <a:xfrm>
                <a:off x="3059280" y="4869000"/>
                <a:ext cx="216036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99"/>
                </a:solidFill>
                <a:uFillTx/>
                <a:latin typeface="Garamond"/>
              </a:rPr>
              <a:t>Раздел 1. Линейная и векторная алгебра</a:t>
            </a:r>
            <a:br>
              <a:rPr sz="38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"/>
          <p:cNvSpPr/>
          <p:nvPr/>
        </p:nvSpPr>
        <p:spPr>
          <a:xfrm>
            <a:off x="250920" y="112536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70ff"/>
                </a:solidFill>
                <a:latin typeface="Arial"/>
              </a:rPr>
              <a:t>Домашнее 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Теория по конспе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йти решения систем линейных уравнений по формулам Крамера и методом обратной матриц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7"/>
              <p:cNvSpPr txBox="1"/>
              <p:nvPr/>
            </p:nvSpPr>
            <p:spPr>
              <a:xfrm>
                <a:off x="2052720" y="3429000"/>
                <a:ext cx="41734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5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99"/>
                </a:solidFill>
                <a:uFillTx/>
                <a:latin typeface="Garamond"/>
              </a:rPr>
              <a:t>Раздел 1. Линейная и векторная алгебра</a:t>
            </a:r>
            <a:br>
              <a:rPr sz="38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1"/>
          <p:cNvSpPr/>
          <p:nvPr/>
        </p:nvSpPr>
        <p:spPr>
          <a:xfrm>
            <a:off x="395280" y="1052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3. Метод Гау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Карл Фридрих Гаусс (1777-1855) немецкий математ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2"/>
          <p:cNvSpPr/>
          <p:nvPr/>
        </p:nvSpPr>
        <p:spPr>
          <a:xfrm>
            <a:off x="403200" y="1900080"/>
            <a:ext cx="827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тличие от матричного метода и метода Крамера, метод Гаусса может быть применен к системам линейных уравнений с произвольным числом уравнений и неизвестных. Суть метода заключается в последовательном исключении неизвес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99"/>
                </a:solidFill>
                <a:uFillTx/>
                <a:latin typeface="Garamond"/>
              </a:rPr>
              <a:t>Раздел 1. Линейная и векторная алгебра</a:t>
            </a:r>
            <a:br>
              <a:rPr sz="38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"/>
          <p:cNvSpPr/>
          <p:nvPr/>
        </p:nvSpPr>
        <p:spPr>
          <a:xfrm>
            <a:off x="395280" y="981000"/>
            <a:ext cx="83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ема.1.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лементарных преобразованиях система линейных уравнений переходит в равносильн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ема.1.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ую совместную систему линейных уравнений с помощью элементарных преобразований можно привести к каноническому ви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"/>
          <p:cNvSpPr/>
          <p:nvPr/>
        </p:nvSpPr>
        <p:spPr>
          <a:xfrm>
            <a:off x="468360" y="4005360"/>
            <a:ext cx="828036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использовании этих теорем основан метод Гаусса, суть которого состоит в том, что с помощью элементарных преобразований исходную линейную систему приводят либо к системе, содержащей противоречивое уравне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0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…+0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С, (где С≠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и, следовательно, несовместной, либо к систем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нонического ви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99"/>
                </a:solidFill>
                <a:uFillTx/>
                <a:latin typeface="Garamond"/>
              </a:rPr>
              <a:t>Раздел 1. Линейная и векторная алгебра</a:t>
            </a:r>
            <a:br>
              <a:rPr sz="38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324000" y="98100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систему линейных уравн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Объект 4"/>
              <p:cNvSpPr txBox="1"/>
              <p:nvPr/>
            </p:nvSpPr>
            <p:spPr>
              <a:xfrm>
                <a:off x="2916360" y="1471680"/>
                <a:ext cx="280800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5" name="Прямоугольник 5"/>
          <p:cNvSpPr/>
          <p:nvPr/>
        </p:nvSpPr>
        <p:spPr>
          <a:xfrm>
            <a:off x="468360" y="3141720"/>
            <a:ext cx="820728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 этап (прямой ход метода Гаус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Разделим обе части 1–го  уравнения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0, зат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ножим на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ычтем из второго у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ножим на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ычтем из третьего уравнения и т.д., пока все элементы первого столбца не обратятся в ноль, получ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99"/>
                </a:solidFill>
                <a:uFillTx/>
                <a:latin typeface="Garamond"/>
              </a:rPr>
              <a:t>Раздел 1. Линейная и векторная алгебра</a:t>
            </a:r>
            <a:br>
              <a:rPr sz="38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Объект 2"/>
              <p:cNvSpPr txBox="1"/>
              <p:nvPr/>
            </p:nvSpPr>
            <p:spPr>
              <a:xfrm>
                <a:off x="2411280" y="836640"/>
                <a:ext cx="3600720" cy="18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0" name="Прямоугольник 3"/>
          <p:cNvSpPr/>
          <p:nvPr/>
        </p:nvSpPr>
        <p:spPr>
          <a:xfrm>
            <a:off x="324000" y="2565360"/>
            <a:ext cx="7993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новые значения коэффициентов и правых частей, которые получаются после первого ша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99"/>
                </a:solidFill>
                <a:uFillTx/>
                <a:latin typeface="Garamond"/>
              </a:rPr>
              <a:t>Раздел 1. Линейная и векторная алгебра</a:t>
            </a:r>
            <a:br>
              <a:rPr sz="38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358920" y="1052640"/>
            <a:ext cx="842616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далее повторяем эти же действия для второго уравнения системы, потом – для третьего и т.д., пока это возм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 процессе приведения системы к ступенчатому виду появятся нулевые уравнени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0=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то их отбрасывают, а если появится уравнение вид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0=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это свидетельствует о несовместности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Объект 2"/>
              <p:cNvSpPr txBox="1"/>
              <p:nvPr/>
            </p:nvSpPr>
            <p:spPr>
              <a:xfrm>
                <a:off x="2843280" y="4437000"/>
                <a:ext cx="4032360" cy="15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99"/>
                </a:solidFill>
                <a:uFillTx/>
                <a:latin typeface="Garamond"/>
              </a:rPr>
              <a:t>Раздел 1. Линейная и векторная алгебра</a:t>
            </a:r>
            <a:br>
              <a:rPr sz="38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"/>
          <p:cNvSpPr/>
          <p:nvPr/>
        </p:nvSpPr>
        <p:spPr>
          <a:xfrm>
            <a:off x="324000" y="836640"/>
            <a:ext cx="842472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 этап (обратный ход метода Гаус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следнем уравнении выражаем первое неизвестно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ерез остальные неизвестные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подставляе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предпоследнее уравнение и выражае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ерех переменные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 т.д.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азисные неизвест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вободные неизвест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давая свободным неизвестным произвольные значения, получим бесчисленное множество решени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99"/>
                </a:solidFill>
                <a:uFillTx/>
                <a:latin typeface="Garamond"/>
              </a:rPr>
              <a:t>Раздел 1. Линейная и векторная алгебра</a:t>
            </a:r>
            <a:br>
              <a:rPr sz="38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"/>
          <p:cNvSpPr/>
          <p:nvPr/>
        </p:nvSpPr>
        <p:spPr>
          <a:xfrm>
            <a:off x="395280" y="1052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ую систему удобно записывать в компактно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ричной форм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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Объект 3"/>
              <p:cNvSpPr txBox="1"/>
              <p:nvPr/>
            </p:nvSpPr>
            <p:spPr>
              <a:xfrm>
                <a:off x="1692360" y="2852640"/>
                <a:ext cx="5327640" cy="15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Х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В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99"/>
                </a:solidFill>
                <a:uFillTx/>
                <a:latin typeface="Garamond"/>
              </a:rPr>
              <a:t>Раздел 1. Линейная и векторная алгебра</a:t>
            </a:r>
            <a:br>
              <a:rPr sz="38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"/>
          <p:cNvSpPr/>
          <p:nvPr/>
        </p:nvSpPr>
        <p:spPr>
          <a:xfrm>
            <a:off x="324000" y="981000"/>
            <a:ext cx="84247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чани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тупенчатая система оказывается треугольной, т.е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исходная система имеет единственное 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 практике удобней работать не системой, а с ее расширенной матрицей и удобней, чтобы коэффициент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ыл равен 1, для чего уравнения меняют мес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4"/>
          <p:cNvSpPr/>
          <p:nvPr/>
        </p:nvSpPr>
        <p:spPr>
          <a:xfrm>
            <a:off x="395280" y="414972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2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шить систему линейных уравнений методом Гау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Объект 2"/>
              <p:cNvSpPr txBox="1"/>
              <p:nvPr/>
            </p:nvSpPr>
            <p:spPr>
              <a:xfrm>
                <a:off x="3059280" y="4572000"/>
                <a:ext cx="2808000" cy="15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4"/>
          <p:cNvSpPr/>
          <p:nvPr/>
        </p:nvSpPr>
        <p:spPr>
          <a:xfrm>
            <a:off x="468360" y="333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2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шить систему методом Гау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Объект 3"/>
              <p:cNvSpPr txBox="1"/>
              <p:nvPr/>
            </p:nvSpPr>
            <p:spPr>
              <a:xfrm>
                <a:off x="539640" y="795240"/>
                <a:ext cx="18003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Прямоугольник 7"/>
          <p:cNvSpPr/>
          <p:nvPr/>
        </p:nvSpPr>
        <p:spPr>
          <a:xfrm>
            <a:off x="494640" y="184464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SMARTInkShape-Group412"/>
          <p:cNvGrpSpPr/>
          <p:nvPr/>
        </p:nvGrpSpPr>
        <p:grpSpPr>
          <a:xfrm>
            <a:off x="7186680" y="5535720"/>
            <a:ext cx="28440" cy="558720"/>
            <a:chOff x="7186680" y="5535720"/>
            <a:chExt cx="28440" cy="558720"/>
          </a:xfrm>
        </p:grpSpPr>
        <p:sp>
          <p:nvSpPr>
            <p:cNvPr id="260" name="SMARTInkShape-652"/>
            <p:cNvSpPr/>
            <p:nvPr/>
          </p:nvSpPr>
          <p:spPr>
            <a:xfrm>
              <a:off x="7186680" y="5535720"/>
              <a:ext cx="14040" cy="507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4288" h="50008">
                  <a:moveTo>
                    <a:pt x="14287" y="0"/>
                  </a:moveTo>
                  <a:lnTo>
                    <a:pt x="14287" y="0"/>
                  </a:lnTo>
                  <a:lnTo>
                    <a:pt x="14287" y="3792"/>
                  </a:lnTo>
                  <a:lnTo>
                    <a:pt x="7805" y="26409"/>
                  </a:lnTo>
                  <a:lnTo>
                    <a:pt x="6546" y="-27460"/>
                  </a:lnTo>
                  <a:lnTo>
                    <a:pt x="0" y="-1552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SMARTInkShape-653"/>
            <p:cNvSpPr/>
            <p:nvPr/>
          </p:nvSpPr>
          <p:spPr>
            <a:xfrm>
              <a:off x="7200720" y="5937480"/>
              <a:ext cx="14400" cy="156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14289" h="157164">
                  <a:moveTo>
                    <a:pt x="14288" y="0"/>
                  </a:moveTo>
                  <a:lnTo>
                    <a:pt x="14288" y="0"/>
                  </a:lnTo>
                  <a:lnTo>
                    <a:pt x="13494" y="27202"/>
                  </a:lnTo>
                  <a:lnTo>
                    <a:pt x="8137" y="57910"/>
                  </a:lnTo>
                  <a:lnTo>
                    <a:pt x="5158" y="92969"/>
                  </a:lnTo>
                  <a:lnTo>
                    <a:pt x="680" y="127807"/>
                  </a:lnTo>
                  <a:lnTo>
                    <a:pt x="0" y="15716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"/>
          <p:cNvSpPr/>
          <p:nvPr/>
        </p:nvSpPr>
        <p:spPr>
          <a:xfrm>
            <a:off x="395280" y="2602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2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шить систему методом Гау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Объект 3"/>
              <p:cNvSpPr txBox="1"/>
              <p:nvPr/>
            </p:nvSpPr>
            <p:spPr>
              <a:xfrm>
                <a:off x="468360" y="689040"/>
                <a:ext cx="249408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6" name="Прямоугольник 6"/>
          <p:cNvSpPr/>
          <p:nvPr/>
        </p:nvSpPr>
        <p:spPr>
          <a:xfrm>
            <a:off x="614520" y="206064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99"/>
                </a:solidFill>
                <a:uFillTx/>
                <a:latin typeface="Garamond"/>
              </a:rPr>
              <a:t>Раздел 1. Линейная и векторная алгебра</a:t>
            </a:r>
            <a:br>
              <a:rPr sz="38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"/>
          <p:cNvSpPr/>
          <p:nvPr/>
        </p:nvSpPr>
        <p:spPr>
          <a:xfrm>
            <a:off x="395280" y="18900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2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шить систему методом Гау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Объект 3"/>
              <p:cNvSpPr txBox="1"/>
              <p:nvPr/>
            </p:nvSpPr>
            <p:spPr>
              <a:xfrm>
                <a:off x="539640" y="625320"/>
                <a:ext cx="201636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3" name="Прямоугольник 6"/>
          <p:cNvSpPr/>
          <p:nvPr/>
        </p:nvSpPr>
        <p:spPr>
          <a:xfrm>
            <a:off x="686880" y="184464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99"/>
                </a:solidFill>
                <a:uFillTx/>
                <a:latin typeface="Garamond"/>
              </a:rPr>
              <a:t>Раздел 1. Линейная и векторная алгебра</a:t>
            </a:r>
            <a:br>
              <a:rPr sz="38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"/>
          <p:cNvSpPr/>
          <p:nvPr/>
        </p:nvSpPr>
        <p:spPr>
          <a:xfrm>
            <a:off x="270000" y="836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70ff"/>
                </a:solidFill>
                <a:latin typeface="Arial"/>
              </a:rPr>
              <a:t>Домашнее зад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Теория по конспе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Найти решения систем линейных уравнений по формулам Крамера и методом обратной матр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7"/>
              <p:cNvSpPr txBox="1"/>
              <p:nvPr/>
            </p:nvSpPr>
            <p:spPr>
              <a:xfrm>
                <a:off x="2052720" y="2133720"/>
                <a:ext cx="41734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5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7"/>
              <p:cNvSpPr txBox="1"/>
              <p:nvPr/>
            </p:nvSpPr>
            <p:spPr>
              <a:xfrm>
                <a:off x="4284720" y="4149720"/>
                <a:ext cx="26049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1" name="Прямоугольник 8"/>
          <p:cNvSpPr/>
          <p:nvPr/>
        </p:nvSpPr>
        <p:spPr>
          <a:xfrm>
            <a:off x="250920" y="353700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Найти решения систем линейных уравнений методом Гау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Объект 2"/>
              <p:cNvSpPr txBox="1"/>
              <p:nvPr/>
            </p:nvSpPr>
            <p:spPr>
              <a:xfrm>
                <a:off x="1187280" y="4005360"/>
                <a:ext cx="2448000" cy="14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6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99"/>
                </a:solidFill>
                <a:uFillTx/>
                <a:latin typeface="Garamond"/>
              </a:rPr>
              <a:t>Раздел 1. Линейная и векторная алгебра</a:t>
            </a:r>
            <a:br>
              <a:rPr sz="38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"/>
          <p:cNvSpPr/>
          <p:nvPr/>
        </p:nvSpPr>
        <p:spPr>
          <a:xfrm>
            <a:off x="395280" y="907920"/>
            <a:ext cx="8280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14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шением систем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й неизвест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…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и подстановке которых все уравнения системы обращаются в верные равенства. Всякое решение можно записать в виде вектор-столб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Объект 3"/>
              <p:cNvSpPr txBox="1"/>
              <p:nvPr/>
            </p:nvSpPr>
            <p:spPr>
              <a:xfrm>
                <a:off x="6227640" y="2492280"/>
                <a:ext cx="1224000" cy="19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с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с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с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99"/>
                </a:solidFill>
                <a:uFillTx/>
                <a:latin typeface="Garamond"/>
              </a:rPr>
              <a:t>Раздел 1. Линейная и векторная алгебра</a:t>
            </a:r>
            <a:br>
              <a:rPr sz="38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"/>
          <p:cNvSpPr/>
          <p:nvPr/>
        </p:nvSpPr>
        <p:spPr>
          <a:xfrm>
            <a:off x="395280" y="1052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15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енной матрицей системы называется матрица, дополненная столбцами свободных член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Объект 3"/>
              <p:cNvSpPr txBox="1"/>
              <p:nvPr/>
            </p:nvSpPr>
            <p:spPr>
              <a:xfrm>
                <a:off x="2087640" y="2349360"/>
                <a:ext cx="496872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99"/>
                </a:solidFill>
                <a:uFillTx/>
                <a:latin typeface="Garamond"/>
              </a:rPr>
              <a:t>Раздел 1. Линейная и векторная алгебра</a:t>
            </a:r>
            <a:br>
              <a:rPr sz="38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"/>
          <p:cNvSpPr/>
          <p:nvPr/>
        </p:nvSpPr>
        <p:spPr>
          <a:xfrm>
            <a:off x="374760" y="1268280"/>
            <a:ext cx="828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16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уравнений называе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вмест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она имеет хотя бы одно решение,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совмест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она не имеет ни одного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17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ая система называе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ределен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она имеет единственное решение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определен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она имеет более одного реш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решение неопределенной системы называе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астным решением сист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овокупность всех частных решений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щее решение сист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99"/>
                </a:solidFill>
                <a:uFillTx/>
                <a:latin typeface="Garamond"/>
              </a:rPr>
              <a:t>Раздел 1. Линейная и векторная алгебра</a:t>
            </a:r>
            <a:br>
              <a:rPr sz="38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"/>
          <p:cNvSpPr/>
          <p:nvPr/>
        </p:nvSpPr>
        <p:spPr>
          <a:xfrm>
            <a:off x="395280" y="836640"/>
            <a:ext cx="835344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18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е системы называю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вивалентными (равносильным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любое решение первой системы является решением второй и, наоборот, любое решение второй является решением перв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вивалентные преобразования получаются, в частности, при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элементарных преобразованиях систе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ри условии, что преобразования выполняются лишь над строк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я можно менять мест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обе части любого уравнения умножить или разделить на одно и то же число, отличное от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к одному к одному из уравнений прибавить или вычесть из него другое уравн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вычеркнуть уравнение, в котором все коэффициенты при неизвестных и свободный член раны ну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99"/>
                </a:solidFill>
                <a:uFillTx/>
                <a:latin typeface="Garamond"/>
              </a:rPr>
              <a:t>Раздел 1. Линейная и векторная алгебра</a:t>
            </a:r>
            <a:br>
              <a:rPr sz="38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395280" y="90792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19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линейных уравнений называе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инейной системой канонического в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в каждом ее уравнении найдется неизвестное, коэффициент при котором равен 1 и которое отсутствует во всех других уравнен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Объект 3"/>
              <p:cNvSpPr txBox="1"/>
              <p:nvPr/>
            </p:nvSpPr>
            <p:spPr>
              <a:xfrm>
                <a:off x="3105000" y="3357720"/>
                <a:ext cx="2934000" cy="20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99"/>
                </a:solidFill>
                <a:uFillTx/>
                <a:latin typeface="Garamond"/>
              </a:rPr>
              <a:t>Раздел 1. Линейная и векторная алгебра</a:t>
            </a:r>
            <a:br>
              <a:rPr sz="3800"/>
            </a:b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"/>
          <p:cNvSpPr/>
          <p:nvPr/>
        </p:nvSpPr>
        <p:spPr>
          <a:xfrm>
            <a:off x="395280" y="1052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.5. Решение систем линейных урав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468360" y="199692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Матричный метод решения систем линейных уравнений (метод обратной матриц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ичный метод применим к решению систем уравнений, где число уравнений равно числу неизвестных. Метод удобен для решения систем невысокого порядка, основан на применении свойств умножения матр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0:08:47Z</dcterms:created>
  <dc:creator>katanova</dc:creator>
  <dc:description/>
  <dc:language>en-US</dc:language>
  <cp:lastModifiedBy>Home</cp:lastModifiedBy>
  <dcterms:modified xsi:type="dcterms:W3CDTF">2020-01-07T09:11:30Z</dcterms:modified>
  <cp:revision>96</cp:revision>
  <dc:subject/>
  <dc:title>Архитектура ЭВМ</dc:title>
</cp:coreProperties>
</file>