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2C7-595C-450D-AD9F-64C00B3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4E7-0D16-4681-9558-5465070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472-B52D-4CD3-8BDF-2453DDED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810-EDF4-4DEE-9272-7873C1C8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82D-B571-4536-97E7-32036733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CBC-A163-4160-B913-91B1518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8F2-E7F0-428D-B721-BECB947D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8A4-2510-4984-820A-5BEAEB1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17D-D186-448B-9ACC-098EA20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50F-314F-4BC9-B7E0-CF9937D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A46-06EA-4C9C-AF5B-31BEFDD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891-36B9-4BE3-89B2-1BB97AC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B88-19C6-4441-957B-73AB19F94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54280" y="3649680"/>
            <a:ext cx="54734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ТЕАТР - ЭТО ВОЛШЕБНЫЙ КРА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В КОТОРОМ РЕБЕНОК РАДУЕТС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ГРАЯ, А В ИГРЕ ОН ПОЗНАЕТ 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Симакова 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дкова 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2040" y="509760"/>
            <a:ext cx="7186680" cy="2519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города Мценска-Детский сад №4</a:t>
            </a:r>
            <a:br>
              <a:rPr sz="2400"/>
            </a:br>
            <a:br>
              <a:rPr sz="2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деятельность в детском саду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7960" y="353880"/>
            <a:ext cx="7820280" cy="10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 Light"/>
              </a:rPr>
              <a:t>В группе организован уголок для театрализованных представлений, спектаклей. В нем располагаютс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 Light"/>
              </a:rPr>
              <a:t>различные виды театров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Picture 3" descr="F:\IMG_20191025_131540.jpg"/>
          <p:cNvPicPr/>
          <p:nvPr/>
        </p:nvPicPr>
        <p:blipFill>
          <a:blip r:embed="rId1"/>
          <a:stretch/>
        </p:blipFill>
        <p:spPr>
          <a:xfrm>
            <a:off x="2071800" y="1236600"/>
            <a:ext cx="467676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7886520" cy="3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Театр на палочках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Picture 3" descr="F:\IMG_20191202_162157.jpg"/>
          <p:cNvPicPr/>
          <p:nvPr/>
        </p:nvPicPr>
        <p:blipFill>
          <a:blip r:embed="rId1"/>
          <a:stretch/>
        </p:blipFill>
        <p:spPr>
          <a:xfrm>
            <a:off x="1434960" y="1065240"/>
            <a:ext cx="68295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Театр бибабо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Picture 5" descr="I:\IMG_20190826_093125.jpg"/>
          <p:cNvPicPr/>
          <p:nvPr/>
        </p:nvPicPr>
        <p:blipFill>
          <a:blip r:embed="rId1"/>
          <a:stretch/>
        </p:blipFill>
        <p:spPr>
          <a:xfrm>
            <a:off x="744480" y="2806560"/>
            <a:ext cx="4792680" cy="359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:\PKF igrushki_СИ-704sim_1.jpg"/>
          <p:cNvPicPr/>
          <p:nvPr/>
        </p:nvPicPr>
        <p:blipFill>
          <a:blip r:embed="rId2"/>
          <a:stretch/>
        </p:blipFill>
        <p:spPr>
          <a:xfrm>
            <a:off x="4524480" y="404640"/>
            <a:ext cx="41097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3240" y="326880"/>
            <a:ext cx="788688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Деревянный театр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79680" y="4416480"/>
            <a:ext cx="1847880" cy="95256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F:\IMG_20191202_160832.jpg"/>
          <p:cNvPicPr/>
          <p:nvPr/>
        </p:nvPicPr>
        <p:blipFill>
          <a:blip r:embed="rId1"/>
          <a:stretch/>
        </p:blipFill>
        <p:spPr>
          <a:xfrm>
            <a:off x="324000" y="2254320"/>
            <a:ext cx="480672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:\IMG_20191202_161215.jpg"/>
          <p:cNvPicPr/>
          <p:nvPr/>
        </p:nvPicPr>
        <p:blipFill>
          <a:blip r:embed="rId2"/>
          <a:stretch/>
        </p:blipFill>
        <p:spPr>
          <a:xfrm>
            <a:off x="5578560" y="1062000"/>
            <a:ext cx="331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382680"/>
            <a:ext cx="788688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Конусный театр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Picture 4" descr="C:\Users\Светлана\Pictures\2_2551ede20821e97e5257d198428d213b_1473754051.jpg"/>
          <p:cNvPicPr/>
          <p:nvPr/>
        </p:nvPicPr>
        <p:blipFill>
          <a:blip r:embed="rId1"/>
          <a:stretch/>
        </p:blipFill>
        <p:spPr>
          <a:xfrm>
            <a:off x="1185840" y="1052640"/>
            <a:ext cx="70581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0000" y="0"/>
            <a:ext cx="78865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Театр банок                   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4" descr="https://www.maam.ru/upload/blogs/54de267dc3c34c8ae2f3429f15ab3a72.jpg.jpg"/>
          <p:cNvPicPr/>
          <p:nvPr/>
        </p:nvPicPr>
        <p:blipFill>
          <a:blip r:embed="rId1"/>
          <a:stretch/>
        </p:blipFill>
        <p:spPr>
          <a:xfrm>
            <a:off x="1231920" y="1365120"/>
            <a:ext cx="6564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220680"/>
            <a:ext cx="788652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Пальчиковый театр                     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10" descr="I:\IMG_20190826_092011.jpg"/>
          <p:cNvPicPr/>
          <p:nvPr/>
        </p:nvPicPr>
        <p:blipFill>
          <a:blip r:embed="rId1"/>
          <a:stretch/>
        </p:blipFill>
        <p:spPr>
          <a:xfrm>
            <a:off x="609480" y="2511360"/>
            <a:ext cx="4205520" cy="315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F:\IMG_20191202_160355.jpg"/>
          <p:cNvPicPr/>
          <p:nvPr/>
        </p:nvPicPr>
        <p:blipFill>
          <a:blip r:embed="rId2"/>
          <a:stretch/>
        </p:blipFill>
        <p:spPr>
          <a:xfrm>
            <a:off x="4975200" y="938160"/>
            <a:ext cx="39798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5320" y="428400"/>
            <a:ext cx="7755120" cy="2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Театр масок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Picture 3" descr="F:\IMG-20191202-WA0000.jpg"/>
          <p:cNvPicPr/>
          <p:nvPr/>
        </p:nvPicPr>
        <p:blipFill>
          <a:blip r:embed="rId1"/>
          <a:stretch/>
        </p:blipFill>
        <p:spPr>
          <a:xfrm>
            <a:off x="779400" y="1736640"/>
            <a:ext cx="3041640" cy="4056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:\IMG-20191202-WA0001.jpg"/>
          <p:cNvPicPr/>
          <p:nvPr/>
        </p:nvPicPr>
        <p:blipFill>
          <a:blip r:embed="rId2"/>
          <a:stretch/>
        </p:blipFill>
        <p:spPr>
          <a:xfrm>
            <a:off x="5137200" y="1163520"/>
            <a:ext cx="3184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Театр ложек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Picture 5" descr="C:\Users\Светлана\Pictures\detsad-134618-1455734521.jpg"/>
          <p:cNvPicPr/>
          <p:nvPr/>
        </p:nvPicPr>
        <p:blipFill>
          <a:blip r:embed="rId1"/>
          <a:stretch/>
        </p:blipFill>
        <p:spPr>
          <a:xfrm>
            <a:off x="1523880" y="12477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364680"/>
            <a:ext cx="788652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Теневой театр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Picture 3" descr="F:\IMG_20191202_161418.jpg"/>
          <p:cNvPicPr/>
          <p:nvPr/>
        </p:nvPicPr>
        <p:blipFill>
          <a:blip r:embed="rId1"/>
          <a:stretch/>
        </p:blipFill>
        <p:spPr>
          <a:xfrm>
            <a:off x="971640" y="1171440"/>
            <a:ext cx="698004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21880" y="693360"/>
            <a:ext cx="8032680" cy="5383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3c0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м  популярным и увлекательным направлением в дошкольном воспитании является театрализованная  деятельность. 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 у них развивается творческое воображение, мышление, речь, умение видеть необычные моменты в обыденн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атрализованная деятельность помогает ребенку преодолеть робость, неуверенность в себе, застенчиво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театр помогает ребенку развиваться всесторон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077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</a:t>
            </a:r>
            <a:r>
              <a:rPr b="0" lang="ru-RU" sz="4000" spc="-1" strike="noStrike">
                <a:solidFill>
                  <a:srgbClr val="843c0c"/>
                </a:solidFill>
                <a:latin typeface="Calibri Light"/>
              </a:rPr>
              <a:t>Спасибо за внимание!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0640" y="180144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образования и воспитания дошкольников средствами театрального искусства актуальна не только как самостоятельный раздел художественно-эстетического воспитания детей, но и как мощное средство социализации детей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 время - время стрессов - все обрастает массой проблем.  Именно поэтому необходимо через театр помочь  ребёнку легче воспринимать окружающий мир и действительность и конечно, прививать любовь к театру, к русскому слову… Важно постоянно стимулировать ребёнка проявлять сочувствие к окружающим его людям, терпеливо относиться даже к странным идеям несвойственным в реальной жизн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364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Цель, 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520560" y="330120"/>
            <a:ext cx="808704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Актуально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3640" y="341280"/>
            <a:ext cx="7886880" cy="711360"/>
          </a:xfrm>
          <a:prstGeom prst="rect">
            <a:avLst/>
          </a:prstGeom>
          <a:solidFill>
            <a:srgbClr val="00e200"/>
          </a:solidFill>
          <a:ln w="9360">
            <a:solidFill>
              <a:srgbClr val="a9d18e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eded"/>
                </a:solidFill>
                <a:latin typeface="Calibri Light"/>
              </a:rPr>
              <a:t>Цель:                                        Задачи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200" y="1353600"/>
            <a:ext cx="38862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цель- это формирование думающего, чувствующего, любящего и активного человека, готового к творчеству в любой области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28880" y="1216080"/>
            <a:ext cx="38862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дошкольного возраста  к искусств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качеств личности, памяти, внимания, мышления, восприятия, творческого воображ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речевого общения, гуманных чув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чувств сотрудничества и взаимопомощ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364680"/>
            <a:ext cx="7900920" cy="9255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Формы организации театральной деятельности: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628560" y="1424160"/>
            <a:ext cx="7902720" cy="4752720"/>
          </a:xfrm>
          <a:prstGeom prst="rect">
            <a:avLst/>
          </a:prstGeom>
          <a:ln w="0">
            <a:noFill/>
          </a:ln>
        </p:spPr>
      </p:pic>
      <p:cxnSp>
        <p:nvCxnSpPr>
          <p:cNvPr id="52" name="Прямая со стрелкой 5"/>
          <p:cNvCxnSpPr/>
          <p:nvPr/>
        </p:nvCxnSpPr>
        <p:spPr>
          <a:xfrm>
            <a:off x="6319440" y="1607760"/>
            <a:ext cx="1080" cy="731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2338200" y="1608120"/>
            <a:ext cx="22680" cy="94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54" name="Прямая со стрелкой 10"/>
          <p:cNvCxnSpPr>
            <a:stCxn id="50" idx="2"/>
          </p:cNvCxnSpPr>
          <p:nvPr/>
        </p:nvCxnSpPr>
        <p:spPr>
          <a:xfrm flipH="1">
            <a:off x="2350800" y="1290240"/>
            <a:ext cx="2242080" cy="515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55" name="Прямая со стрелкой 12"/>
          <p:cNvCxnSpPr>
            <a:stCxn id="50" idx="2"/>
          </p:cNvCxnSpPr>
          <p:nvPr/>
        </p:nvCxnSpPr>
        <p:spPr>
          <a:xfrm>
            <a:off x="4592520" y="1290600"/>
            <a:ext cx="1307520" cy="2577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56" name="Прямая со стрелкой 14"/>
          <p:cNvCxnSpPr/>
          <p:nvPr/>
        </p:nvCxnSpPr>
        <p:spPr>
          <a:xfrm flipH="1" flipV="1">
            <a:off x="4733640" y="3956040"/>
            <a:ext cx="18000" cy="155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57" name="Прямоугольник 15"/>
          <p:cNvSpPr/>
          <p:nvPr/>
        </p:nvSpPr>
        <p:spPr>
          <a:xfrm>
            <a:off x="642960" y="1424160"/>
            <a:ext cx="3668760" cy="2176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5057640" y="1424160"/>
            <a:ext cx="3473640" cy="2176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Самостоятельная театрально-художественная деятельность, театрализованные игры в повседневной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18"/>
          <p:cNvCxnSpPr>
            <a:stCxn id="50" idx="2"/>
          </p:cNvCxnSpPr>
          <p:nvPr/>
        </p:nvCxnSpPr>
        <p:spPr>
          <a:xfrm>
            <a:off x="4592160" y="1290600"/>
            <a:ext cx="142200" cy="2737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60" name="Прямоугольник 19"/>
          <p:cNvSpPr/>
          <p:nvPr/>
        </p:nvSpPr>
        <p:spPr>
          <a:xfrm>
            <a:off x="2476440" y="4121280"/>
            <a:ext cx="4549680" cy="20826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, привлечение главной куклы - Петрушки в решение познавательных задач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58520" y="1037880"/>
            <a:ext cx="7886520" cy="51354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Calibri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3471840" y="2824200"/>
            <a:ext cx="2176560" cy="13888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Формы работ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Прямая со стрелкой 6"/>
          <p:cNvCxnSpPr>
            <a:stCxn id="62" idx="1"/>
          </p:cNvCxnSpPr>
          <p:nvPr/>
        </p:nvCxnSpPr>
        <p:spPr>
          <a:xfrm flipH="1" flipV="1">
            <a:off x="2349000" y="2198160"/>
            <a:ext cx="1442160" cy="8294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64" name="Овал 7"/>
          <p:cNvSpPr/>
          <p:nvPr/>
        </p:nvSpPr>
        <p:spPr>
          <a:xfrm>
            <a:off x="579600" y="1006560"/>
            <a:ext cx="2226960" cy="13716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Театральные игр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9"/>
          <p:cNvCxnSpPr>
            <a:stCxn id="62" idx="0"/>
          </p:cNvCxnSpPr>
          <p:nvPr/>
        </p:nvCxnSpPr>
        <p:spPr>
          <a:xfrm flipV="1">
            <a:off x="4560480" y="1828080"/>
            <a:ext cx="1080" cy="9961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66" name="Овал 10"/>
          <p:cNvSpPr/>
          <p:nvPr/>
        </p:nvSpPr>
        <p:spPr>
          <a:xfrm>
            <a:off x="3471840" y="977760"/>
            <a:ext cx="2176560" cy="1400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Речевые игр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Прямая со стрелкой 12"/>
          <p:cNvCxnSpPr>
            <a:stCxn id="62" idx="7"/>
          </p:cNvCxnSpPr>
          <p:nvPr/>
        </p:nvCxnSpPr>
        <p:spPr>
          <a:xfrm flipV="1">
            <a:off x="5329080" y="2198160"/>
            <a:ext cx="1223280" cy="8294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68" name="Овал 13"/>
          <p:cNvSpPr/>
          <p:nvPr/>
        </p:nvSpPr>
        <p:spPr>
          <a:xfrm>
            <a:off x="6232680" y="1006560"/>
            <a:ext cx="2344680" cy="15048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Прямая со стрелкой 15"/>
          <p:cNvCxnSpPr>
            <a:endCxn id="68" idx="3"/>
          </p:cNvCxnSpPr>
          <p:nvPr/>
        </p:nvCxnSpPr>
        <p:spPr>
          <a:xfrm>
            <a:off x="6429240" y="2198520"/>
            <a:ext cx="146880" cy="92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70" name="Прямая со стрелкой 22"/>
          <p:cNvCxnSpPr>
            <a:stCxn id="62" idx="6"/>
          </p:cNvCxnSpPr>
          <p:nvPr/>
        </p:nvCxnSpPr>
        <p:spPr>
          <a:xfrm>
            <a:off x="5648400" y="3519000"/>
            <a:ext cx="114696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71" name="Овал 23"/>
          <p:cNvSpPr/>
          <p:nvPr/>
        </p:nvSpPr>
        <p:spPr>
          <a:xfrm>
            <a:off x="6354720" y="2824200"/>
            <a:ext cx="2384640" cy="13888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Использование различных видов теат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28"/>
          <p:cNvSpPr/>
          <p:nvPr/>
        </p:nvSpPr>
        <p:spPr>
          <a:xfrm>
            <a:off x="579600" y="2697120"/>
            <a:ext cx="2395440" cy="1515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Инсценировка песен,  хоровод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Прямая со стрелкой 38"/>
          <p:cNvCxnSpPr>
            <a:stCxn id="62" idx="2"/>
          </p:cNvCxnSpPr>
          <p:nvPr/>
        </p:nvCxnSpPr>
        <p:spPr>
          <a:xfrm flipH="1">
            <a:off x="2806560" y="3519000"/>
            <a:ext cx="66564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74" name="Прямая со стрелкой 40"/>
          <p:cNvCxnSpPr>
            <a:stCxn id="62" idx="3"/>
          </p:cNvCxnSpPr>
          <p:nvPr/>
        </p:nvCxnSpPr>
        <p:spPr>
          <a:xfrm flipH="1">
            <a:off x="2534760" y="4010040"/>
            <a:ext cx="1256400" cy="8056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75" name="Овал 41"/>
          <p:cNvSpPr/>
          <p:nvPr/>
        </p:nvSpPr>
        <p:spPr>
          <a:xfrm>
            <a:off x="706320" y="4572000"/>
            <a:ext cx="2360880" cy="13892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Посещение теат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Прямая со стрелкой 43"/>
          <p:cNvCxnSpPr>
            <a:stCxn id="62" idx="4"/>
          </p:cNvCxnSpPr>
          <p:nvPr/>
        </p:nvCxnSpPr>
        <p:spPr>
          <a:xfrm>
            <a:off x="4560480" y="4213080"/>
            <a:ext cx="1080" cy="8452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77" name="Овал 44"/>
          <p:cNvSpPr/>
          <p:nvPr/>
        </p:nvSpPr>
        <p:spPr>
          <a:xfrm>
            <a:off x="3449520" y="4572000"/>
            <a:ext cx="2465640" cy="13892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Драматизация сказо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Прямая со стрелкой 46"/>
          <p:cNvCxnSpPr>
            <a:stCxn id="62" idx="5"/>
          </p:cNvCxnSpPr>
          <p:nvPr/>
        </p:nvCxnSpPr>
        <p:spPr>
          <a:xfrm>
            <a:off x="5329080" y="4010040"/>
            <a:ext cx="1223280" cy="8056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79" name="Овал 47"/>
          <p:cNvSpPr/>
          <p:nvPr/>
        </p:nvSpPr>
        <p:spPr>
          <a:xfrm>
            <a:off x="6232680" y="4572000"/>
            <a:ext cx="2506680" cy="13892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3c0c"/>
                </a:solidFill>
                <a:latin typeface="Calibri"/>
              </a:rPr>
              <a:t>Взаимодействие с род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7400" y="232200"/>
            <a:ext cx="7886880" cy="8794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 Light"/>
              </a:rPr>
              <a:t>Виды театра в детском саду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216080"/>
            <a:ext cx="7886880" cy="49608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бибаб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астольный теат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нижка-теат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альчиковый теат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театр мас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теневой теат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гнитный теат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лоскостной теат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театр на фланелеграф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деревянный теат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43c0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детей к театру проводится на протяжение всего дошкольного возраста</a:t>
            </a:r>
            <a:r>
              <a:rPr b="0" lang="ru-RU" sz="2800" spc="-1" strike="noStrike">
                <a:solidFill>
                  <a:srgbClr val="843c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115920"/>
            <a:ext cx="7886880" cy="4744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Средняя группа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47560" y="647280"/>
            <a:ext cx="7886880" cy="55292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Ребёнок постепенно переходит:</a:t>
            </a:r>
            <a:br>
              <a:rPr sz="2400"/>
            </a:b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- от игры " для себя " к игре, ориентированной на зрителя;</a:t>
            </a:r>
            <a:br>
              <a:rPr sz="2400"/>
            </a:b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- от игры, в которой главное - сам процесс, к игре, где значимы и процесс и результат;</a:t>
            </a:r>
            <a:br>
              <a:rPr sz="2400"/>
            </a:b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- от игры в малой группе сверстников, исполняющих аналогичные роли, к игре в группе из пяти-семи сверстников, ролевые позиции которых различны (равноправие, подчинение, управление);</a:t>
            </a:r>
            <a:br>
              <a:rPr sz="2400"/>
            </a:b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- от создания в игре-драматизации простого образа к воплощению целостного образа, в котором сочетаются эмоции, настроения героя, их смена.</a:t>
            </a:r>
            <a:br>
              <a:rPr sz="2400"/>
            </a:br>
            <a:r>
              <a:rPr b="0" lang="ru-RU" sz="2400" spc="-1" strike="noStrike">
                <a:solidFill>
                  <a:srgbClr val="843c0c"/>
                </a:solidFill>
                <a:latin typeface="Times New Roman"/>
              </a:rPr>
              <a:t>Углубляется интерес к театрализованным играм. Дети учатся сочетать в роли движение и текст, движение и слово, развивать чувство партнёрства, использовать пантомиму двух-четырёх действующих ли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22120" y="-360"/>
            <a:ext cx="6737400" cy="78732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 Light"/>
              </a:rPr>
              <a:t>Значение театрализованной деятельност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6400" y="601200"/>
            <a:ext cx="8623080" cy="603108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деятельность помогае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равильную модель поведения в современном мир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сить общую культуру ребенка, приобщать к духовным ценностя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речь ребенка, активизировать словарь, совершенствовать звуковую культуру речи, ее интонационный строй; улучшать диалогическую речь, ее грамматический стро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ть ребенка с детской литературой, музыкой, изобразительным искусством, правилами этикета, обрядами, традициям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ет элементарные представления о видах театр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навык воплощать в игре определенные переживания, побуждать к созданию новых образов, побуждать к мышлен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 относиться к любому делу, умение общаться со сверстниками и взрослыми, развитию сценического творчества, музыкальных и артистических способностей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User</cp:lastModifiedBy>
  <dcterms:modified xsi:type="dcterms:W3CDTF">2020-01-07T14:36:21Z</dcterms:modified>
  <cp:revision>152</cp:revision>
  <dc:subject/>
  <dc:title>Название презентации</dc:title>
</cp:coreProperties>
</file>