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DC7DF-3CF0-4A59-8F92-457B936B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9E1D31-C60A-43D1-8858-DC81F8AD313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67F-E2EC-42D9-98E7-F0BCC624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D15-E587-4193-BA8F-1733A90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68D-4881-4E24-8781-5EDF7AC4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9CB-A74F-4EEC-89FF-5FF1C5B9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FA0-97D1-4D12-90D9-0F40DE2F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BE50-D656-4A3C-B7BB-D89C82BD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8200-80D5-481C-AD12-BAFBD29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6156-36E9-4891-AB75-4B9E76A1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75B6-E6B8-4128-9BE7-CAC71952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8F80-8558-4570-A2FB-74C2053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FEA2-5733-4E82-AF80-F402DA3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AA7-374C-4A70-A319-ADD6BA33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8E05-6AB0-4F88-9ACB-4B32362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314-E113-415D-9781-6513F42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74A1-E86F-48F3-8541-41B14F61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9764-404A-42F6-8689-59D41A79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E03-F101-42C7-B2B5-24C2FC0E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014B-1EC2-4B37-9D86-88A91615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7FF7-5D8D-40D0-8144-2A5BDBE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A1A7-ABF8-478C-9823-8A5F524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515B-EE00-42D8-BD43-A7DEF4D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3208-C065-453A-B4CF-6E4084E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3DD-D5CC-43DA-B011-04AEB64E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17A0-67E6-40ED-9DAA-9F216B5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6117-6067-43E5-AB6C-69436D6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D448-7087-418D-83AE-8F2749A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EB16-AC32-4015-8705-0516D9B7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0FFC-AF97-4B50-ADDD-F97F644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AEC6-3554-44C6-BC0E-9D4E68D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94A2-9C42-43FC-80CE-425EA3B3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F05-53F6-4F99-8F4C-1D711E5B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71A-97D2-4AB2-BA8A-A79356EA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A62-4CA8-4254-9F45-F6A96EDB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8C3-38F4-4B90-8153-E3F8369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0D9-B35B-4826-8792-76EDC7F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FB8-0D69-41FE-A5FB-6E66345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0E4720-BA16-48BA-89BF-A344F352A3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015A8-E599-4487-AB5A-2151A5C593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0D2E85-4A6F-4BCE-A152-3D9D611565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stut-goda.ru/making/item/1621-school-backgrounds-for-presentations-collection-1.html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3640" y="2997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рфографи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(тренажёр 1-4 классы)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380360" y="5589360"/>
            <a:ext cx="1367640" cy="863640"/>
          </a:xfrm>
          <a:prstGeom prst="actionButtonForwardNext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 слайда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astut-goda.ru/making/item/1621-school-backgrounds-for-presentations-collection-1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52360" y="5661360"/>
            <a:ext cx="1367640" cy="863640"/>
          </a:xfrm>
          <a:prstGeom prst="actionButtonForwardNext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Управляющая кнопка: документ 4"/>
          <p:cNvSpPr/>
          <p:nvPr/>
        </p:nvSpPr>
        <p:spPr>
          <a:xfrm>
            <a:off x="467640" y="1412640"/>
            <a:ext cx="833040" cy="8474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475640" y="1412640"/>
            <a:ext cx="7668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перехода просмотра   сведений об орфогра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Управляющая кнопка: возврат 6"/>
          <p:cNvSpPr/>
          <p:nvPr/>
        </p:nvSpPr>
        <p:spPr>
          <a:xfrm>
            <a:off x="467640" y="2421000"/>
            <a:ext cx="863640" cy="647640"/>
          </a:xfrm>
          <a:prstGeom prst="actionButtonReturn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547640" y="2349000"/>
            <a:ext cx="813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  возврата на  ранее просматриваемы слай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8">
            <a:hlinkClick r:id="rId1" action="ppaction://hlinksldjump"/>
          </p:cNvPr>
          <p:cNvSpPr/>
          <p:nvPr/>
        </p:nvSpPr>
        <p:spPr>
          <a:xfrm>
            <a:off x="539640" y="3357000"/>
            <a:ext cx="833040" cy="71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1691640" y="3339000"/>
            <a:ext cx="74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  перехода на слайд с зад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467640" y="4221000"/>
            <a:ext cx="863640" cy="647640"/>
          </a:xfrm>
          <a:prstGeom prst="actionButtonForwardNext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1691640" y="4273920"/>
            <a:ext cx="74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  перехода на  следующий слай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омой 13"/>
          <p:cNvSpPr/>
          <p:nvPr/>
        </p:nvSpPr>
        <p:spPr>
          <a:xfrm>
            <a:off x="467640" y="5085360"/>
            <a:ext cx="935640" cy="719640"/>
          </a:xfrm>
          <a:prstGeom prst="actionButtonHome">
            <a:avLst/>
          </a:prstGeom>
          <a:solidFill>
            <a:srgbClr val="f79646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547640" y="5137920"/>
            <a:ext cx="752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   завершения показа 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6">
            <a:hlinkClick r:id="rId2" action="ppaction://hlinksldjump"/>
          </p:cNvPr>
          <p:cNvSpPr/>
          <p:nvPr/>
        </p:nvSpPr>
        <p:spPr>
          <a:xfrm>
            <a:off x="251640" y="6021360"/>
            <a:ext cx="2016000" cy="62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В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2411640" y="5877360"/>
            <a:ext cx="4536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опка    переход  в меню «Повторяем  орфограм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3"/>
          <p:cNvSpPr/>
          <p:nvPr/>
        </p:nvSpPr>
        <p:spPr>
          <a:xfrm>
            <a:off x="395640" y="1845000"/>
            <a:ext cx="4608000" cy="100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Times New Roman"/>
              </a:rPr>
              <a:t>Безударные 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375480" y="332640"/>
            <a:ext cx="8450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ПОВТОРЯЕМ ОРФ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6"/>
          <p:cNvSpPr/>
          <p:nvPr/>
        </p:nvSpPr>
        <p:spPr>
          <a:xfrm>
            <a:off x="395640" y="3285000"/>
            <a:ext cx="4607640" cy="100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Times New Roman"/>
              </a:rPr>
              <a:t>Парные со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395640" y="4725000"/>
            <a:ext cx="4607640" cy="100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Times New Roman"/>
              </a:rPr>
              <a:t>Словарн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окумент 9">
            <a:hlinkClick r:id="rId1" action="ppaction://hlinksldjump"/>
          </p:cNvPr>
          <p:cNvSpPr/>
          <p:nvPr/>
        </p:nvSpPr>
        <p:spPr>
          <a:xfrm>
            <a:off x="5580000" y="184500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Управляющая кнопка: документ 10">
            <a:hlinkClick r:id="rId2" action="ppaction://hlinksldjump"/>
          </p:cNvPr>
          <p:cNvSpPr/>
          <p:nvPr/>
        </p:nvSpPr>
        <p:spPr>
          <a:xfrm>
            <a:off x="5580000" y="328500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Управляющая кнопка: документ 13">
            <a:hlinkClick r:id="rId3" action="ppaction://hlinksldjump"/>
          </p:cNvPr>
          <p:cNvSpPr/>
          <p:nvPr/>
        </p:nvSpPr>
        <p:spPr>
          <a:xfrm>
            <a:off x="5580000" y="479700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Стрелка вправо 18">
            <a:hlinkClick r:id="rId4" action="ppaction://hlinksldjump"/>
          </p:cNvPr>
          <p:cNvSpPr/>
          <p:nvPr/>
        </p:nvSpPr>
        <p:spPr>
          <a:xfrm>
            <a:off x="7308360" y="1917000"/>
            <a:ext cx="935640" cy="79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право 19">
            <a:hlinkClick r:id="rId5" action="ppaction://hlinksldjump"/>
          </p:cNvPr>
          <p:cNvSpPr/>
          <p:nvPr/>
        </p:nvSpPr>
        <p:spPr>
          <a:xfrm>
            <a:off x="7308360" y="3357000"/>
            <a:ext cx="935640" cy="79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право 21">
            <a:hlinkClick r:id="rId6" action="ppaction://hlinksldjump"/>
          </p:cNvPr>
          <p:cNvSpPr/>
          <p:nvPr/>
        </p:nvSpPr>
        <p:spPr>
          <a:xfrm>
            <a:off x="7308360" y="4869000"/>
            <a:ext cx="935640" cy="79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>
              <a:lumMod val="75000"/>
            </a:schemeClr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Управляющая кнопка: домой 22">
            <a:hlinkClick r:id="" action="ppaction://hlinkshowjump?jump=endshow"/>
          </p:cNvPr>
          <p:cNvSpPr/>
          <p:nvPr/>
        </p:nvSpPr>
        <p:spPr>
          <a:xfrm>
            <a:off x="8028360" y="5733360"/>
            <a:ext cx="899280" cy="935640"/>
          </a:xfrm>
          <a:prstGeom prst="actionButtonHome">
            <a:avLst/>
          </a:prstGeom>
          <a:solidFill>
            <a:srgbClr val="f79646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922320" y="44640"/>
            <a:ext cx="73299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БЕЗУДАРНЫЕ ГЛАСНЫ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в корне сл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95640" y="1772640"/>
            <a:ext cx="8352720" cy="4476600"/>
          </a:xfrm>
          <a:prstGeom prst="rect">
            <a:avLst/>
          </a:prstGeom>
          <a:solidFill>
            <a:srgbClr val="ffffff"/>
          </a:solidFill>
          <a:ln w="38100"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зударный гласный в корне слова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бы проверить безударную гласную в корне слова, надо подобрать родственное (однокоренное) слово или изменить форму слова так, чтобы безударная гласная стала в сильную позицию, то есть она должна быть удар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имер: тр_ва , под ударением слышим  а трАвка, пишем  тр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возврат 5">
            <a:hlinkClick r:id="rId1" action="ppaction://hlinksldjump"/>
          </p:cNvPr>
          <p:cNvSpPr/>
          <p:nvPr/>
        </p:nvSpPr>
        <p:spPr>
          <a:xfrm>
            <a:off x="7668360" y="5805360"/>
            <a:ext cx="1223640" cy="863640"/>
          </a:xfrm>
          <a:prstGeom prst="actionButtonReturn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3"/>
          <p:cNvSpPr/>
          <p:nvPr/>
        </p:nvSpPr>
        <p:spPr>
          <a:xfrm>
            <a:off x="1130400" y="129240"/>
            <a:ext cx="6913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ПАРНЫЕ  СОГЛАСНЫ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95640" y="1772640"/>
            <a:ext cx="8352720" cy="3989160"/>
          </a:xfrm>
          <a:prstGeom prst="rect">
            <a:avLst/>
          </a:prstGeom>
          <a:solidFill>
            <a:srgbClr val="ffffff"/>
          </a:solidFill>
          <a:ln w="38100"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арные согласные в корне слова.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Чтобы проверить парный согласный в корне, нужно слово изменить или подобрать однокоренное проверочное слово так, чтобы согласный слышался я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Например, гр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_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гр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- гр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возврат 5">
            <a:hlinkClick r:id="rId1" action="ppaction://hlinksldjump"/>
          </p:cNvPr>
          <p:cNvSpPr/>
          <p:nvPr/>
        </p:nvSpPr>
        <p:spPr>
          <a:xfrm>
            <a:off x="7668360" y="5805360"/>
            <a:ext cx="1223640" cy="863640"/>
          </a:xfrm>
          <a:prstGeom prst="actionButtonReturn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2013480" y="211320"/>
            <a:ext cx="51476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СЛОВАРНЫЕ 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395640" y="2493000"/>
            <a:ext cx="8352720" cy="577080"/>
          </a:xfrm>
          <a:prstGeom prst="rect">
            <a:avLst/>
          </a:prstGeom>
          <a:solidFill>
            <a:srgbClr val="ffffff"/>
          </a:solidFill>
          <a:ln w="38100"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ловарные слов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жно запомн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возврат 5">
            <a:hlinkClick r:id="rId1" action="ppaction://hlinksldjump"/>
          </p:cNvPr>
          <p:cNvSpPr/>
          <p:nvPr/>
        </p:nvSpPr>
        <p:spPr>
          <a:xfrm>
            <a:off x="7668360" y="5805360"/>
            <a:ext cx="1223640" cy="863640"/>
          </a:xfrm>
          <a:prstGeom prst="actionButtonReturn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21"/>
          <p:cNvSpPr/>
          <p:nvPr/>
        </p:nvSpPr>
        <p:spPr>
          <a:xfrm>
            <a:off x="5148000" y="3141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3"/>
          <p:cNvSpPr/>
          <p:nvPr/>
        </p:nvSpPr>
        <p:spPr>
          <a:xfrm>
            <a:off x="3852000" y="2277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4"/>
          <p:cNvSpPr/>
          <p:nvPr/>
        </p:nvSpPr>
        <p:spPr>
          <a:xfrm>
            <a:off x="5148000" y="2277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5"/>
          <p:cNvSpPr/>
          <p:nvPr/>
        </p:nvSpPr>
        <p:spPr>
          <a:xfrm>
            <a:off x="3852000" y="3141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6"/>
          <p:cNvSpPr/>
          <p:nvPr/>
        </p:nvSpPr>
        <p:spPr>
          <a:xfrm>
            <a:off x="3852000" y="4005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7"/>
          <p:cNvSpPr/>
          <p:nvPr/>
        </p:nvSpPr>
        <p:spPr>
          <a:xfrm>
            <a:off x="5148000" y="4005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8"/>
          <p:cNvSpPr/>
          <p:nvPr/>
        </p:nvSpPr>
        <p:spPr>
          <a:xfrm>
            <a:off x="5148000" y="4869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9"/>
          <p:cNvSpPr/>
          <p:nvPr/>
        </p:nvSpPr>
        <p:spPr>
          <a:xfrm>
            <a:off x="3852000" y="4869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0"/>
          <p:cNvSpPr/>
          <p:nvPr/>
        </p:nvSpPr>
        <p:spPr>
          <a:xfrm>
            <a:off x="5148000" y="573336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1"/>
          <p:cNvSpPr/>
          <p:nvPr/>
        </p:nvSpPr>
        <p:spPr>
          <a:xfrm>
            <a:off x="3852000" y="573336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3"/>
          <p:cNvSpPr/>
          <p:nvPr/>
        </p:nvSpPr>
        <p:spPr>
          <a:xfrm>
            <a:off x="467640" y="2205000"/>
            <a:ext cx="3168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Ст_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5"/>
          <p:cNvSpPr/>
          <p:nvPr/>
        </p:nvSpPr>
        <p:spPr>
          <a:xfrm>
            <a:off x="251640" y="1340640"/>
            <a:ext cx="345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Зам_рза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6"/>
          <p:cNvSpPr/>
          <p:nvPr/>
        </p:nvSpPr>
        <p:spPr>
          <a:xfrm>
            <a:off x="611640" y="3933000"/>
            <a:ext cx="295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Т_жё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107640" y="4797000"/>
            <a:ext cx="367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Ост_вал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0"/>
          <p:cNvSpPr/>
          <p:nvPr/>
        </p:nvSpPr>
        <p:spPr>
          <a:xfrm>
            <a:off x="395640" y="3069000"/>
            <a:ext cx="309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Бл_ст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2"/>
          <p:cNvSpPr/>
          <p:nvPr/>
        </p:nvSpPr>
        <p:spPr>
          <a:xfrm>
            <a:off x="395640" y="5601960"/>
            <a:ext cx="3528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Т_нист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3"/>
          <p:cNvSpPr/>
          <p:nvPr/>
        </p:nvSpPr>
        <p:spPr>
          <a:xfrm>
            <a:off x="5148000" y="141264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4"/>
          <p:cNvSpPr/>
          <p:nvPr/>
        </p:nvSpPr>
        <p:spPr>
          <a:xfrm>
            <a:off x="3852000" y="141264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52"/>
          <p:cNvGrpSpPr/>
          <p:nvPr/>
        </p:nvGrpSpPr>
        <p:grpSpPr>
          <a:xfrm>
            <a:off x="3564000" y="3717000"/>
            <a:ext cx="2160000" cy="2016000"/>
            <a:chOff x="3564000" y="3717000"/>
            <a:chExt cx="2160000" cy="2016000"/>
          </a:xfrm>
        </p:grpSpPr>
        <p:sp>
          <p:nvSpPr>
            <p:cNvPr id="184" name="Управляющая кнопка: настраиваемая 48"/>
            <p:cNvSpPr/>
            <p:nvPr/>
          </p:nvSpPr>
          <p:spPr>
            <a:xfrm>
              <a:off x="3564000" y="3717000"/>
              <a:ext cx="2160000" cy="2016000"/>
            </a:xfrm>
            <a:prstGeom prst="actionButtonBlank">
              <a:avLst/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Times New Roman"/>
                </a:rPr>
                <a:t>Начнё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ятиугольник 51"/>
            <p:cNvSpPr/>
            <p:nvPr/>
          </p:nvSpPr>
          <p:spPr>
            <a:xfrm>
              <a:off x="3852000" y="4077000"/>
              <a:ext cx="1728000" cy="647640"/>
            </a:xfrm>
            <a:prstGeom prst="homePlate">
              <a:avLst>
                <a:gd name="adj" fmla="val 50000"/>
              </a:avLst>
            </a:prstGeom>
            <a:solidFill>
              <a:srgbClr val="c0504d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6" name="Скругленный прямоугольник 65">
            <a:hlinkClick r:id="rId1" action="ppaction://hlinksldjump"/>
          </p:cNvPr>
          <p:cNvSpPr/>
          <p:nvPr/>
        </p:nvSpPr>
        <p:spPr>
          <a:xfrm>
            <a:off x="6732360" y="188640"/>
            <a:ext cx="19072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В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9"/>
          <p:cNvSpPr/>
          <p:nvPr/>
        </p:nvSpPr>
        <p:spPr>
          <a:xfrm>
            <a:off x="3420000" y="404640"/>
            <a:ext cx="2304000" cy="5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1"/>
          <p:cNvSpPr/>
          <p:nvPr/>
        </p:nvSpPr>
        <p:spPr>
          <a:xfrm>
            <a:off x="611640" y="1628640"/>
            <a:ext cx="7992360" cy="15519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жно определить какая буква пропущена. Для этого нужно нажать на кнопку с соответствующей бу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6"/>
          <p:cNvSpPr/>
          <p:nvPr/>
        </p:nvSpPr>
        <p:spPr>
          <a:xfrm>
            <a:off x="6372360" y="400500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7"/>
          <p:cNvSpPr/>
          <p:nvPr/>
        </p:nvSpPr>
        <p:spPr>
          <a:xfrm>
            <a:off x="7497720" y="134064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9"/>
          <p:cNvSpPr/>
          <p:nvPr/>
        </p:nvSpPr>
        <p:spPr>
          <a:xfrm>
            <a:off x="8206560" y="134064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0"/>
          <p:cNvSpPr/>
          <p:nvPr/>
        </p:nvSpPr>
        <p:spPr>
          <a:xfrm>
            <a:off x="7457400" y="213300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6"/>
          <p:cNvSpPr/>
          <p:nvPr/>
        </p:nvSpPr>
        <p:spPr>
          <a:xfrm>
            <a:off x="7457400" y="480996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7"/>
          <p:cNvSpPr/>
          <p:nvPr/>
        </p:nvSpPr>
        <p:spPr>
          <a:xfrm>
            <a:off x="7497720" y="380196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8"/>
          <p:cNvSpPr/>
          <p:nvPr/>
        </p:nvSpPr>
        <p:spPr>
          <a:xfrm>
            <a:off x="7457400" y="293760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69"/>
          <p:cNvSpPr/>
          <p:nvPr/>
        </p:nvSpPr>
        <p:spPr>
          <a:xfrm>
            <a:off x="7497720" y="567396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1"/>
          <p:cNvSpPr/>
          <p:nvPr/>
        </p:nvSpPr>
        <p:spPr>
          <a:xfrm>
            <a:off x="8204400" y="21330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2"/>
          <p:cNvSpPr/>
          <p:nvPr/>
        </p:nvSpPr>
        <p:spPr>
          <a:xfrm>
            <a:off x="8249040" y="29250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73"/>
          <p:cNvSpPr/>
          <p:nvPr/>
        </p:nvSpPr>
        <p:spPr>
          <a:xfrm>
            <a:off x="8249040" y="37890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74"/>
          <p:cNvSpPr/>
          <p:nvPr/>
        </p:nvSpPr>
        <p:spPr>
          <a:xfrm>
            <a:off x="8249040" y="480996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75"/>
          <p:cNvSpPr/>
          <p:nvPr/>
        </p:nvSpPr>
        <p:spPr>
          <a:xfrm>
            <a:off x="8249040" y="566136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Управляющая кнопка: документ 76">
            <a:hlinkClick r:id="rId2" action="ppaction://hlinksldjump"/>
          </p:cNvPr>
          <p:cNvSpPr/>
          <p:nvPr/>
        </p:nvSpPr>
        <p:spPr>
          <a:xfrm>
            <a:off x="827640" y="18864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83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181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delay="0" evt="onClick">
                    <p:tgtEl>
                      <p:spTgt spid="167"/>
                    </p:tgtEl>
                  </p:cond>
                </p:stCondLst>
                <p:childTnLst>
                  <p:par>
                    <p:cTn id="44" fill="hold">
                      <p:stCondLst>
                        <p:cond delay="0"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166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delay="0" evt="onClick">
                    <p:tgtEl>
                      <p:spTgt spid="165"/>
                    </p:tgtEl>
                  </p:cond>
                </p:stCondLst>
                <p:childTnLst>
                  <p:par>
                    <p:cTn id="84" fill="hold">
                      <p:stCondLst>
                        <p:cond delay="0"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98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110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delay="0" evt="onClick">
                    <p:tgtEl>
                      <p:spTgt spid="189"/>
                    </p:tgtEl>
                  </p:cond>
                </p:stCondLst>
                <p:childTnLst>
                  <p:par>
                    <p:cTn id="122" fill="hold">
                      <p:stCondLst>
                        <p:cond delay="0"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34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146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158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171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set>
                                      <p:cBhvr>
                                        <p:cTn id="181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21"/>
          <p:cNvSpPr/>
          <p:nvPr/>
        </p:nvSpPr>
        <p:spPr>
          <a:xfrm>
            <a:off x="5724000" y="3163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>
            <a:off x="4428000" y="2299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4"/>
          <p:cNvSpPr/>
          <p:nvPr/>
        </p:nvSpPr>
        <p:spPr>
          <a:xfrm>
            <a:off x="5724000" y="2299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5"/>
          <p:cNvSpPr/>
          <p:nvPr/>
        </p:nvSpPr>
        <p:spPr>
          <a:xfrm>
            <a:off x="4428000" y="3163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6"/>
          <p:cNvSpPr/>
          <p:nvPr/>
        </p:nvSpPr>
        <p:spPr>
          <a:xfrm>
            <a:off x="4428000" y="4027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7"/>
          <p:cNvSpPr/>
          <p:nvPr/>
        </p:nvSpPr>
        <p:spPr>
          <a:xfrm>
            <a:off x="5724000" y="4027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8"/>
          <p:cNvSpPr/>
          <p:nvPr/>
        </p:nvSpPr>
        <p:spPr>
          <a:xfrm>
            <a:off x="5724000" y="4963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9"/>
          <p:cNvSpPr/>
          <p:nvPr/>
        </p:nvSpPr>
        <p:spPr>
          <a:xfrm>
            <a:off x="4428000" y="496368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0"/>
          <p:cNvSpPr/>
          <p:nvPr/>
        </p:nvSpPr>
        <p:spPr>
          <a:xfrm>
            <a:off x="5724000" y="582804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1"/>
          <p:cNvSpPr/>
          <p:nvPr/>
        </p:nvSpPr>
        <p:spPr>
          <a:xfrm>
            <a:off x="4428000" y="582804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3"/>
          <p:cNvSpPr/>
          <p:nvPr/>
        </p:nvSpPr>
        <p:spPr>
          <a:xfrm>
            <a:off x="971640" y="4737960"/>
            <a:ext cx="273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фла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5"/>
          <p:cNvSpPr/>
          <p:nvPr/>
        </p:nvSpPr>
        <p:spPr>
          <a:xfrm>
            <a:off x="1187640" y="2061000"/>
            <a:ext cx="201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ду_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6"/>
          <p:cNvSpPr/>
          <p:nvPr/>
        </p:nvSpPr>
        <p:spPr>
          <a:xfrm>
            <a:off x="899640" y="3945960"/>
            <a:ext cx="295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варе_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8"/>
          <p:cNvSpPr/>
          <p:nvPr/>
        </p:nvSpPr>
        <p:spPr>
          <a:xfrm>
            <a:off x="1187640" y="2997000"/>
            <a:ext cx="2088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ле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0"/>
          <p:cNvSpPr/>
          <p:nvPr/>
        </p:nvSpPr>
        <p:spPr>
          <a:xfrm>
            <a:off x="1187640" y="5661360"/>
            <a:ext cx="2520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огоро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2"/>
          <p:cNvSpPr/>
          <p:nvPr/>
        </p:nvSpPr>
        <p:spPr>
          <a:xfrm>
            <a:off x="899640" y="1268640"/>
            <a:ext cx="2808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жира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3"/>
          <p:cNvSpPr/>
          <p:nvPr/>
        </p:nvSpPr>
        <p:spPr>
          <a:xfrm>
            <a:off x="5724000" y="143532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4"/>
          <p:cNvSpPr/>
          <p:nvPr/>
        </p:nvSpPr>
        <p:spPr>
          <a:xfrm>
            <a:off x="4428000" y="1435320"/>
            <a:ext cx="1007640" cy="76140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f2e2b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Группа 52"/>
          <p:cNvGrpSpPr/>
          <p:nvPr/>
        </p:nvGrpSpPr>
        <p:grpSpPr>
          <a:xfrm>
            <a:off x="3636000" y="3501000"/>
            <a:ext cx="2160000" cy="2016000"/>
            <a:chOff x="3636000" y="3501000"/>
            <a:chExt cx="2160000" cy="2016000"/>
          </a:xfrm>
        </p:grpSpPr>
        <p:sp>
          <p:nvSpPr>
            <p:cNvPr id="222" name="Управляющая кнопка: настраиваемая 48"/>
            <p:cNvSpPr/>
            <p:nvPr/>
          </p:nvSpPr>
          <p:spPr>
            <a:xfrm>
              <a:off x="3636000" y="3501000"/>
              <a:ext cx="2160000" cy="2016000"/>
            </a:xfrm>
            <a:prstGeom prst="actionButtonBlank">
              <a:avLst/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Times New Roman"/>
                </a:rPr>
                <a:t>Начнё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ятиугольник 51"/>
            <p:cNvSpPr/>
            <p:nvPr/>
          </p:nvSpPr>
          <p:spPr>
            <a:xfrm>
              <a:off x="3924000" y="3861000"/>
              <a:ext cx="1728000" cy="647640"/>
            </a:xfrm>
            <a:prstGeom prst="homePlate">
              <a:avLst>
                <a:gd name="adj" fmla="val 50000"/>
              </a:avLst>
            </a:prstGeom>
            <a:solidFill>
              <a:srgbClr val="c0504d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4" name="Прямоугольник 53"/>
          <p:cNvSpPr/>
          <p:nvPr/>
        </p:nvSpPr>
        <p:spPr>
          <a:xfrm>
            <a:off x="7025400" y="134064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4"/>
          <p:cNvSpPr/>
          <p:nvPr/>
        </p:nvSpPr>
        <p:spPr>
          <a:xfrm>
            <a:off x="7772400" y="134064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5"/>
          <p:cNvSpPr/>
          <p:nvPr/>
        </p:nvSpPr>
        <p:spPr>
          <a:xfrm>
            <a:off x="7025400" y="299700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56"/>
          <p:cNvSpPr/>
          <p:nvPr/>
        </p:nvSpPr>
        <p:spPr>
          <a:xfrm>
            <a:off x="7065720" y="393300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7"/>
          <p:cNvSpPr/>
          <p:nvPr/>
        </p:nvSpPr>
        <p:spPr>
          <a:xfrm>
            <a:off x="7065720" y="488196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8"/>
          <p:cNvSpPr/>
          <p:nvPr/>
        </p:nvSpPr>
        <p:spPr>
          <a:xfrm>
            <a:off x="7025400" y="574596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9"/>
          <p:cNvSpPr/>
          <p:nvPr/>
        </p:nvSpPr>
        <p:spPr>
          <a:xfrm>
            <a:off x="7065720" y="2145600"/>
            <a:ext cx="525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0"/>
          <p:cNvSpPr/>
          <p:nvPr/>
        </p:nvSpPr>
        <p:spPr>
          <a:xfrm>
            <a:off x="7745040" y="21330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1"/>
          <p:cNvSpPr/>
          <p:nvPr/>
        </p:nvSpPr>
        <p:spPr>
          <a:xfrm>
            <a:off x="7745040" y="30096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2"/>
          <p:cNvSpPr/>
          <p:nvPr/>
        </p:nvSpPr>
        <p:spPr>
          <a:xfrm>
            <a:off x="7745040" y="386100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63"/>
          <p:cNvSpPr/>
          <p:nvPr/>
        </p:nvSpPr>
        <p:spPr>
          <a:xfrm>
            <a:off x="7740360" y="4809960"/>
            <a:ext cx="620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64"/>
          <p:cNvSpPr/>
          <p:nvPr/>
        </p:nvSpPr>
        <p:spPr>
          <a:xfrm>
            <a:off x="7772400" y="5745960"/>
            <a:ext cx="610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65">
            <a:hlinkClick r:id="rId1" action="ppaction://hlinksldjump"/>
          </p:cNvPr>
          <p:cNvSpPr/>
          <p:nvPr/>
        </p:nvSpPr>
        <p:spPr>
          <a:xfrm>
            <a:off x="6732360" y="260640"/>
            <a:ext cx="180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В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39"/>
          <p:cNvSpPr/>
          <p:nvPr/>
        </p:nvSpPr>
        <p:spPr>
          <a:xfrm>
            <a:off x="3420000" y="332640"/>
            <a:ext cx="2304000" cy="5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1"/>
          <p:cNvSpPr/>
          <p:nvPr/>
        </p:nvSpPr>
        <p:spPr>
          <a:xfrm>
            <a:off x="611640" y="1556640"/>
            <a:ext cx="7992360" cy="15519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жно определить какая буква пропущена. Для этого нужно нажать на кнопку с соответствующей бук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окумент 45">
            <a:hlinkClick r:id="rId2" action="ppaction://hlinksldjump"/>
          </p:cNvPr>
          <p:cNvSpPr/>
          <p:nvPr/>
        </p:nvSpPr>
        <p:spPr>
          <a:xfrm>
            <a:off x="1043640" y="11664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delay="0" evt="onClick">
                    <p:tgtEl>
                      <p:spTgt spid="221"/>
                    </p:tgtEl>
                  </p:cond>
                </p:stCondLst>
                <p:childTnLst>
                  <p:par>
                    <p:cTn id="185" fill="hold">
                      <p:stCondLst>
                        <p:cond delay="0"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98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220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222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234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246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270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282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294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delay="0" evt="onClick">
                    <p:tgtEl>
                      <p:spTgt spid="209"/>
                    </p:tgtEl>
                  </p:cond>
                </p:stCondLst>
                <p:childTnLst>
                  <p:par>
                    <p:cTn id="306" fill="hold">
                      <p:stCondLst>
                        <p:cond delay="0"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318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326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52"/>
          <p:cNvGrpSpPr/>
          <p:nvPr/>
        </p:nvGrpSpPr>
        <p:grpSpPr>
          <a:xfrm>
            <a:off x="3348000" y="3357000"/>
            <a:ext cx="2160000" cy="2016000"/>
            <a:chOff x="3348000" y="3357000"/>
            <a:chExt cx="2160000" cy="2016000"/>
          </a:xfrm>
        </p:grpSpPr>
        <p:sp>
          <p:nvSpPr>
            <p:cNvPr id="241" name="Управляющая кнопка: настраиваемая 48"/>
            <p:cNvSpPr/>
            <p:nvPr/>
          </p:nvSpPr>
          <p:spPr>
            <a:xfrm>
              <a:off x="3348000" y="3357000"/>
              <a:ext cx="2160000" cy="2016000"/>
            </a:xfrm>
            <a:prstGeom prst="actionButtonBlank">
              <a:avLst/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Times New Roman"/>
                </a:rPr>
                <a:t>Начнё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ятиугольник 51"/>
            <p:cNvSpPr/>
            <p:nvPr/>
          </p:nvSpPr>
          <p:spPr>
            <a:xfrm>
              <a:off x="3636000" y="3717000"/>
              <a:ext cx="1728000" cy="647640"/>
            </a:xfrm>
            <a:prstGeom prst="homePlate">
              <a:avLst>
                <a:gd name="adj" fmla="val 50000"/>
              </a:avLst>
            </a:prstGeom>
            <a:solidFill>
              <a:srgbClr val="c0504d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3" name="Скругленный прямоугольник 65">
            <a:hlinkClick r:id="rId1" action="ppaction://hlinksldjump"/>
          </p:cNvPr>
          <p:cNvSpPr/>
          <p:nvPr/>
        </p:nvSpPr>
        <p:spPr>
          <a:xfrm>
            <a:off x="6660360" y="260640"/>
            <a:ext cx="1944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В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4"/>
          <p:cNvSpPr/>
          <p:nvPr/>
        </p:nvSpPr>
        <p:spPr>
          <a:xfrm>
            <a:off x="363960" y="2520000"/>
            <a:ext cx="95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"/>
          <p:cNvSpPr/>
          <p:nvPr/>
        </p:nvSpPr>
        <p:spPr>
          <a:xfrm>
            <a:off x="3644280" y="1620000"/>
            <a:ext cx="1951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ули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>
            <a:off x="6306480" y="1620000"/>
            <a:ext cx="156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2"/>
          <p:cNvSpPr/>
          <p:nvPr/>
        </p:nvSpPr>
        <p:spPr>
          <a:xfrm>
            <a:off x="366480" y="1620000"/>
            <a:ext cx="1499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3"/>
          <p:cNvSpPr/>
          <p:nvPr/>
        </p:nvSpPr>
        <p:spPr>
          <a:xfrm>
            <a:off x="2163960" y="1620000"/>
            <a:ext cx="918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п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1556640" y="2520000"/>
            <a:ext cx="2215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рабо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35"/>
          <p:cNvSpPr/>
          <p:nvPr/>
        </p:nvSpPr>
        <p:spPr>
          <a:xfrm>
            <a:off x="3348000" y="332640"/>
            <a:ext cx="2304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395640" y="1845000"/>
            <a:ext cx="8352720" cy="106452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  словарные  слова:  после щелчка по слову, оно изменит цв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документ 16">
            <a:hlinkClick r:id="rId2" action="ppaction://hlinksldjump"/>
          </p:cNvPr>
          <p:cNvSpPr/>
          <p:nvPr/>
        </p:nvSpPr>
        <p:spPr>
          <a:xfrm>
            <a:off x="827640" y="188640"/>
            <a:ext cx="935640" cy="935640"/>
          </a:xfrm>
          <a:prstGeom prst="actionButtonDocument">
            <a:avLst/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Прямоугольник 19"/>
          <p:cNvSpPr/>
          <p:nvPr/>
        </p:nvSpPr>
        <p:spPr>
          <a:xfrm>
            <a:off x="4253760" y="2520000"/>
            <a:ext cx="1182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н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1"/>
          <p:cNvSpPr/>
          <p:nvPr/>
        </p:nvSpPr>
        <p:spPr>
          <a:xfrm>
            <a:off x="5982840" y="2520000"/>
            <a:ext cx="1771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вез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7741080" y="1620000"/>
            <a:ext cx="360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7741080" y="2520000"/>
            <a:ext cx="366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363600" y="3420000"/>
            <a:ext cx="962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659960" y="3420000"/>
            <a:ext cx="895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2889360" y="3420000"/>
            <a:ext cx="2224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тонк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8"/>
          <p:cNvSpPr/>
          <p:nvPr/>
        </p:nvSpPr>
        <p:spPr>
          <a:xfrm>
            <a:off x="5446440" y="3420000"/>
            <a:ext cx="2252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курь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366120" y="4140000"/>
            <a:ext cx="2413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нож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6"/>
          <p:cNvSpPr/>
          <p:nvPr/>
        </p:nvSpPr>
        <p:spPr>
          <a:xfrm>
            <a:off x="2808720" y="4140000"/>
            <a:ext cx="360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8"/>
          <p:cNvSpPr/>
          <p:nvPr/>
        </p:nvSpPr>
        <p:spPr>
          <a:xfrm>
            <a:off x="362160" y="4860000"/>
            <a:ext cx="600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9"/>
          <p:cNvSpPr/>
          <p:nvPr/>
        </p:nvSpPr>
        <p:spPr>
          <a:xfrm>
            <a:off x="1513800" y="4860000"/>
            <a:ext cx="523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0"/>
          <p:cNvSpPr/>
          <p:nvPr/>
        </p:nvSpPr>
        <p:spPr>
          <a:xfrm>
            <a:off x="2499840" y="4860000"/>
            <a:ext cx="345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резинов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1"/>
          <p:cNvSpPr/>
          <p:nvPr/>
        </p:nvSpPr>
        <p:spPr>
          <a:xfrm>
            <a:off x="369000" y="5580000"/>
            <a:ext cx="3030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сапож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2"/>
          <p:cNvSpPr/>
          <p:nvPr/>
        </p:nvSpPr>
        <p:spPr>
          <a:xfrm>
            <a:off x="3564000" y="5580000"/>
            <a:ext cx="395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3"/>
          <p:cNvSpPr/>
          <p:nvPr/>
        </p:nvSpPr>
        <p:spPr>
          <a:xfrm>
            <a:off x="6095520" y="5589360"/>
            <a:ext cx="2535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f2e2b"/>
                </a:solidFill>
                <a:latin typeface="Calibri"/>
              </a:rPr>
              <a:t>Автобу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46"/>
          <p:cNvSpPr/>
          <p:nvPr/>
        </p:nvSpPr>
        <p:spPr>
          <a:xfrm>
            <a:off x="7452360" y="4797000"/>
            <a:ext cx="1331280" cy="1554120"/>
          </a:xfrm>
          <a:prstGeom prst="rect">
            <a:avLst/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49" strike="noStrike">
                <a:solidFill>
                  <a:srgbClr val="fefefd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335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388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393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bf33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delay="0" evt="onClick">
                    <p:tgtEl>
                      <p:spTgt spid="266"/>
                    </p:tgtEl>
                  </p:cond>
                </p:stCondLst>
                <p:childTnLst>
                  <p:par>
                    <p:cTn id="398" fill="hold">
                      <p:stCondLst>
                        <p:cond delay="0"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403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410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Clr clrSpc="rgb">
                                      <p:cBhvr>
                                        <p:cTn id="418" dur="25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animClr clrSpc="rgb">
                                      <p:cBhvr>
                                        <p:cTn id="419" dur="25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0c5"/>
                                      </p:to>
                                    </p:animClr>
                                    <p:set>
                                      <p:cBhvr>
                                        <p:cTn id="420" dur="25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  <Words>305</Words>
  <Paragraphs>1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3:30:28Z</dcterms:created>
  <dc:creator>Домашн</dc:creator>
  <dc:description/>
  <dc:language>en-US</dc:language>
  <cp:lastModifiedBy>Домашн</cp:lastModifiedBy>
  <dcterms:modified xsi:type="dcterms:W3CDTF">2012-09-30T07:01:09Z</dcterms:modified>
  <cp:revision>20</cp:revision>
  <dc:subject/>
  <dc:title>Проверялоч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