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DE2-408C-4AD1-9EBA-72CEF59B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51C-216C-4A5D-8EDB-F39FD692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A6B-2DCC-448B-BF68-6CA94927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E04-0913-4E7F-9626-3818328D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8A1-0E0C-4497-B934-901772C4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E2B-7E80-4377-B2DD-50C777A0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2FE-0FAE-4F3B-9DC2-82A7D0CE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65B-C270-4F97-B13E-1679E0E7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EA28-D8D9-46FC-9BBA-F0B5C404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40E-EDA6-4A36-9A8D-D3E7009C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658-1221-4AF6-84B9-1486FA40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C4F-E277-4CF9-AC2F-C8064532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8878-BD9D-4E53-8C7A-6D63E4FC61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«Мы во Вселенно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1476360" y="1246320"/>
            <a:ext cx="482436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47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годня я узн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47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ыло интерес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47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ыло труд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47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 выполнял зад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47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 понял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47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перь я мог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47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 приобрел…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47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 научил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47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меня получи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47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 смог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47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ня удивило …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47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не захоте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622440" y="3366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пробуйте оценить собственные знания и умения следующим образ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980E-5433-4428-83AB-6A1787A4C69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ие утверждения вер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417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емля вращается вокруг Солн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лнце – центр Солнечной сис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олочки Земли существуют обособленно друг от дру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емля имеет форму геои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Юпитер – самая маленькая планета Солнечной сис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селенная – часть Галак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бита – путь Земли вокруг Солн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Земле 6 матер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8C0E-7EE0-48E0-A205-1DA82B91C68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2E63-E6FE-4678-ADD5-A5D0A3591C47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1979640" y="1144080"/>
            <a:ext cx="2411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356000" y="220500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5» - 8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4» - 6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3» - 4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вижения Земл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одзаголовок 2"/>
          <p:cNvSpPr/>
          <p:nvPr/>
        </p:nvSpPr>
        <p:spPr>
          <a:xfrm>
            <a:off x="5724360" y="5805360"/>
            <a:ext cx="305604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  <a:ea typeface="Arial"/>
              </a:rPr>
              <a:t>5 класс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движения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1130400" y="206064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округ своей ос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5086440" y="2060640"/>
            <a:ext cx="27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округ 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987200" y="3213000"/>
            <a:ext cx="15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сев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5232600" y="3213000"/>
            <a:ext cx="24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рбита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7"/>
          <p:cNvCxnSpPr/>
          <p:nvPr/>
        </p:nvCxnSpPr>
        <p:spPr>
          <a:xfrm flipH="1">
            <a:off x="3492000" y="1412640"/>
            <a:ext cx="432720" cy="36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8"/>
          <p:cNvCxnSpPr/>
          <p:nvPr/>
        </p:nvCxnSpPr>
        <p:spPr>
          <a:xfrm>
            <a:off x="5219280" y="1412640"/>
            <a:ext cx="361080" cy="36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1"/>
          <p:cNvCxnSpPr/>
          <p:nvPr/>
        </p:nvCxnSpPr>
        <p:spPr>
          <a:xfrm>
            <a:off x="2700000" y="2708280"/>
            <a:ext cx="1080" cy="434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3"/>
          <p:cNvCxnSpPr>
            <a:endCxn id="54" idx="0"/>
          </p:cNvCxnSpPr>
          <p:nvPr/>
        </p:nvCxnSpPr>
        <p:spPr>
          <a:xfrm>
            <a:off x="6443640" y="2781000"/>
            <a:ext cx="32400" cy="432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Oval 2"/>
          <p:cNvSpPr/>
          <p:nvPr/>
        </p:nvSpPr>
        <p:spPr>
          <a:xfrm>
            <a:off x="1763640" y="4005360"/>
            <a:ext cx="165600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0"/>
          <p:cNvSpPr/>
          <p:nvPr/>
        </p:nvSpPr>
        <p:spPr>
          <a:xfrm flipH="1">
            <a:off x="2195640" y="4005360"/>
            <a:ext cx="720720" cy="143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3313080" cy="16495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4"/>
          <p:cNvSpPr/>
          <p:nvPr/>
        </p:nvSpPr>
        <p:spPr>
          <a:xfrm>
            <a:off x="2931480" y="5813280"/>
            <a:ext cx="289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§ 7, стр.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24000" y="260280"/>
          <a:ext cx="8640720" cy="6523200"/>
        </p:xfrm>
        <a:graphic>
          <a:graphicData uri="http://schemas.openxmlformats.org/drawingml/2006/table">
            <a:tbl>
              <a:tblPr/>
              <a:tblGrid>
                <a:gridCol w="4259160"/>
                <a:gridCol w="4381560"/>
              </a:tblGrid>
              <a:tr h="26028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ctr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евое дви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рбитальное дви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ение вокруг ______________, _______________ часовой стрелки с _______________на 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ение Земли вокруг ___________, _____________ часовой стрелки с _______________на 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ображаемая линия, которая проходит через центр Земли – 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ля движется вокруг Солнца по ________________, имеющей форму __________________, поэтому Земля то ____________, то 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и пересечения земной оси с поверхностью Земли ________________ и 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оборот вокруг Солнца  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наклона земной оси к орбите 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осный год  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ная ось направлена на 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ствие орбитального движения -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оборот вокруг оси 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ствие осевого движения 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24000" y="333360"/>
          <a:ext cx="8640720" cy="649116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39204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ctr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евое дви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ение вокруг ______________, _______________ часовой стрелки с _______________на ___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ображаемая линия, которая проходит через центр Земли – ___________________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и пересечения земной оси с поверхностью Земли _________________________ и ________________________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наклона земной оси к орбите __________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ная ось северным концом направлена на _____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оборот вокруг оси ______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ствие осевого движения ____________________________________________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Box 2"/>
          <p:cNvSpPr/>
          <p:nvPr/>
        </p:nvSpPr>
        <p:spPr>
          <a:xfrm>
            <a:off x="3132000" y="69228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воей о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5184720" y="69228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о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943280" y="1035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зап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5184720" y="1035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в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971640" y="1736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земная 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684360" y="270828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еверный полю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859280" y="2708280"/>
            <a:ext cx="29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Южный полю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5184720" y="357840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66,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6354720" y="4280040"/>
            <a:ext cx="24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олярную звез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3995640" y="4987800"/>
            <a:ext cx="29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4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449280" y="587700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мена дня и но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39640" y="260280"/>
          <a:ext cx="8353440" cy="613260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рбитальное дви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ение Земли вокруг ___________, _____________ часовой стрелки с _______________на ______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ля движется вокруг Солнца по ________________, имеющей форму __________________, поэтому Земля то ___________________, то ______________ к Солнц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оборот вокруг Солнца  ____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8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осный год  ______________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ствие орбитального движения -___________________________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Box 3"/>
          <p:cNvSpPr/>
          <p:nvPr/>
        </p:nvSpPr>
        <p:spPr>
          <a:xfrm>
            <a:off x="5940360" y="83664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о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3924360" y="83664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ол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224080" y="12366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зап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607000" y="12366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в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5607000" y="24130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рб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3108240" y="273996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вала (эллип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611280" y="304308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иближ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4067280" y="310032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уда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4500720" y="378792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365 суток и 6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3017880" y="4508640"/>
            <a:ext cx="57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аз в 4 года 366 дней, в феврале 29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576360" y="5519880"/>
            <a:ext cx="57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мена времён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062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Домашнее задани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Изучить § 6,7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2. Ответить на вопросы 1—7 (устно)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3. Выполнить задание 8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10:40:27Z</dcterms:created>
  <dc:creator>Елена</dc:creator>
  <dc:description/>
  <dc:language>en-US</dc:language>
  <cp:lastModifiedBy>Пользователь Windows</cp:lastModifiedBy>
  <dcterms:modified xsi:type="dcterms:W3CDTF">2019-09-11T17:22:45Z</dcterms:modified>
  <cp:revision>52</cp:revision>
  <dc:subject/>
  <dc:title>Движения Земли</dc:title>
</cp:coreProperties>
</file>