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AFF33-98E7-4E37-9DDD-16D8E1AF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4E3E3-2C59-4127-B615-B73179EB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884A6-275E-4DB1-86EE-20BDB902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B6315-B52E-4EF0-84C1-5FA56548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79B4-1D41-4528-BFC7-C03D6831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83B1-F738-4BBE-8EAA-E633091D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F027-6060-433D-8E64-0C8868C5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EB1B-E245-4965-9A51-ADA17782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5608-AD60-4952-8E0C-A9282CD2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474B-8922-44B1-9C33-E4719BF6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49F7-36D9-4243-972D-2B51C851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6AA92-D911-4D8D-9DAD-7670806C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585F-B0BE-4A5F-82C9-ECAE7332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B38F-DB31-4C9B-BBE6-85FCB01B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61BB-31FF-4CCB-A1F5-ABE17CCF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7BA5-E331-4F78-AC2F-0332C8D0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BA27-5231-4980-87A7-E0C20648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94FE4-A474-4774-BF36-1784A6E8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466E0-3B0F-4B38-AE9C-8E493B7F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5F6E0-7BB7-441B-98D1-8989D181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ED975-03D3-4CD7-A46E-0A9190E6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6AEDC-1BC5-4B22-8815-A4D57792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FDD0E-FEE2-4255-9149-2181523C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7AA74-AB6E-495E-B739-2D1B2A5F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2A01-9BF4-428B-A567-6FC981460B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AE48-96C5-42FB-9634-3768BA26DB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42670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«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Учение– это лишь один лепесток из того цветка, который называется Воспитанием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Сухомлинский В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952880" y="914400"/>
            <a:ext cx="3483000" cy="5029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841320"/>
            <a:ext cx="8229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4. Коммуникативное развитие учащих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Формирование умений слушать собеседника, убеждать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Стимулирование учащихся к активному выражению собственного мнения, формирование умений доказывать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3733920"/>
            <a:ext cx="7925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5. Развитие познавательной сферы учащих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Реализация  на уроке права учащихся на творчество и на ошиб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533520"/>
            <a:ext cx="792468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Воспитательные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жпредметные свя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Разумное соотношение на уроке обучения, развития и вос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Осознание процесса обучения (формирование не только знания, но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ознанного их принят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Соблюдение санитарно-гигиенических норм на уро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Дисциплинированность, прилежание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. Использование возможностей урока для развития у 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равственных и эстетических чув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42670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«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Учение– это лишь один лепесток из того цветка, который называется Воспитанием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Сухомлинский В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952880" y="914400"/>
            <a:ext cx="3483000" cy="5029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Тема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вадрат (урок – закрепл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Цели урока</a:t>
            </a:r>
            <a:br>
              <a:rPr sz="2800"/>
            </a:b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образов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ормировать понятие: «квадрат – это прямоугольник, у которого все стороны равн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ормировать навык решения задач разных видов, навык устного счё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должить работу по подготовке  к ознакомлению с действием умн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развива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пособствовать развитию интереса учащихся и активизировать их познавательну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вивать умение сравнивать и делать вы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воспита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оспитывать чувство взаимопомощи, заботливое отношение к животным, к окружающему ми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1523880"/>
            <a:ext cx="8077320" cy="43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Целеполаг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установка учащихся на умственную 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имулирование интер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Активизация знаний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фронт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на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Разноуровневая дифференци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наличие заданий разной степени тру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индивидуализация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6800" y="507960"/>
            <a:ext cx="32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бразовательные цели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609480"/>
            <a:ext cx="8458200" cy="49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Обеспечение систематизации зн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разумное соотношение «старого» и «нового»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пора на изученный матери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Специальные умения и навы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максимально возможная образовательная отдача от каждого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наличие специальных знаний и ум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. Результативность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беспечение контроля со стороны учите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бученность учащихся (устные ответы, работа в тетрад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достижение целей на каждом этапе уро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457200"/>
            <a:ext cx="8153280" cy="51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. Определенная степень самостоятельности учеников при выполнении зад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. Усвоение содержания програм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на уровне применения знаний в новой сит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. Наличие поисковых зада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постановка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раскрытие проблемы путем доказательного ре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. Целостность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внутренняя взаимосвязь ча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четкость структуры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соответствие структуры урока дидактическим цел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609480"/>
            <a:ext cx="861048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. Методический моду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нообразие приемов и методов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целесообразность прием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нообразие видов учеб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спользование дидактического материала, Т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циональные формы обратной связи ученик-уч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2. Установка на домашнее зада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оптимальный объ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доступность инструктаж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8600" y="457200"/>
            <a:ext cx="8458200" cy="53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азвивающие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азвитие познавательной сферы учащих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Развитие психических процесс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внимания (устойчивость, переключаемость, концентрац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пам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мышления (самостоятельность, логичность, вариативность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Побуждение к активному усвоению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Развитие познавательных интере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Удовлетворение любознательност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83808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2. Развитие мотивационно - потребностной сферы учащихс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Создание ситуаций поощрения за успешность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Стимулирование у учащихся самосто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Развитие навыков рефлек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3. Оценка морально-психологического климата на урок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l. Создание ситуации успех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Наличие атмосферы психологического комфо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Психологическая поддержка каждому ребенку со стороны одноклассников и учителя в случае затруд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Эмоционально-положительное восприятие у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Объективная оценка результатов деятельности учащихся и их отношения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0-02-17T20:50:1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