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885B-55C3-4B88-89E8-E58C8D9C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F14C-C262-4781-9022-981F6F05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92EF-B164-4CB2-B797-A8A70D12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2DE2-05C9-45F7-A922-76794BF4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FBA3-669E-4AEF-B106-21ED35AB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9B3B-825E-403B-AF52-AB3AEE08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4718-AAB0-446A-98A6-273B3FD7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F5CF-20B8-4B42-9282-693934A6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88BD-0854-4B9B-B258-51A77B36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BD5D-9972-44F6-B780-3C16C3DA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CED8-6735-4668-8181-97577C41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79A0-CF43-438D-B623-1699C54F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D349-768A-4EEA-946B-FE60CE750F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692280"/>
            <a:ext cx="770112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Совместное планирование содержания проекта и действий на текущий ден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Воспитатель логопедической группы Бочкарева В.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МБДОУ №1 п. Шушенск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0728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рмирование активной позици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• Самоопределение в деятельност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• Самостоятельность действий и ответственность за выполнение поставленной цел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• Принятие различных способов достижения поставленной цел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• Понимание разности интересов и потребностей у разных люде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• Независимость от опеки взрослых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• Развитие интересов и потребностей, склонностей к определенному виду деятельност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• Возможности развития в том направлении и темпе, который свойствен ребёнку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• Возможности самовыражения в наиболее успешной област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• Осознание результативности собственной деятельности как части общего дел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468360" y="69228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зультаты совместного планирования и проектной раб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98984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хнология группового сбора и возможности е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ализации в условиях дошкольного образовательного учреждения: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бно-методическое пособие / Авт-сост. М. А. Пазюков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ркутск: ОГОБУ СПО «ИРКПО», 201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47636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тератур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428400"/>
            <a:ext cx="7772400" cy="5713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ыбор темы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Скругленный прямоугольник 8"/>
          <p:cNvSpPr/>
          <p:nvPr/>
        </p:nvSpPr>
        <p:spPr>
          <a:xfrm>
            <a:off x="4932360" y="1700280"/>
            <a:ext cx="3578400" cy="3816360"/>
          </a:xfrm>
          <a:custGeom>
            <a:avLst/>
            <a:gdLst>
              <a:gd name="textAreaLeft" fmla="*/ 174600 w 3578400"/>
              <a:gd name="textAreaRight" fmla="*/ 3403800 w 3578400"/>
              <a:gd name="textAreaTop" fmla="*/ 174600 h 3816360"/>
              <a:gd name="textAreaBottom" fmla="*/ 3641760 h 3816360"/>
            </a:gdLst>
            <a:ahLst/>
            <a:rect l="textAreaLeft" t="textAreaTop" r="textAreaRight" b="textAreaBottom"/>
            <a:pathLst>
              <a:path w="21600" h="23036">
                <a:moveTo>
                  <a:pt x="3600" y="0"/>
                </a:moveTo>
                <a:arcTo wR="3600" hR="3600" stAng="16200000" swAng="-5400000"/>
                <a:lnTo>
                  <a:pt x="0" y="19436"/>
                </a:lnTo>
                <a:arcTo wR="3600" hR="3600" stAng="10800000" swAng="-5400000"/>
                <a:lnTo>
                  <a:pt x="18000" y="230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ПО ИНИЦИАТИВЕ РЕБЁНКА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ма проекта определяется по инициативе детей(что они хотят узнать, что их интересует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кругленный прямоугольник 9"/>
          <p:cNvSpPr/>
          <p:nvPr/>
        </p:nvSpPr>
        <p:spPr>
          <a:xfrm>
            <a:off x="611280" y="1700280"/>
            <a:ext cx="3600360" cy="3889440"/>
          </a:xfrm>
          <a:custGeom>
            <a:avLst/>
            <a:gdLst>
              <a:gd name="textAreaLeft" fmla="*/ 175680 w 3600360"/>
              <a:gd name="textAreaRight" fmla="*/ 3424680 w 3600360"/>
              <a:gd name="textAreaTop" fmla="*/ 175680 h 3889440"/>
              <a:gd name="textAreaBottom" fmla="*/ 3713760 h 3889440"/>
            </a:gdLst>
            <a:ahLst/>
            <a:rect l="textAreaLeft" t="textAreaTop" r="textAreaRight" b="textAreaBottom"/>
            <a:pathLst>
              <a:path w="21600" h="23334">
                <a:moveTo>
                  <a:pt x="3600" y="0"/>
                </a:moveTo>
                <a:arcTo wR="3600" hR="3600" stAng="16200000" swAng="-5400000"/>
                <a:lnTo>
                  <a:pt x="0" y="19734"/>
                </a:lnTo>
                <a:arcTo wR="3600" hR="3600" stAng="10800000" swAng="-5400000"/>
                <a:lnTo>
                  <a:pt x="18000" y="233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ПО ИНИЦИАТИВЕ ВЗРОСЛ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тема инициируется взрослыми, то к началу утреннего сбора воспитатели подбирают соответствующую возрасту детей мотивацию (иллюстрации, книги, предметы по теме, сюрпризные моменты, специально подобранные истории и т.п.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Прямая со стрелкой 14"/>
          <p:cNvCxnSpPr>
            <a:stCxn id="43" idx="2"/>
            <a:endCxn id="45" idx="0"/>
          </p:cNvCxnSpPr>
          <p:nvPr/>
        </p:nvCxnSpPr>
        <p:spPr>
          <a:xfrm flipH="1">
            <a:off x="2411280" y="999720"/>
            <a:ext cx="2230920" cy="700920"/>
          </a:xfrm>
          <a:prstGeom prst="straightConnector1">
            <a:avLst/>
          </a:prstGeom>
          <a:ln w="9360">
            <a:solidFill>
              <a:srgbClr val="d8d8d8"/>
            </a:solidFill>
            <a:miter/>
            <a:tailEnd len="med" type="arrow" w="med"/>
          </a:ln>
        </p:spPr>
      </p:cxnSp>
      <p:cxnSp>
        <p:nvCxnSpPr>
          <p:cNvPr id="47" name="Прямая со стрелкой 16"/>
          <p:cNvCxnSpPr>
            <a:stCxn id="43" idx="2"/>
            <a:endCxn id="44" idx="0"/>
          </p:cNvCxnSpPr>
          <p:nvPr/>
        </p:nvCxnSpPr>
        <p:spPr>
          <a:xfrm>
            <a:off x="4640760" y="999720"/>
            <a:ext cx="2080440" cy="7009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48" name="Прямая со стрелкой 18"/>
          <p:cNvCxnSpPr>
            <a:stCxn id="43" idx="2"/>
            <a:endCxn id="45" idx="0"/>
          </p:cNvCxnSpPr>
          <p:nvPr/>
        </p:nvCxnSpPr>
        <p:spPr>
          <a:xfrm flipH="1">
            <a:off x="2411280" y="999720"/>
            <a:ext cx="2230920" cy="7009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920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овместное планирование содержания проекта и действий на текущий день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1280" y="1196640"/>
            <a:ext cx="7921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Из общего обсуждения темы, из заполнения ≪модели трёх вопросов≫ рождается основа плана проекта — как по содержанию, так и по видам деятельност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и планировании тематического проекта или работы на текущий день не упрощается и не адаптируется формулировка вопросов. Это серьёзная часть утреннего группового сбора, соответственно и вопросы звучат по-деловому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то напомнит всем тему нашего проекта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акие интересные дела мы с вами решили выполнить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Что мы с вами уже успели сделать (узнать, чему научиться)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акой у тебя сегодня план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д каким проектом ты сегодня будешь работать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Чему ты хочешь научиться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Что тебе нужно для выполнения твоего плана (дл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оздания...)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акие материалы тебе понадобятся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ак ты считаешь, тех материалов, которые есть 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Центре, тебе достаточно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Что нужно добавить в Центр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Где это можно найти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 Идеи тематического проекта вносятся в план непосредственно в момент их выдвижения – записываются на большом листе бумаги, вывешиваются на самом видном месте и сохраняются как общее достояние групп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Записи выполняются печатными буквам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Обязательно подписывается имя автора иде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. Предложения детей не подвергаются литературной обработке, что позволяет сохранить логику мышления и стиль автор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. По мере необходимости можно обратиться к записям и посмотреть, насколько реальны  дела и планы, что выполнено, что ещё нереализовано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. В этот же день во время тихого часа все взрослые члены команды (воспитатели, специалисты) собираются вместе и обсуждают идеи, предложенные детьми: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что послужило побудительным мотивом для проекта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как проявляются личные интересы детей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как проявляются индивидуальные особенности познавательной деятельности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 какие способы организации творческой, познавательной деятельности не заявлены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какие виды деятельности можно предложить дополнительно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кто из детей проявляет большую активность, а кто пассивен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включить в активную работу детей, не проявивших видимой инициативы.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1214280"/>
            <a:ext cx="8143560" cy="507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то в чём видит своё место (берёт на себя ответственность)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акие ресурсы необходимы для обеспечения и развёртывания проект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ак и в чём будет реализована активность родителей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акие именно материалы нужно приготовить взрослым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ак провести презентацию центров на групповом сбор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чальная форма плана «Паутинка» дополняется инициативами взрослых и вписывается фломастером другого цвета с обязательным указанием автора идеи.</a:t>
            </a:r>
            <a:br>
              <a:rPr sz="20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2218320" y="785880"/>
            <a:ext cx="487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Результаты обсуждения членов команд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36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Информационный листок – специально подготовленная форм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 или ксерокопированная заготовка), в которой взрослые и дети ведут записи днев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начимых для себя и всей группы дел и событ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8360" y="1844280"/>
            <a:ext cx="82072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руктура заполнения информационного лис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ределение времени г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вать характерные признаки которые дети наблюдают по дороге в детский са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ределение состояния погоды на сегодняшний де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чёт и зарисовка символами девоч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чёт и зарисовка символами мальчи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авнение, определение: больше, меньше, поровн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метить символами, кто из детей отсутству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означить проведение утренней гимнасти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знакомить детей с работой центр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Организация работы в центрах выбора (паутинк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4"/>
          <p:cNvSpPr/>
          <p:nvPr/>
        </p:nvSpPr>
        <p:spPr>
          <a:xfrm>
            <a:off x="395280" y="857160"/>
            <a:ext cx="2747880" cy="1851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Центр  художественного творче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исовать звёздное небо, космические корабл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ппликация «Мы в космосе»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исование животных, живущих на других планетах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лепить макет «Космодром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Скругленный прямоугольник 5"/>
          <p:cNvSpPr/>
          <p:nvPr/>
        </p:nvSpPr>
        <p:spPr>
          <a:xfrm>
            <a:off x="3203640" y="836640"/>
            <a:ext cx="2736720" cy="17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Центр математи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сосчитать звёздочки, плане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змерить длину хвоста коме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полнить штриховки на карточках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равнить планеты по размеру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гры с лабиринтами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Скругленный прямоугольник 6"/>
          <p:cNvSpPr/>
          <p:nvPr/>
        </p:nvSpPr>
        <p:spPr>
          <a:xfrm>
            <a:off x="6012000" y="765000"/>
            <a:ext cx="273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Центр книг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зготовить мини-книгу «Космос»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копировать слова по тем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исать (нарисовать) письмо космонавтам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расшифровать письмо «инопланетян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найти стихи о космос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кругленный прямоугольник 7"/>
          <p:cNvSpPr/>
          <p:nvPr/>
        </p:nvSpPr>
        <p:spPr>
          <a:xfrm>
            <a:off x="6084720" y="2781360"/>
            <a:ext cx="2643480" cy="17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Центр науки и приро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смотреть иллюстрации, энциклопеди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зучить солнечную систему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делать  модель солнечной систем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кругленный прямоугольник 8"/>
          <p:cNvSpPr/>
          <p:nvPr/>
        </p:nvSpPr>
        <p:spPr>
          <a:xfrm>
            <a:off x="428760" y="2786040"/>
            <a:ext cx="2643120" cy="17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Центр строитель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строить космический корабль с использованием коробок, крупного конструктора, лего и т.п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делать луноходы из коробочек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9"/>
          <p:cNvSpPr/>
          <p:nvPr/>
        </p:nvSpPr>
        <p:spPr>
          <a:xfrm>
            <a:off x="428760" y="4643280"/>
            <a:ext cx="2643120" cy="17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Центр кулинар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готовить космический завтрак 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делать салат «Солнечный», коктейль «Звёздочка»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печь печенье «Метеор»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кругленный прямоугольник 10"/>
          <p:cNvSpPr/>
          <p:nvPr/>
        </p:nvSpPr>
        <p:spPr>
          <a:xfrm>
            <a:off x="3214800" y="4643280"/>
            <a:ext cx="2643120" cy="17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Центр игр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организовать игру «Путешествие на неизвестную планету»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устроить космический завтра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кругленный прямоугольник 12"/>
          <p:cNvSpPr/>
          <p:nvPr/>
        </p:nvSpPr>
        <p:spPr>
          <a:xfrm>
            <a:off x="3429000" y="3143160"/>
            <a:ext cx="2200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Тема «Космос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кругленный прямоугольник 13"/>
          <p:cNvSpPr/>
          <p:nvPr/>
        </p:nvSpPr>
        <p:spPr>
          <a:xfrm>
            <a:off x="6000840" y="4643280"/>
            <a:ext cx="2643120" cy="17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изкультурный цент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разучить упражнения для космической зарядк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провести тренировки для полёта на Лун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Прямая со стрелкой 21"/>
          <p:cNvCxnSpPr>
            <a:endCxn id="58" idx="2"/>
          </p:cNvCxnSpPr>
          <p:nvPr/>
        </p:nvCxnSpPr>
        <p:spPr>
          <a:xfrm flipV="1">
            <a:off x="4489200" y="2622240"/>
            <a:ext cx="83160" cy="72000"/>
          </a:xfrm>
          <a:prstGeom prst="straightConnector1">
            <a:avLst/>
          </a:prstGeom>
          <a:ln w="9360">
            <a:solidFill>
              <a:srgbClr val="d8d8d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35344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встраивать инициативу детей в структуру проекта;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 каждому ребёнку сформировать образ предстоящего дня и выбрать варианты действий, партнёрств для самого себя и, по согласованию, для своих друзей, для воспитателей (для всех взрослых, включая членов семей)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взрослым предусмотреть собственные педагогические действия: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) подготовить развивающую среду, отвечающую потребностям детей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) выбрать содержание, соответствующее реальным запросам воспитанников (не предлагать то, что оказывается для них знакомым, но вносить то, что вызывает интерес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) наметить адекватные потребностям детей методы и приёмы педагогического воздействия и поддержки.</a:t>
            </a:r>
            <a:br>
              <a:rPr sz="1600"/>
            </a:b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1547640" y="620640"/>
            <a:ext cx="53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овместное планирование позволяе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нципы организации проект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94920" y="1916280"/>
            <a:ext cx="828036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нцип открытости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– реализуется за счёт безусловного признания выдвинутых детьми идей,  возможности постоянно пополнять идеи общего плана, у дошкольника остаётся право не участвовать в выбранной теме, несмотря на то, что он, возможно, сам ее и инициировал, — он может выбрать для себя другое дело; за счёт привлечения самых разноплановых дел и действий, направленных на разностороннее раскрытие тем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нцип диалогичности  -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является в обсуждении плана, в предложении видов деятельности и способов действий всеми участниками группового сбо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нцип рефлексивности -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крывается в том, что и у детей, и у взрослых есть общая тема для обсуждения, создано единое смысловое поле (в противовес ситуациям, когда проект полностью составлен воспитателем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Пользователь</cp:lastModifiedBy>
  <dcterms:modified xsi:type="dcterms:W3CDTF">2018-04-11T00:49:06Z</dcterms:modified>
  <cp:revision>31</cp:revision>
  <dc:subject/>
  <dc:title>Шаблон презентации</dc:title>
</cp:coreProperties>
</file>