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43.wmf" ContentType="image/x-wmf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1860-CD85-4A1E-B621-E674A073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5575-C7F8-4F73-96B7-228011B2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7B7-4A77-4CDB-8C73-67394170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6BBF-06F6-450E-A819-E0BC17E5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7578-DFA7-4D11-A5AC-4B698D8E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3B91-4574-463F-A0B2-804B8EE8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163F-FACA-4ECE-BB08-DC513EC4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FD1-A189-4F63-B412-A282C82C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D12A-8459-46F4-B176-32752648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CC4-DA2A-4B64-8A5E-E4D0BE68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19F-D2E9-4D6C-9D8D-293B320E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CE56-4FAB-49DC-A82A-79D583F5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FC0E-1B72-42AE-AAAD-A55BEBB029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alt-komplekt.at.ua/Vse_o_lese/SERDCE1.jpg" TargetMode="External"/><Relationship Id="rId2" Type="http://schemas.openxmlformats.org/officeDocument/2006/relationships/hyperlink" Target="http://player.myshared.ru/1200506/data/images/img15.jpg" TargetMode="External"/><Relationship Id="rId3" Type="http://schemas.openxmlformats.org/officeDocument/2006/relationships/hyperlink" Target="http://gigabaza.ru/images/63/125148/m1613abd6.jpg" TargetMode="External"/><Relationship Id="rId4" Type="http://schemas.openxmlformats.org/officeDocument/2006/relationships/hyperlink" Target="http://www.playcast.ru/uploads/2015/03/15/12647683.jpg" TargetMode="External"/><Relationship Id="rId5" Type="http://schemas.openxmlformats.org/officeDocument/2006/relationships/hyperlink" Target="http://katona.ru/upload/iblock/906/906ef045f95e2c8e6f6e00ced9362866.jpg" TargetMode="External"/><Relationship Id="rId6" Type="http://schemas.openxmlformats.org/officeDocument/2006/relationships/hyperlink" Target="http://belgorod.buyreklama.ru/belgorod/photos/31186312/cb9336b3bfa8ff0fc7516b1bff74423c.jpg" TargetMode="External"/><Relationship Id="rId7" Type="http://schemas.openxmlformats.org/officeDocument/2006/relationships/hyperlink" Target="http://tyumen.veved.ru/uploads/posts/2014-11/1415605182_37.jpg" TargetMode="External"/><Relationship Id="rId8" Type="http://schemas.openxmlformats.org/officeDocument/2006/relationships/hyperlink" Target="http://mebel.sppok.ru/mebel/imgs/img700/Bereza-n_tl.jpg" TargetMode="External"/><Relationship Id="rId9" Type="http://schemas.openxmlformats.org/officeDocument/2006/relationships/hyperlink" Target="http://www.muravlenko.com/uploads/posts/2011-12/1325051022_p1240018_800.jpg" TargetMode="External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lki.vtapkah.com/f/product/10006-3.jpg" TargetMode="External"/><Relationship Id="rId2" Type="http://schemas.openxmlformats.org/officeDocument/2006/relationships/hyperlink" Target="http://www.elit-mebel.uz/src/CKeditor/upload/images/jasen_.jpg" TargetMode="External"/><Relationship Id="rId3" Type="http://schemas.openxmlformats.org/officeDocument/2006/relationships/hyperlink" Target="http://2x2shop.com.ua/imgs/31924-montazh-svetodiodnoy-lenty-na-potolke-svoimi-rukami.jpg" TargetMode="External"/><Relationship Id="rId4" Type="http://schemas.openxmlformats.org/officeDocument/2006/relationships/hyperlink" Target="http://commons.hortipedia.com/images/5/56/Populus_tremula_tree_photo_file_1%2C86MB.jpg" TargetMode="External"/><Relationship Id="rId5" Type="http://schemas.openxmlformats.org/officeDocument/2006/relationships/hyperlink" Target="http://www.horpol.ru/upload_picture/&#1083;&#1080;&#1089;&#1090;&#1074;&#1077;&#1085;&#1085;&#1080;&#1094;&#1072;%20&#1087;&#1072;&#1088;&#1082;&#1077;&#1090;.jpg" TargetMode="External"/><Relationship Id="rId6" Type="http://schemas.openxmlformats.org/officeDocument/2006/relationships/hyperlink" Target="http://jrmk.net/im/e81/b58/bed/60ed965a6a156206e03a6d8-2.jpg" TargetMode="External"/><Relationship Id="rId7" Type="http://schemas.openxmlformats.org/officeDocument/2006/relationships/hyperlink" Target="http://chechersk.gov.by/uploads/images/DEREVO.jpg" TargetMode="External"/><Relationship Id="rId8" Type="http://schemas.openxmlformats.org/officeDocument/2006/relationships/hyperlink" Target="http://www.rusdrevesina.ru/wp-content/uploads/klen_wood_011.jpg" TargetMode="External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ddtgrupa.lv/assets/532573b96e1e5506a7000ff5/lestnica3.JPG" TargetMode="External"/><Relationship Id="rId2" Type="http://schemas.openxmlformats.org/officeDocument/2006/relationships/hyperlink" Target="http://www.bign2n.ugent.be/sites/default/files/field/image/Picea_abies.JPG" TargetMode="External"/><Relationship Id="rId3" Type="http://schemas.openxmlformats.org/officeDocument/2006/relationships/hyperlink" Target="http://tools.reznoe.ru/upload/articles/10/pinus_wood.jpg" TargetMode="External"/><Relationship Id="rId4" Type="http://schemas.openxmlformats.org/officeDocument/2006/relationships/hyperlink" Target="http://tyumen.rujazi.com/images/classified/649999.jpg" TargetMode="External"/><Relationship Id="rId5" Type="http://schemas.openxmlformats.org/officeDocument/2006/relationships/hyperlink" Target="https://s-media-cache-ak0.pinimg.com/originals/bb/25/a0/bb25a0aa219cdc7ce8301717c6941d11.jpg" TargetMode="External"/><Relationship Id="rId6" Type="http://schemas.openxmlformats.org/officeDocument/2006/relationships/hyperlink" Target="http://www.timb.ru.opt-images.1c-bitrix-cdn.ru/upload/medialibrary/882/882be450951ec5cc47f1264bfbf19b7f.jpg?144603641323809" TargetMode="External"/><Relationship Id="rId7" Type="http://schemas.openxmlformats.org/officeDocument/2006/relationships/hyperlink" Target="http://www.ru.all.biz/img/ru/catalog/648765.jpeg" TargetMode="External"/><Relationship Id="rId8" Type="http://schemas.openxmlformats.org/officeDocument/2006/relationships/hyperlink" Target="http://www.actaplantarum.org/floraitaliae/download/file.php?id=3364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parket-st.ru/img/system_catalog_photo_records/1425388226154215.jpg" TargetMode="External"/><Relationship Id="rId2" Type="http://schemas.openxmlformats.org/officeDocument/2006/relationships/hyperlink" Target="http://new-dubki.ru/jm/images/stories/ita-decking_gallery_10.jpg" TargetMode="External"/><Relationship Id="rId3" Type="http://schemas.openxmlformats.org/officeDocument/2006/relationships/hyperlink" Target="http://stroysezon.ru/upload/iblock/e58/e58f472465a433534578a9194c03eb15.jpg" TargetMode="External"/><Relationship Id="rId4" Type="http://schemas.openxmlformats.org/officeDocument/2006/relationships/hyperlink" Target="http://www.palki.ru/messages/images_86428.jpg" TargetMode="External"/><Relationship Id="rId5" Type="http://schemas.openxmlformats.org/officeDocument/2006/relationships/hyperlink" Target="http://lesnika.net/uploads/posts/2014-11/1414958187_neobreznaya-doska1.jpg" TargetMode="External"/><Relationship Id="rId6" Type="http://schemas.openxmlformats.org/officeDocument/2006/relationships/hyperlink" Target="http://stroymaterial-buy.ru/uploads/posts/brus-2-pilomaterial-full.jpg" TargetMode="External"/><Relationship Id="rId7" Type="http://schemas.openxmlformats.org/officeDocument/2006/relationships/hyperlink" Target="http://www.woodtrade.ru/files/img/msgboard/gallery/36312_p800.jpg" TargetMode="External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145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Древесина. Пиломатериалы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и древесные материалы.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5 клас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0360" y="4167360"/>
            <a:ext cx="475272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Котлярова С.В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учитель технолог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1 квалификационной категор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МАОУ «СОШ№1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9"/>
          <p:cNvPicPr/>
          <p:nvPr/>
        </p:nvPicPr>
        <p:blipFill>
          <a:blip r:embed="rId1"/>
          <a:stretch/>
        </p:blipFill>
        <p:spPr>
          <a:xfrm>
            <a:off x="468360" y="404640"/>
            <a:ext cx="2303280" cy="1727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7"/>
          <p:cNvPicPr/>
          <p:nvPr/>
        </p:nvPicPr>
        <p:blipFill>
          <a:blip r:embed="rId2"/>
          <a:stretch/>
        </p:blipFill>
        <p:spPr>
          <a:xfrm>
            <a:off x="468360" y="3933720"/>
            <a:ext cx="2232000" cy="1571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12"/>
          <p:cNvPicPr/>
          <p:nvPr/>
        </p:nvPicPr>
        <p:blipFill>
          <a:blip r:embed="rId3"/>
          <a:stretch/>
        </p:blipFill>
        <p:spPr>
          <a:xfrm>
            <a:off x="3564000" y="404640"/>
            <a:ext cx="2160360" cy="174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16"/>
          <p:cNvPicPr/>
          <p:nvPr/>
        </p:nvPicPr>
        <p:blipFill>
          <a:blip r:embed="rId4"/>
          <a:stretch/>
        </p:blipFill>
        <p:spPr>
          <a:xfrm>
            <a:off x="6516720" y="404640"/>
            <a:ext cx="22320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698920" y="1268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Хвойные по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578560" y="580536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Листвен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4" descr="25"/>
          <p:cNvPicPr/>
          <p:nvPr/>
        </p:nvPicPr>
        <p:blipFill>
          <a:blip r:embed="rId1"/>
          <a:stretch/>
        </p:blipFill>
        <p:spPr>
          <a:xfrm>
            <a:off x="539640" y="2133720"/>
            <a:ext cx="2710080" cy="2031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26"/>
          <p:cNvPicPr/>
          <p:nvPr/>
        </p:nvPicPr>
        <p:blipFill>
          <a:blip r:embed="rId2"/>
          <a:stretch/>
        </p:blipFill>
        <p:spPr>
          <a:xfrm>
            <a:off x="539640" y="4640400"/>
            <a:ext cx="2710080" cy="1377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27"/>
          <p:cNvPicPr/>
          <p:nvPr/>
        </p:nvPicPr>
        <p:blipFill>
          <a:blip r:embed="rId3"/>
          <a:stretch/>
        </p:blipFill>
        <p:spPr>
          <a:xfrm>
            <a:off x="4643280" y="2379600"/>
            <a:ext cx="40323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698920" y="1268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Брё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28"/>
          <p:cNvPicPr/>
          <p:nvPr/>
        </p:nvPicPr>
        <p:blipFill>
          <a:blip r:embed="rId1"/>
          <a:stretch/>
        </p:blipFill>
        <p:spPr>
          <a:xfrm>
            <a:off x="1908000" y="1916280"/>
            <a:ext cx="568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698920" y="1268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ило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29"/>
          <p:cNvPicPr/>
          <p:nvPr/>
        </p:nvPicPr>
        <p:blipFill>
          <a:blip r:embed="rId1"/>
          <a:stretch/>
        </p:blipFill>
        <p:spPr>
          <a:xfrm>
            <a:off x="1403280" y="2278080"/>
            <a:ext cx="6337440" cy="3168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3276720" y="595008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Доски обре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698920" y="1268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ило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059280" y="595008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Доски необре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30"/>
          <p:cNvPicPr/>
          <p:nvPr/>
        </p:nvPicPr>
        <p:blipFill>
          <a:blip r:embed="rId1"/>
          <a:stretch/>
        </p:blipFill>
        <p:spPr>
          <a:xfrm>
            <a:off x="971640" y="2492280"/>
            <a:ext cx="72723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698920" y="1268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ило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484360" y="61405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Брус четырёхкан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31"/>
          <p:cNvPicPr/>
          <p:nvPr/>
        </p:nvPicPr>
        <p:blipFill>
          <a:blip r:embed="rId1"/>
          <a:stretch/>
        </p:blipFill>
        <p:spPr>
          <a:xfrm>
            <a:off x="2771640" y="2133720"/>
            <a:ext cx="3816360" cy="37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698920" y="1268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ило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484360" y="61405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Брус двухкан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32"/>
          <p:cNvPicPr/>
          <p:nvPr/>
        </p:nvPicPr>
        <p:blipFill>
          <a:blip r:embed="rId1"/>
          <a:stretch/>
        </p:blipFill>
        <p:spPr>
          <a:xfrm>
            <a:off x="2195640" y="2079720"/>
            <a:ext cx="49687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698920" y="1268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ило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484360" y="61405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Бру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33"/>
          <p:cNvPicPr/>
          <p:nvPr/>
        </p:nvPicPr>
        <p:blipFill>
          <a:blip r:embed="rId1"/>
          <a:stretch/>
        </p:blipFill>
        <p:spPr>
          <a:xfrm>
            <a:off x="1979640" y="2178000"/>
            <a:ext cx="54007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698920" y="1268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ило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484360" y="61405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лас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34"/>
          <p:cNvPicPr/>
          <p:nvPr/>
        </p:nvPicPr>
        <p:blipFill>
          <a:blip r:embed="rId1"/>
          <a:stretch/>
        </p:blipFill>
        <p:spPr>
          <a:xfrm>
            <a:off x="1476360" y="2120760"/>
            <a:ext cx="62643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698920" y="1268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ило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484360" y="61405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Четвер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35"/>
          <p:cNvPicPr/>
          <p:nvPr/>
        </p:nvPicPr>
        <p:blipFill>
          <a:blip r:embed="rId1"/>
          <a:stretch/>
        </p:blipFill>
        <p:spPr>
          <a:xfrm>
            <a:off x="2484360" y="2333520"/>
            <a:ext cx="43927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98920" y="1268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ило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484360" y="61405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Горбы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36"/>
          <p:cNvPicPr/>
          <p:nvPr/>
        </p:nvPicPr>
        <p:blipFill>
          <a:blip r:embed="rId1"/>
          <a:stretch/>
        </p:blipFill>
        <p:spPr>
          <a:xfrm>
            <a:off x="2268360" y="2135160"/>
            <a:ext cx="47516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1"/>
          <p:cNvPicPr/>
          <p:nvPr/>
        </p:nvPicPr>
        <p:blipFill>
          <a:blip r:embed="rId1"/>
          <a:stretch/>
        </p:blipFill>
        <p:spPr>
          <a:xfrm>
            <a:off x="5602320" y="1268280"/>
            <a:ext cx="2257560" cy="2665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2"/>
          <p:cNvPicPr/>
          <p:nvPr/>
        </p:nvPicPr>
        <p:blipFill>
          <a:blip r:embed="rId2"/>
          <a:stretch/>
        </p:blipFill>
        <p:spPr>
          <a:xfrm>
            <a:off x="5364000" y="4040280"/>
            <a:ext cx="3240360" cy="2460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3"/>
          <p:cNvPicPr/>
          <p:nvPr/>
        </p:nvPicPr>
        <p:blipFill>
          <a:blip r:embed="rId3"/>
          <a:stretch/>
        </p:blipFill>
        <p:spPr>
          <a:xfrm>
            <a:off x="395280" y="1844640"/>
            <a:ext cx="4824360" cy="3524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1405800" y="59245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троение ств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698920" y="1268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ило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340000" y="614052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Элементы пило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37"/>
          <p:cNvPicPr/>
          <p:nvPr/>
        </p:nvPicPr>
        <p:blipFill>
          <a:blip r:embed="rId1"/>
          <a:stretch/>
        </p:blipFill>
        <p:spPr>
          <a:xfrm>
            <a:off x="826920" y="2349360"/>
            <a:ext cx="74901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698920" y="1268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Древесны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835280" y="61405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ДСП (древесностружечная пли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38"/>
          <p:cNvPicPr/>
          <p:nvPr/>
        </p:nvPicPr>
        <p:blipFill>
          <a:blip r:embed="rId1"/>
          <a:stretch/>
        </p:blipFill>
        <p:spPr>
          <a:xfrm>
            <a:off x="395280" y="2205000"/>
            <a:ext cx="4248000" cy="212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39"/>
          <p:cNvPicPr/>
          <p:nvPr/>
        </p:nvPicPr>
        <p:blipFill>
          <a:blip r:embed="rId2"/>
          <a:stretch/>
        </p:blipFill>
        <p:spPr>
          <a:xfrm>
            <a:off x="4932360" y="3213000"/>
            <a:ext cx="3887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698920" y="1268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Древесны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906560" y="61405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ДВП (древесноволокнистая пли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40"/>
          <p:cNvPicPr/>
          <p:nvPr/>
        </p:nvPicPr>
        <p:blipFill>
          <a:blip r:embed="rId1"/>
          <a:stretch/>
        </p:blipFill>
        <p:spPr>
          <a:xfrm>
            <a:off x="2340000" y="2060640"/>
            <a:ext cx="468000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698920" y="1268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Древесны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906560" y="61405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Шп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41"/>
          <p:cNvPicPr/>
          <p:nvPr/>
        </p:nvPicPr>
        <p:blipFill>
          <a:blip r:embed="rId1"/>
          <a:stretch/>
        </p:blipFill>
        <p:spPr>
          <a:xfrm>
            <a:off x="1403280" y="2265480"/>
            <a:ext cx="640872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2698920" y="1268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Древесны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906560" y="61405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Фан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42"/>
          <p:cNvPicPr/>
          <p:nvPr/>
        </p:nvPicPr>
        <p:blipFill>
          <a:blip r:embed="rId1"/>
          <a:stretch/>
        </p:blipFill>
        <p:spPr>
          <a:xfrm>
            <a:off x="1763640" y="1994040"/>
            <a:ext cx="57610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дание на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- изучить параграф 3 учеб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- ответить на вопросы 1-5, с.15 учеб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- найти в Интернете, чем древесина карельской берёзы отличается от древесины берёзы, произрастающей в средней полосе России, и где она применя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- принести чертёжные инструменты: простые карандаши, линейку, циркуль, ласт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j0301252"/>
          <p:cNvPicPr/>
          <p:nvPr/>
        </p:nvPicPr>
        <p:blipFill>
          <a:blip r:embed="rId1"/>
          <a:stretch/>
        </p:blipFill>
        <p:spPr>
          <a:xfrm>
            <a:off x="6659640" y="40464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писок использованных печатн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1.Тищенко А.Т. Технология. Индустриальные технологии: 5 класс: методическое пособие / А.Т. Тищенко. – 2-е изд., дораб. – М.: Вентана-Граф,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2.Тищенко А.Т. Технология. Индустриальные технологии: 5 класс: рабочая тетрадь для учащихся общеобразовательных организаций / А.Т. Тищенко, Н.А. Буглаева. – 2-е изд., дораб. – М.: Вентана-Граф,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3.Тищенко А.Т. Технология. Индустриальные технологии: 5 класс: учебник для учащихся общеобразовательных учреждений/ А.Т. Тищенко,  В.Д. Симоненко. М.: Вентана-Граф,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ктивные ссылки на использованные изображения (URL-адрес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86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строение ство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lt-komplekt.at.ua/Vse_o_lese/SERDCE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строение ство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layer.myshared.ru/1200506/data/images/img15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строение ство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igabaza.ru/images/63/125148/m1613abd6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дуб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laycast.ru/uploads/2015/03/15/1264768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текстура дуб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katona.ru/upload/iblock/906/906ef045f95e2c8e6f6e00ced9362866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изделие из дуб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belgorod.buyreklama.ru/belgorod/photos/31186312/cb9336b3bfa8ff0fc7516b1bff74423c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берёз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tyumen.veved.ru/uploads/posts/2014-11/1415605182_37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текстура берёз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mebel.sppok.ru/mebel/imgs/img700/Bereza-n_tl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изделия из берёз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muravlenko.com/uploads/posts/2011-12/1325051022_p1240018_80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ктивные ссылки на использованные изображения (URL-адрес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86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лип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lki.vtapkah.com/f/product/10006-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текстура лип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lit-mebel.uz/src/CKeditor/upload/images/jasen_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изделия из лип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2x2shop.com.ua/imgs/31924-montazh-svetodiodnoy-lenty-na-potolke-svoimi-rukami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оси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ommons.hortipedia.com/images/5/56/Populus_tremula_tree_photo_file_1%2C86MB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текстура осин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horpol.ru/upload_picture/%D0%BB%D0%B8%D1%81%D1%82%D0%B2%D0%B5%D0%BD%D0%BD%D0%B8%D1%86%D0%B0%20%D0%BF%D0%B0%D1%80%D0%BA%D0%B5%D1%8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изделия из осин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jrmk.net/im/e81/b58/bed/60ed965a6a156206e03a6d8-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клё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chechersk.gov.by/uploads/images/DEREVO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текстура клё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rusdrevesina.ru/wp-content/uploads/klen_wood_01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ктивные ссылки на использованные изображения (URL-адрес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86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изделия из клё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dtgrupa.lv/assets/532573b96e1e5506a7000ff5/lestnica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ign2n.ugent.be/sites/default/files/field/image/Picea_abie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текстура ел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tools.reznoe.ru/upload/articles/10/pinus_wood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изделия из 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tyumen.rujazi.com/images/classified/649999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сос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s://s-media-cache-ak0.pinimg.com/originals/bb/25/a0/bb25a0aa219cdc7ce8301717c6941d1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текстура сосн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timb.ru.opt-images.1c-bitrix-cdn.ru/upload/medialibrary/882/882be450951ec5cc47f1264bfbf19b7f.jpg?1446036413238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изделия из сосн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ru.all.biz/img/ru/catalog/648765.jp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лиственниц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actaplantarum.org/floraitaliae/download/file.php?id=33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4"/>
          <p:cNvPicPr/>
          <p:nvPr/>
        </p:nvPicPr>
        <p:blipFill>
          <a:blip r:embed="rId1"/>
          <a:stretch/>
        </p:blipFill>
        <p:spPr>
          <a:xfrm>
            <a:off x="5508720" y="1863720"/>
            <a:ext cx="316692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5"/>
          <p:cNvPicPr/>
          <p:nvPr/>
        </p:nvPicPr>
        <p:blipFill>
          <a:blip r:embed="rId2"/>
          <a:stretch/>
        </p:blipFill>
        <p:spPr>
          <a:xfrm>
            <a:off x="6012000" y="4489560"/>
            <a:ext cx="2233440" cy="217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6"/>
          <p:cNvPicPr/>
          <p:nvPr/>
        </p:nvPicPr>
        <p:blipFill>
          <a:blip r:embed="rId3"/>
          <a:stretch/>
        </p:blipFill>
        <p:spPr>
          <a:xfrm>
            <a:off x="826920" y="2133720"/>
            <a:ext cx="4105440" cy="3079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3"/>
          <p:cNvSpPr/>
          <p:nvPr/>
        </p:nvSpPr>
        <p:spPr>
          <a:xfrm>
            <a:off x="2698920" y="1268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Лиственные по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197964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Д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ктивные ссылки на использованные изображения (URL-адрес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86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текстура лиственниц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arket-st.ru/img/system_catalog_photo_records/1425388226154215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изделия из лиственниц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ew-dubki.ru/jm/images/stories/ita-decking_gallery_1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брёв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troysezon.ru/upload/iblock/e58/e58f472465a433534578a9194c03eb15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доска обрезна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alki.ru/messages/images_86428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доска необрезна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lesnika.net/uploads/posts/2014-11/1414958187_neobreznaya-doska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брус четырёхкантны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stroymaterial-buy.ru/uploads/posts/brus-2-pilomaterial-ful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брус двухкантны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woodtrade.ru/files/img/msgboard/gallery/36312_p80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брус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brusprofstroi.ru/images/sushka-brusa-razumeetsya-povysit-prochnost-i-dolgovechnost-vsey-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ктивные ссылки на использованные изображения (URL-адрес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86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пласти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9dach.ru/wp-content/uploads/na-foto-pokazana-prosteyshaya-lavochka-i-stolik-iz-tselnogo-brevna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горбы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83.img.avito.st/1280x960/154854298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четверти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http://player.myshared.ru/719611/data/images/img3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элементы пиломатериал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oolywood.ru/images/article/poverhnosti-dereva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фан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pilotorg.ru/images/gallery10/fan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шпо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mnogomebel.ru/_mod_files/ce_images/_picture/13-08-15_01_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ДСП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better-house.ru/wp-content/uploads/2015/04/listy_dsp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ДСП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rus-fanera.ru/d/263601/d/dsp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зображение ДВП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bizcar.com.ua/images/ads/OOCR8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698920" y="1268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Лиственные по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72292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Берё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7"/>
          <p:cNvPicPr/>
          <p:nvPr/>
        </p:nvPicPr>
        <p:blipFill>
          <a:blip r:embed="rId1"/>
          <a:stretch/>
        </p:blipFill>
        <p:spPr>
          <a:xfrm>
            <a:off x="684360" y="1989000"/>
            <a:ext cx="3024000" cy="213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8"/>
          <p:cNvPicPr/>
          <p:nvPr/>
        </p:nvPicPr>
        <p:blipFill>
          <a:blip r:embed="rId2"/>
          <a:stretch/>
        </p:blipFill>
        <p:spPr>
          <a:xfrm>
            <a:off x="826920" y="4581360"/>
            <a:ext cx="2781360" cy="1663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9"/>
          <p:cNvPicPr/>
          <p:nvPr/>
        </p:nvPicPr>
        <p:blipFill>
          <a:blip r:embed="rId3"/>
          <a:stretch/>
        </p:blipFill>
        <p:spPr>
          <a:xfrm>
            <a:off x="4500720" y="2381400"/>
            <a:ext cx="417492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698920" y="1268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Лиственные по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476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Л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5" descr="10"/>
          <p:cNvPicPr/>
          <p:nvPr/>
        </p:nvPicPr>
        <p:blipFill>
          <a:blip r:embed="rId1"/>
          <a:stretch/>
        </p:blipFill>
        <p:spPr>
          <a:xfrm>
            <a:off x="5865840" y="1959120"/>
            <a:ext cx="2019240" cy="2622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11"/>
          <p:cNvPicPr/>
          <p:nvPr/>
        </p:nvPicPr>
        <p:blipFill>
          <a:blip r:embed="rId2"/>
          <a:stretch/>
        </p:blipFill>
        <p:spPr>
          <a:xfrm>
            <a:off x="5435640" y="4853160"/>
            <a:ext cx="288144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12"/>
          <p:cNvPicPr/>
          <p:nvPr/>
        </p:nvPicPr>
        <p:blipFill>
          <a:blip r:embed="rId3"/>
          <a:stretch/>
        </p:blipFill>
        <p:spPr>
          <a:xfrm>
            <a:off x="539640" y="2349360"/>
            <a:ext cx="38163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698920" y="1268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Лиственные по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65164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О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13"/>
          <p:cNvPicPr/>
          <p:nvPr/>
        </p:nvPicPr>
        <p:blipFill>
          <a:blip r:embed="rId1"/>
          <a:stretch/>
        </p:blipFill>
        <p:spPr>
          <a:xfrm>
            <a:off x="1187280" y="1989000"/>
            <a:ext cx="1859040" cy="2478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14"/>
          <p:cNvPicPr/>
          <p:nvPr/>
        </p:nvPicPr>
        <p:blipFill>
          <a:blip r:embed="rId2"/>
          <a:stretch/>
        </p:blipFill>
        <p:spPr>
          <a:xfrm>
            <a:off x="611280" y="4797360"/>
            <a:ext cx="3024000" cy="1741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15"/>
          <p:cNvPicPr/>
          <p:nvPr/>
        </p:nvPicPr>
        <p:blipFill>
          <a:blip r:embed="rId3"/>
          <a:stretch/>
        </p:blipFill>
        <p:spPr>
          <a:xfrm>
            <a:off x="4500720" y="2421000"/>
            <a:ext cx="417492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698920" y="1268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Лиственные по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4889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Кл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16"/>
          <p:cNvPicPr/>
          <p:nvPr/>
        </p:nvPicPr>
        <p:blipFill>
          <a:blip r:embed="rId1"/>
          <a:stretch/>
        </p:blipFill>
        <p:spPr>
          <a:xfrm>
            <a:off x="5219640" y="1978200"/>
            <a:ext cx="2737080" cy="217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17"/>
          <p:cNvPicPr/>
          <p:nvPr/>
        </p:nvPicPr>
        <p:blipFill>
          <a:blip r:embed="rId2"/>
          <a:stretch/>
        </p:blipFill>
        <p:spPr>
          <a:xfrm>
            <a:off x="5219640" y="445608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18"/>
          <p:cNvPicPr/>
          <p:nvPr/>
        </p:nvPicPr>
        <p:blipFill>
          <a:blip r:embed="rId3"/>
          <a:stretch/>
        </p:blipFill>
        <p:spPr>
          <a:xfrm>
            <a:off x="1042920" y="1989000"/>
            <a:ext cx="27082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698920" y="1268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Хвойные по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66424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19"/>
          <p:cNvPicPr/>
          <p:nvPr/>
        </p:nvPicPr>
        <p:blipFill>
          <a:blip r:embed="rId1"/>
          <a:stretch/>
        </p:blipFill>
        <p:spPr>
          <a:xfrm>
            <a:off x="1258920" y="1989000"/>
            <a:ext cx="1805040" cy="2406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20"/>
          <p:cNvPicPr/>
          <p:nvPr/>
        </p:nvPicPr>
        <p:blipFill>
          <a:blip r:embed="rId2"/>
          <a:stretch/>
        </p:blipFill>
        <p:spPr>
          <a:xfrm>
            <a:off x="1015920" y="4684680"/>
            <a:ext cx="2260800" cy="1695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21"/>
          <p:cNvPicPr/>
          <p:nvPr/>
        </p:nvPicPr>
        <p:blipFill>
          <a:blip r:embed="rId3"/>
          <a:stretch/>
        </p:blipFill>
        <p:spPr>
          <a:xfrm>
            <a:off x="4643280" y="2492280"/>
            <a:ext cx="396108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698920" y="1268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Хвойные по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476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о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22"/>
          <p:cNvPicPr/>
          <p:nvPr/>
        </p:nvPicPr>
        <p:blipFill>
          <a:blip r:embed="rId1"/>
          <a:stretch/>
        </p:blipFill>
        <p:spPr>
          <a:xfrm>
            <a:off x="6091200" y="1959120"/>
            <a:ext cx="1751040" cy="233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23"/>
          <p:cNvPicPr/>
          <p:nvPr/>
        </p:nvPicPr>
        <p:blipFill>
          <a:blip r:embed="rId2"/>
          <a:stretch/>
        </p:blipFill>
        <p:spPr>
          <a:xfrm>
            <a:off x="5580000" y="4573440"/>
            <a:ext cx="2808360" cy="167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24"/>
          <p:cNvPicPr/>
          <p:nvPr/>
        </p:nvPicPr>
        <p:blipFill>
          <a:blip r:embed="rId3"/>
          <a:stretch/>
        </p:blipFill>
        <p:spPr>
          <a:xfrm>
            <a:off x="611280" y="2492280"/>
            <a:ext cx="38894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6T15:09:57Z</dcterms:created>
  <dc:creator>User</dc:creator>
  <dc:description/>
  <dc:language>en-US</dc:language>
  <cp:lastModifiedBy>Светлана Котлярова</cp:lastModifiedBy>
  <dcterms:modified xsi:type="dcterms:W3CDTF">2020-01-08T13:20:44Z</dcterms:modified>
  <cp:revision>28</cp:revision>
  <dc:subject/>
  <dc:title>Древесина. Пиломатериалы  и древесные материалы.</dc:title>
</cp:coreProperties>
</file>