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9.gif" ContentType="image/gif"/>
  <Override PartName="/ppt/media/image17.png" ContentType="image/png"/>
  <Override PartName="/ppt/media/image4.png" ContentType="image/png"/>
  <Override PartName="/ppt/media/image21.png" ContentType="image/png"/>
  <Override PartName="/ppt/media/image16.gif" ContentType="image/gif"/>
  <Override PartName="/ppt/media/image15.jpeg" ContentType="image/jpeg"/>
  <Override PartName="/ppt/media/image2.jpeg" ContentType="image/jpeg"/>
  <Override PartName="/ppt/media/image3.png" ContentType="image/png"/>
  <Override PartName="/ppt/media/image18.gif" ContentType="image/gif"/>
  <Override PartName="/ppt/media/image13.jpeg" ContentType="image/jpeg"/>
  <Override PartName="/ppt/media/image23.png" ContentType="image/pn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62D-961A-4BA0-A913-7BE4FA87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445-5EAF-433F-9772-B403522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FD0-E221-4068-92C7-94D2A236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834-3133-451E-8A54-C888B03B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B10-4BE5-4294-8FDD-C3A0B9BD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C58-5859-47C1-9D6C-833AE5B5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2615-87F9-458E-B9F3-11A45A88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6A13-50AA-420F-A960-93B085F7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CADB-C0B2-47E4-BFE4-A801A16A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732-CAE4-4656-A0C8-579135B6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152E-46BA-48A8-96D8-F4477B1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C01-63AC-45C4-8660-9623E4C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5AB-6455-4D65-B106-34E70C2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70C6-1F45-442C-B001-A3F2DF6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8713-2C87-4893-9BAA-A72F3578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457-F876-4487-A253-42A72F18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333F-967D-4D93-9B59-FC9BD75E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5C1-0679-459F-BF36-9097CF69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197-10E3-4CC1-8E2F-4AD6B06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392-5CB7-49A0-ACB7-0E9E563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B10-5A11-42DC-8692-BCFAFEB8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640-A7B5-4F7F-B843-CB39CD1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8EB-0636-469B-B24A-6BACDF1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D0D-6103-4D80-A6C5-07DAE07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A6FD-3723-4940-9DD4-AAA83B1C4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AE5-0BB7-4185-96D3-683DA7F36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"/>
          <p:cNvSpPr/>
          <p:nvPr/>
        </p:nvSpPr>
        <p:spPr>
          <a:xfrm>
            <a:off x="1295280" y="1592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О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лунова Залина Пет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лж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ОУ СОШ №2 им. А.Н. Кеса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Дигоры Дигорского района РСО-Ал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rfkmrekznjh_2"/>
          <p:cNvPicPr/>
          <p:nvPr/>
        </p:nvPicPr>
        <p:blipFill>
          <a:blip r:embed="rId1"/>
          <a:stretch/>
        </p:blipFill>
        <p:spPr>
          <a:xfrm>
            <a:off x="4967280" y="1700280"/>
            <a:ext cx="3186000" cy="424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лькулятор_вид"/>
          <p:cNvPicPr/>
          <p:nvPr/>
        </p:nvPicPr>
        <p:blipFill>
          <a:blip r:embed="rId2"/>
          <a:stretch/>
        </p:blipFill>
        <p:spPr>
          <a:xfrm>
            <a:off x="719280" y="2023920"/>
            <a:ext cx="3660480" cy="3743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24000" y="873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ите виртуальный и настоящий кальку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Калькулятор_вид"/>
          <p:cNvPicPr/>
          <p:nvPr/>
        </p:nvPicPr>
        <p:blipFill>
          <a:blip r:embed="rId1"/>
          <a:stretch/>
        </p:blipFill>
        <p:spPr>
          <a:xfrm>
            <a:off x="2843280" y="2816280"/>
            <a:ext cx="3238560" cy="331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172080" y="1087920"/>
            <a:ext cx="88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уск программы Калькуля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ся по кома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Пуск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  <a:ea typeface="Times New Roman"/>
              </a:rPr>
              <a:t>→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Программы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  <a:ea typeface="Times New Roman"/>
              </a:rPr>
              <a:t>→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Стандартные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  <a:ea typeface="Times New Roman"/>
              </a:rPr>
              <a:t>→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Калькулятор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калькулятор_вид2"/>
          <p:cNvPicPr/>
          <p:nvPr/>
        </p:nvPicPr>
        <p:blipFill>
          <a:blip r:embed="rId1"/>
          <a:stretch/>
        </p:blipFill>
        <p:spPr>
          <a:xfrm>
            <a:off x="3384720" y="2133720"/>
            <a:ext cx="550836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7"/>
          <p:cNvSpPr/>
          <p:nvPr/>
        </p:nvSpPr>
        <p:spPr>
          <a:xfrm>
            <a:off x="4067280" y="1484280"/>
            <a:ext cx="44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Калькулятор_вид"/>
          <p:cNvPicPr/>
          <p:nvPr/>
        </p:nvPicPr>
        <p:blipFill>
          <a:blip r:embed="rId2"/>
          <a:stretch/>
        </p:blipFill>
        <p:spPr>
          <a:xfrm>
            <a:off x="216000" y="1881360"/>
            <a:ext cx="3238560" cy="331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>
            <a:off x="287280" y="126828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4" descr="Калькулятор_вид"/>
          <p:cNvPicPr/>
          <p:nvPr/>
        </p:nvPicPr>
        <p:blipFill>
          <a:blip r:embed="rId1"/>
          <a:stretch/>
        </p:blipFill>
        <p:spPr>
          <a:xfrm>
            <a:off x="2376360" y="1557360"/>
            <a:ext cx="4297320" cy="4392720"/>
          </a:xfrm>
          <a:prstGeom prst="rect">
            <a:avLst/>
          </a:prstGeom>
          <a:ln w="0">
            <a:noFill/>
          </a:ln>
        </p:spPr>
      </p:pic>
      <p:sp>
        <p:nvSpPr>
          <p:cNvPr id="144" name="Line 15"/>
          <p:cNvSpPr/>
          <p:nvPr/>
        </p:nvSpPr>
        <p:spPr>
          <a:xfrm flipH="1">
            <a:off x="4535640" y="1268280"/>
            <a:ext cx="4680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967280" y="907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5904000" y="2276640"/>
            <a:ext cx="9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804000" y="2060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ка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 flipV="1">
            <a:off x="5977080" y="2707920"/>
            <a:ext cx="790560" cy="2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76764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5219640" y="3608280"/>
            <a:ext cx="576360" cy="201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2"/>
          <p:cNvSpPr/>
          <p:nvPr/>
        </p:nvSpPr>
        <p:spPr>
          <a:xfrm flipH="1" flipV="1">
            <a:off x="5508360" y="4113360"/>
            <a:ext cx="17636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480000" y="414972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ки арифметически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2556000" y="3573360"/>
            <a:ext cx="647640" cy="21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5"/>
          <p:cNvSpPr/>
          <p:nvPr/>
        </p:nvSpPr>
        <p:spPr>
          <a:xfrm flipV="1">
            <a:off x="1763640" y="4076640"/>
            <a:ext cx="863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95280" y="436572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аботы с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2050920" y="3141720"/>
            <a:ext cx="7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250920" y="2889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катор использования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3276720" y="3559320"/>
            <a:ext cx="1908000" cy="210168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1202" h="1315">
                <a:moveTo>
                  <a:pt x="0" y="2"/>
                </a:moveTo>
                <a:lnTo>
                  <a:pt x="1202" y="0"/>
                </a:lnTo>
                <a:lnTo>
                  <a:pt x="1202" y="1003"/>
                </a:lnTo>
                <a:lnTo>
                  <a:pt x="413" y="993"/>
                </a:lnTo>
                <a:lnTo>
                  <a:pt x="413" y="1315"/>
                </a:lnTo>
                <a:lnTo>
                  <a:pt x="7" y="1314"/>
                </a:lnTo>
                <a:lnTo>
                  <a:pt x="0" y="2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3311640" y="5516640"/>
            <a:ext cx="144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2195640" y="59500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319640" y="1052640"/>
            <a:ext cx="46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916280"/>
          <a:ext cx="8172360" cy="4095720"/>
        </p:xfrm>
        <a:graphic>
          <a:graphicData uri="http://schemas.openxmlformats.org/drawingml/2006/table">
            <a:tbl>
              <a:tblPr/>
              <a:tblGrid>
                <a:gridCol w="1438200"/>
                <a:gridCol w="67341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арифметического действ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31"/>
          <p:cNvSpPr/>
          <p:nvPr/>
        </p:nvSpPr>
        <p:spPr>
          <a:xfrm>
            <a:off x="287280" y="1052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робуйте назвать арифметическ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319640" y="1052640"/>
            <a:ext cx="46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16280"/>
          <a:ext cx="8172360" cy="4095720"/>
        </p:xfrm>
        <a:graphic>
          <a:graphicData uri="http://schemas.openxmlformats.org/drawingml/2006/table">
            <a:tbl>
              <a:tblPr/>
              <a:tblGrid>
                <a:gridCol w="1438200"/>
                <a:gridCol w="67341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арифметического действ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чит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о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для получения результа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28"/>
          <p:cNvSpPr/>
          <p:nvPr/>
        </p:nvSpPr>
        <p:spPr>
          <a:xfrm>
            <a:off x="287280" y="1052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робуйте назвать арифметическ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солнышко-моргает"/>
          <p:cNvPicPr/>
          <p:nvPr/>
        </p:nvPicPr>
        <p:blipFill>
          <a:blip r:embed="rId1"/>
          <a:stretch/>
        </p:blipFill>
        <p:spPr>
          <a:xfrm>
            <a:off x="1368360" y="1724040"/>
            <a:ext cx="5435640" cy="4587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6"/>
          <p:cNvSpPr/>
          <p:nvPr/>
        </p:nvSpPr>
        <p:spPr>
          <a:xfrm>
            <a:off x="2556000" y="944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287280" y="944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ь глаза и посидеть спокой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ленно считая до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солнышко спит"/>
          <p:cNvPicPr/>
          <p:nvPr/>
        </p:nvPicPr>
        <p:blipFill>
          <a:blip r:embed="rId1"/>
          <a:stretch/>
        </p:blipFill>
        <p:spPr>
          <a:xfrm>
            <a:off x="2087640" y="1844640"/>
            <a:ext cx="5292720" cy="4468680"/>
          </a:xfrm>
          <a:prstGeom prst="rect">
            <a:avLst/>
          </a:prstGeom>
          <a:ln w="0">
            <a:noFill/>
          </a:ln>
        </p:spPr>
      </p:pic>
      <p:sp>
        <p:nvSpPr>
          <p:cNvPr id="18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826920" y="108900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ие глазами влево-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солнышко-влево-вправо"/>
          <p:cNvPicPr/>
          <p:nvPr/>
        </p:nvPicPr>
        <p:blipFill>
          <a:blip r:embed="rId1"/>
          <a:stretch/>
        </p:blipFill>
        <p:spPr>
          <a:xfrm>
            <a:off x="1871640" y="1808280"/>
            <a:ext cx="5329440" cy="4498920"/>
          </a:xfrm>
          <a:prstGeom prst="rect">
            <a:avLst/>
          </a:prstGeom>
          <a:ln w="0">
            <a:noFill/>
          </a:ln>
        </p:spPr>
      </p:pic>
      <p:sp>
        <p:nvSpPr>
          <p:cNvPr id="184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863640" y="10159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ие глазами вверх-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6" descr="солнышко-вниз-вверх"/>
          <p:cNvPicPr/>
          <p:nvPr/>
        </p:nvPicPr>
        <p:blipFill>
          <a:blip r:embed="rId1"/>
          <a:stretch/>
        </p:blipFill>
        <p:spPr>
          <a:xfrm>
            <a:off x="1476360" y="1628640"/>
            <a:ext cx="5545080" cy="4680000"/>
          </a:xfrm>
          <a:prstGeom prst="rect">
            <a:avLst/>
          </a:prstGeom>
          <a:ln w="0">
            <a:noFill/>
          </a:ln>
        </p:spPr>
      </p:pic>
      <p:sp>
        <p:nvSpPr>
          <p:cNvPr id="188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92583167 копия"/>
          <p:cNvPicPr/>
          <p:nvPr/>
        </p:nvPicPr>
        <p:blipFill>
          <a:blip r:embed="rId1"/>
          <a:stretch/>
        </p:blipFill>
        <p:spPr>
          <a:xfrm>
            <a:off x="216000" y="981000"/>
            <a:ext cx="3601800" cy="406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358920" y="379440"/>
            <a:ext cx="42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23"/>
          <p:cNvSpPr txBox="1"/>
          <p:nvPr/>
        </p:nvSpPr>
        <p:spPr>
          <a:xfrm>
            <a:off x="3816360" y="1413000"/>
            <a:ext cx="496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 rot="2082000">
            <a:off x="2878920" y="5229000"/>
            <a:ext cx="29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856 + 68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 rot="1327800">
            <a:off x="684000" y="49053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669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: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356000" y="44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123123 – 473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 rot="367800">
            <a:off x="5472000" y="533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557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  <a:ea typeface="Arial"/>
              </a:rPr>
              <a:t>• 1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 rot="21220200">
            <a:off x="431640" y="5516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45 + 37 + 2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1562400" y="-720"/>
            <a:ext cx="60192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Практикум по самостоятельному применению и использованию получен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4392720" y="1413000"/>
            <a:ext cx="43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числения с помощью калькуля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24000" y="87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мотреть на переносиц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тем перевести взгляд вд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6" descr="солнышко_переносица"/>
          <p:cNvPicPr/>
          <p:nvPr/>
        </p:nvPicPr>
        <p:blipFill>
          <a:blip r:embed="rId1"/>
          <a:stretch/>
        </p:blipFill>
        <p:spPr>
          <a:xfrm>
            <a:off x="1871640" y="1808280"/>
            <a:ext cx="5508720" cy="4649760"/>
          </a:xfrm>
          <a:prstGeom prst="rect">
            <a:avLst/>
          </a:prstGeom>
          <a:ln w="0">
            <a:noFill/>
          </a:ln>
        </p:spPr>
      </p:pic>
      <p:sp>
        <p:nvSpPr>
          <p:cNvPr id="19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"/>
          <p:cNvSpPr/>
          <p:nvPr/>
        </p:nvSpPr>
        <p:spPr>
          <a:xfrm>
            <a:off x="2087640" y="2455200"/>
            <a:ext cx="45370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54+392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Алгоритм выполнения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 набрать число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15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нажать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 набрать число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29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нажать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0" y="765000"/>
            <a:ext cx="8964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 и Ёжик решили построить башню из деталей строительного конструктора. Было использовано 154  кубика и 292 бруска. Сколько всего деталей Крош и Ёжик задействовали для строительства башни?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87280" y="5516640"/>
            <a:ext cx="8461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446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талей использовали Крош и Ёжик для строительства башн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ежик"/>
          <p:cNvPicPr/>
          <p:nvPr/>
        </p:nvPicPr>
        <p:blipFill>
          <a:blip r:embed="rId1"/>
          <a:stretch/>
        </p:blipFill>
        <p:spPr>
          <a:xfrm>
            <a:off x="216000" y="3249720"/>
            <a:ext cx="1968480" cy="230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крош"/>
          <p:cNvPicPr/>
          <p:nvPr/>
        </p:nvPicPr>
        <p:blipFill>
          <a:blip r:embed="rId2"/>
          <a:stretch/>
        </p:blipFill>
        <p:spPr>
          <a:xfrm>
            <a:off x="6551640" y="2889360"/>
            <a:ext cx="2028960" cy="2689200"/>
          </a:xfrm>
          <a:prstGeom prst="rect">
            <a:avLst/>
          </a:prstGeom>
          <a:ln w="0">
            <a:noFill/>
          </a:ln>
        </p:spPr>
      </p:pic>
      <p:sp>
        <p:nvSpPr>
          <p:cNvPr id="199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1160280"/>
            <a:ext cx="856908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 не волшебник, я только учу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умайте любое трехзначное числ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шите его в поле в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ножьте задуманное число на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твету прибавьте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твету прибавьте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твета вычтите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делите ответ на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тите из ответа задуманн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 вас получилось число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ПОДВОДИМ 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8360" y="1413000"/>
            <a:ext cx="4464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(а)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интересн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трудн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научился(лась)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еня получилось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1191268972_c4107 копия"/>
          <p:cNvPicPr/>
          <p:nvPr/>
        </p:nvPicPr>
        <p:blipFill>
          <a:blip r:embed="rId1"/>
          <a:stretch/>
        </p:blipFill>
        <p:spPr>
          <a:xfrm>
            <a:off x="4824360" y="1015920"/>
            <a:ext cx="4081680" cy="40608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6"/>
          <p:cNvSpPr txBox="1"/>
          <p:nvPr/>
        </p:nvSpPr>
        <p:spPr>
          <a:xfrm>
            <a:off x="2232000" y="5445000"/>
            <a:ext cx="4356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ЛОДЦЫ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388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учиться выполнять вычисления с помощью калькуля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знать, какие приспособления для вычислений использовались с древних времё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знакомиться с программой Калькулято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полнять простые и сложные вычис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СЕГОДНЯ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6920" y="1125000"/>
            <a:ext cx="8497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ей Греции и Древнем Рим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ли счетную доску - </a:t>
            </a:r>
            <a:r>
              <a:rPr b="1" i="1" lang="ru-RU" sz="3200" spc="-1" strike="noStrike" u="sng">
                <a:solidFill>
                  <a:srgbClr val="fb3413"/>
                </a:solidFill>
                <a:uFillTx/>
                <a:latin typeface="Times New Roman"/>
              </a:rPr>
              <a:t>аб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5" descr="abak_drevnegrehceskiy"/>
          <p:cNvPicPr/>
          <p:nvPr/>
        </p:nvPicPr>
        <p:blipFill>
          <a:blip r:embed="rId1"/>
          <a:stretch/>
        </p:blipFill>
        <p:spPr>
          <a:xfrm>
            <a:off x="324000" y="2565360"/>
            <a:ext cx="4357440" cy="231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bak rimskii"/>
          <p:cNvPicPr/>
          <p:nvPr/>
        </p:nvPicPr>
        <p:blipFill>
          <a:blip r:embed="rId2"/>
          <a:stretch/>
        </p:blipFill>
        <p:spPr>
          <a:xfrm>
            <a:off x="4788000" y="3033720"/>
            <a:ext cx="3932280" cy="2548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0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76360" y="1160640"/>
            <a:ext cx="80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ем Китае выполнять вычисления помогало приспособление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суан-п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4" descr="suan_pan_china"/>
          <p:cNvPicPr/>
          <p:nvPr/>
        </p:nvPicPr>
        <p:blipFill>
          <a:blip r:embed="rId1"/>
          <a:stretch/>
        </p:blipFill>
        <p:spPr>
          <a:xfrm>
            <a:off x="1619280" y="2492280"/>
            <a:ext cx="6146640" cy="3454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280" y="1089000"/>
            <a:ext cx="802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недавнего времени для расчетов использовали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сч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4" descr="schot"/>
          <p:cNvPicPr/>
          <p:nvPr/>
        </p:nvPicPr>
        <p:blipFill>
          <a:blip r:embed="rId1"/>
          <a:stretch/>
        </p:blipFill>
        <p:spPr>
          <a:xfrm>
            <a:off x="2556000" y="2168640"/>
            <a:ext cx="3836880" cy="4032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11640" y="1160640"/>
            <a:ext cx="551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642 году Блез Паскаль изобрел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суммирующую маш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4" descr="pascalina"/>
          <p:cNvPicPr/>
          <p:nvPr/>
        </p:nvPicPr>
        <p:blipFill>
          <a:blip r:embed="rId1"/>
          <a:stretch/>
        </p:blipFill>
        <p:spPr>
          <a:xfrm>
            <a:off x="3600360" y="29242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blaise_pascal"/>
          <p:cNvPicPr/>
          <p:nvPr/>
        </p:nvPicPr>
        <p:blipFill>
          <a:blip r:embed="rId2"/>
          <a:stretch/>
        </p:blipFill>
        <p:spPr>
          <a:xfrm>
            <a:off x="503280" y="1160640"/>
            <a:ext cx="2827440" cy="3455640"/>
          </a:xfrm>
          <a:prstGeom prst="rect">
            <a:avLst/>
          </a:prstGeom>
          <a:ln w="0">
            <a:noFill/>
          </a:ln>
        </p:spPr>
      </p:pic>
      <p:sp>
        <p:nvSpPr>
          <p:cNvPr id="11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376360" y="1015560"/>
            <a:ext cx="6516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90 году начато серийное произ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арифмометров Одн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арифмометрам Однера относится знаменитый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«Феликс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5" descr="arifm_feliks"/>
          <p:cNvPicPr/>
          <p:nvPr/>
        </p:nvPicPr>
        <p:blipFill>
          <a:blip r:embed="rId1"/>
          <a:stretch/>
        </p:blipFill>
        <p:spPr>
          <a:xfrm>
            <a:off x="2484360" y="3573360"/>
            <a:ext cx="3564000" cy="2770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6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8" descr="Willgodt_Theophil_Odhner"/>
          <p:cNvPicPr/>
          <p:nvPr/>
        </p:nvPicPr>
        <p:blipFill>
          <a:blip r:embed="rId2"/>
          <a:stretch/>
        </p:blipFill>
        <p:spPr>
          <a:xfrm>
            <a:off x="395280" y="1089000"/>
            <a:ext cx="1889280" cy="2519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1"/>
          <p:cNvSpPr/>
          <p:nvPr/>
        </p:nvSpPr>
        <p:spPr>
          <a:xfrm>
            <a:off x="287280" y="368136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. Т. Одн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7" descr="Kilby_Jack"/>
          <p:cNvPicPr/>
          <p:nvPr/>
        </p:nvPicPr>
        <p:blipFill>
          <a:blip r:embed="rId1"/>
          <a:stretch/>
        </p:blipFill>
        <p:spPr>
          <a:xfrm>
            <a:off x="324000" y="981000"/>
            <a:ext cx="2044440" cy="2557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31640" y="1088640"/>
            <a:ext cx="8496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67 году Джек Килби в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вумя другими инженер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ющими на компан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Тексас Инструменте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ли  самый пер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руч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электро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                                           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калькулято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4" descr="первый калькулятор"/>
          <p:cNvPicPr/>
          <p:nvPr/>
        </p:nvPicPr>
        <p:blipFill>
          <a:blip r:embed="rId2"/>
          <a:stretch/>
        </p:blipFill>
        <p:spPr>
          <a:xfrm>
            <a:off x="2735280" y="3681360"/>
            <a:ext cx="2771640" cy="2728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358920" y="3537000"/>
            <a:ext cx="22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ж. Килб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01:04Z</dcterms:created>
  <dc:creator>Светлана</dc:creator>
  <dc:description/>
  <dc:language>en-US</dc:language>
  <cp:lastModifiedBy>Фатима</cp:lastModifiedBy>
  <dcterms:modified xsi:type="dcterms:W3CDTF">2020-01-08T16:22:11Z</dcterms:modified>
  <cp:revision>168</cp:revision>
  <dc:subject/>
  <dc:title>Слайд 1</dc:title>
</cp:coreProperties>
</file>