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AA1-57E1-4E66-B7B6-570B8B86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F7F-9267-4E1D-B086-4A1568E6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57B-0BA5-4EC4-8374-706FFE97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4F1-115C-4D3F-AB45-17DD71B1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1FD9-BA60-4A03-B0B7-77EDA83B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635B-D713-48FE-A07A-79F3D978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9059-71E8-42DE-A05B-133116C2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27A6-0E68-4233-92F7-3A29EF8B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1469-6139-474D-BEA4-8765D885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4FE0-9163-4CA2-857D-03A55326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BED8-B360-403A-9E84-7C7693B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7EC-9960-452A-B414-E918D1B4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57F5-C5F5-440B-AD36-AFC20E65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7F7B-8D4C-48F0-AF62-C518CD7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65BB-183E-466A-B77B-70AE30FD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9B59-A015-4ADD-BA2E-AAAEDBFC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C06C-BAFD-46B4-993C-5AEDDDC4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27C-1F44-4C67-8168-D8EEF69E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0F5-E651-4EA0-B099-CE5A1781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FDE-521A-4F16-A900-D3F38809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29B-2A26-42AD-A5C8-F066E30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5DB-16A4-4D62-9D82-BBB742A3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4F8-8DBA-4A16-9A27-B5729A3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655-08EB-4862-8F39-3D4BA68D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846D-8500-47F0-8C3D-9FD3243684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4C72-CEB6-4025-83B1-629DB5B53F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Русская народная сказка 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«Каша из топора»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46087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А солдат ест да по­смеивается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 44-47, по ролям, Т. с. 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916360" y="2492280"/>
            <a:ext cx="28018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Работа над скороговоркой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коло кола - колокола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2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 на колах - колокол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ловарная рабо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уживый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бывка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б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600" y="1904760"/>
            <a:ext cx="4226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лдат, военнослужащ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езд к кому-нибудь на короткое врем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евянный, крестьянский д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ловарная рабо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довол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е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улан 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таточн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ячее жидкое кушанье, похлеб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мещение в доме, служило кладовк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ловарная рабо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добр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к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авить к еде что-нибудь, для вкус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ой металлический сосуд для варки пищ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б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у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ка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над пословицами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гадка и смекалка не хуже разу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етка дороже вс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лупый киснет, а умный все промысл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333360"/>
            <a:ext cx="92059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2:44:56Z</dcterms:created>
  <dc:creator>User</dc:creator>
  <dc:description/>
  <dc:language>en-US</dc:language>
  <cp:lastModifiedBy>Вера</cp:lastModifiedBy>
  <dcterms:modified xsi:type="dcterms:W3CDTF">2018-01-17T04:37:41Z</dcterms:modified>
  <cp:revision>4</cp:revision>
  <dc:subject/>
  <dc:title>Русская народная сказка  «Каша из топора»</dc:title>
</cp:coreProperties>
</file>