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BA5F1-0EB8-47E7-99C1-A254395DF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B492C-B1EC-49DA-8328-F43359AB2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F8D695-6C16-4538-84C5-A958131DB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5D1822-6883-4DA3-A33F-F4E75110D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7A3CA2-4DEC-494A-919D-5656F0E6D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A6FADA-1B70-4353-99A0-D371CD1A4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9CD614-FC80-4A13-8D25-7E398621B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712469-6E88-4962-BA29-60C93B102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368EE4-6905-4949-ADAD-CFC88EE8D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541DF6-FBBC-454A-B00A-53887C15D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865ED0-8D2D-4143-9ADC-31EEB82F8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CD31A4-695D-41D7-ADCE-C667641D6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BA740-B8C1-4B8A-8DDD-04944EAB8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010F60-408F-445A-9EB5-8DFD613F1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36D46F-7463-4EF5-B9D7-91F95ECD0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7DB4F0-0DC3-40D6-A206-0CF477951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2287FD-DBAC-4983-B9C4-56DB24B99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C21722-E7E4-470B-852A-2D551288C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E57272-649C-4CDC-8DCE-320E81A1C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DB95C5-F6A4-492F-8C29-838C7CB76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D0EB66-B9BC-453F-8FAA-78DF9AD53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86D9C8-739D-40EB-B895-9452BD9B8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0A8B06-D0B1-437D-B350-9AE9C2D33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6D7F8-A25B-4690-A2DB-011BBA1DD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224961-69C0-4BC8-B7AE-6A08D011E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AC0F8A-7AF7-4604-9C90-682C0A874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CCD67E-7773-4B74-86D8-853496ED9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0E23E3-893B-4004-A681-B2DB9F2F9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310613-5339-4929-AC00-60B632D94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6EACD5-7480-49E8-97A2-D2D256CFF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3249B9-2BC3-4795-AD6E-08E8583AF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0C78E7-914E-4B59-9953-FC77073F5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7DFBE2-F638-4C01-AED1-26EBD20B4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8110A4-B762-40F7-BD72-6B60A251C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07C24-35E2-48E1-8A9D-FE31625DC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8256DA-B459-4F69-BE71-2292A4085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2275C3-55C6-4B91-98D7-00092FA5A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2432ED-EE49-4C8A-BB03-C84739FE8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BADB27-D1E5-49FA-A6ED-DC531129A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CEAAE6-7C1D-428B-BDC4-B54A65E99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50F072-D2C6-4C1C-A27B-09C7071B0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01F5E7-0EEF-43F7-9ADD-C74A4D3C2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F5A896-8191-4F85-A95A-AA243C786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41F759-A660-4FCB-A50E-A58569DBA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C1FE84-9BBA-4366-AB90-1D5ECD999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4ADB4-C122-4807-8723-7D3BE188E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526EE2-F03C-4056-BA62-0B9B74839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C6F7B6-AB0B-4C60-A823-ABCDEDA48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EE840F-B2AB-41DE-91C7-777EC5068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A89FB6-B51A-45AE-B2A1-AD2E1FF99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6C3BF9-296A-46C8-B6BF-92E4499E2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E964E-3ACC-4E56-A414-ECCF6E747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85F04-77D0-45C2-BF44-E02B215EC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C5F76-4CFD-4590-A15F-5C52464AA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E2EB3-035B-4C78-BFE1-159C9C101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C4F9C-C075-4E98-BEDD-A3FA3CE96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BA7D1-B33D-4E6E-9B12-10A573F2B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C3133-4360-4CE2-BE60-5E66E75E3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9834B-5173-4677-907B-7B5C0F381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EBA12-469C-46EF-9BDC-322F5ACDC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1510B-1B5F-4D13-AD2F-A167F8BEA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F715A-4541-4BCF-8989-5601BAB19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D29821-55B4-41B4-BF19-CB509B5FB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8CF085-D586-45BC-9789-28F5B3C5C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1658F9-0DB3-49EB-BE9E-22FF88B6E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96F10C-528F-4200-9F2D-DA24A25C7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67C9B8-97A1-4FF0-B1AD-124D13E3E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0FED6-848B-43E8-9E94-B8A728E59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903AD9-75CF-493C-AF1A-4BECB19BF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BB7505-D3BE-419F-A216-E41495E80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4758E3-3C3F-44C2-9ECF-D3B32B5D5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FC48C7-7B51-4FB5-B857-AD58EF631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6FC88B-0E0C-44C9-A4EF-358DAA27D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C83DC8-84D1-46B2-9FD3-7A839A37B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D9D911-59BB-4D88-9A92-DE4E9B77F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D3FBAA-8DA7-4180-ACA6-02278E46E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FDAF80-CCF1-471B-9B36-EA62B0C7C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D9C6D7-DC80-4DB1-A3BD-6071A14B5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F0D13-5F87-4AAE-93BF-2D37110A8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143AAB-B642-44D5-9872-D62FB3D03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409608-11A2-454A-A609-35B99C641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56BA91-9317-440D-874D-A94A62AD7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8E207F-E025-4E3A-8C23-A905D03C2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260C79-379B-418F-AD08-7F8B40E9D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63BE2A-F2D6-4EC3-A198-36A11B678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6033B3-62A5-4104-A80B-460E4F56F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908D10-30F9-47ED-A945-9BE265A31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CB4D15-1D71-4B96-9E0F-BA9482AC8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875BDE-4F5A-41F2-8CFB-10B93194C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3C8F9-EA6E-4D2A-BE0B-2BF247B83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A66936-D834-415C-8162-4BE3628E6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027B73-EF6A-46D8-BFCE-D7059928D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304D28-E380-45FA-B123-A0410A14D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610C88-09B1-4421-87CB-BEF23FC4D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B3EB8C-FE3F-4852-9BBB-BCBEE2C45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3C3DB8-38B2-4E06-A3D6-B5EF1DB5C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22F531-6B8F-4179-8957-2C010D6B6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8A465C-5360-4420-877D-FAC0BDAAC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CFE7EE-B593-426F-B705-4A9C6F138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71CB43-C315-45D8-B475-02DA3FE6E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21024-8952-4DF8-BF01-FE2F36A74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21CFF4-ECAB-43D6-96E8-9F1D15B84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D7293B-BB57-4C92-9250-530E015D4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0F5F94-D8B4-4A1E-8002-22126CDA6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3EC8D5-9A8C-4DD4-AF00-CCA2FD12E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CC8A21-E950-45C7-B825-2BD505906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572796-EFFF-43A2-949C-67416093B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96DEA8-8E58-4944-8FEF-F02B2F0B1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E3E5FB-B9A5-47A3-81F7-B5EE43D8E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8A44C0-9BF5-4494-8E59-856FFE337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A2C62B-48BA-48AB-8BC8-C9AA2B4D5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543B6-9856-423B-8A92-1ECFEAFB6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D24E69-C9FB-4829-9097-FDCE567C4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1FA4BC-E7EB-4AD8-9442-C8C3E6796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CFD6D9-3E7A-4403-AA5C-2994D99BA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31F622-8A78-46FC-93DB-2BC215D12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1DDA7B-F07A-441A-B9D1-9112B76E0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B55DF1-7F01-4AB6-87DC-6AE3C6C93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C17226-2C83-4A2D-B68E-731CC33CE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1B6A55-A114-4E5A-BE2D-1AEDE34AB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B1A77D-E21F-4402-813F-DBE034BA9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B76D12-D6BF-4BCD-9723-8A9EA07C6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85CC1-4A66-46D6-AA2B-9EEC50B01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F56A1C-C969-46C5-84C2-CAAB3FBE9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D1E26D-A4F4-4B3F-A17C-5A195BAAC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9224C3-592C-40CD-A0F8-ABFE5FB6A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A47002-9B55-429E-81C4-FBD1DDD98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81CFC6-DA99-4C7F-B21A-BA82D9626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0C3DA0-5F30-45F4-B483-112EBD848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31CA57-7BA2-4F08-BAFB-D40BC11F1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F03E4B-A894-41E7-A4D4-69F2FB19A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B6C911-C102-4E1C-A775-72ACD30A6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36EA9A-4260-468B-80CB-ED7A45C92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540C0-7568-4C39-B86F-AB6CE1155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4322FB-C451-4DFB-BF36-E29CE2ACB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A25A53-0FAF-4D3D-8CA0-AB301E685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DB1FCA-94B5-494F-BFA6-CC23EAE10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33B271-58A5-4BA6-B78A-22700E8E9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132597-FB4F-487E-9958-225889F61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A324B9-E37F-48E1-B163-5FC831DDF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53AA4A-B54F-496D-82E8-F90B66013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0E2BB5-CCFE-4724-B1CC-2660758FC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C2571D-BFDE-483C-B3CA-C10F97A50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B4F80F-6AE0-4FED-9E39-B83E4AF64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2682720"/>
                <a:gd name="textAreaBottom" fmla="*/ 2683080 h 2682720"/>
              </a:gdLst>
              <a:ahLst/>
              <a:rect l="textAreaLeft" t="textAreaTop" r="textAreaRight" b="textAreaBottom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>
                <a:gd name="textAreaLeft" fmla="*/ 0 w 600120"/>
                <a:gd name="textAreaRight" fmla="*/ 600120 w 600120"/>
                <a:gd name="textAreaTop" fmla="*/ 0 h 828720"/>
                <a:gd name="textAreaBottom" fmla="*/ 829080 h 828720"/>
              </a:gdLst>
              <a:ahLst/>
              <a:rect l="textAreaLeft" t="textAreaTop" r="textAreaRight" b="textAreaBottom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>
                  <a:gd name="textAreaLeft" fmla="*/ 0 w 276120"/>
                  <a:gd name="textAreaRight" fmla="*/ 276480 w 276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>
                  <a:gd name="textAreaLeft" fmla="*/ 0 w 534960"/>
                  <a:gd name="textAreaRight" fmla="*/ 535320 w 534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>
                  <a:gd name="textAreaLeft" fmla="*/ 0 w 677880"/>
                  <a:gd name="textAreaRight" fmla="*/ 677880 w 6778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>
                  <a:gd name="textAreaLeft" fmla="*/ 0 w 885600"/>
                  <a:gd name="textAreaRight" fmla="*/ 885960 w 885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>
                  <a:gd name="textAreaLeft" fmla="*/ 0 w 1095120"/>
                  <a:gd name="textAreaRight" fmla="*/ 1095480 w 1095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>
                  <a:gd name="textAreaLeft" fmla="*/ 0 w 1371600"/>
                  <a:gd name="textAreaRight" fmla="*/ 1371960 w 1371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>
                  <a:gd name="textAreaLeft" fmla="*/ 0 w 237960"/>
                  <a:gd name="textAreaRight" fmla="*/ 237960 w 237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>
                  <a:gd name="textAreaLeft" fmla="*/ 0 w 476280"/>
                  <a:gd name="textAreaRight" fmla="*/ 476640 w 4762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>
                  <a:gd name="textAreaLeft" fmla="*/ 0 w 674640"/>
                  <a:gd name="textAreaRight" fmla="*/ 675000 w 6746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>
                  <a:gd name="textAreaLeft" fmla="*/ 0 w 912960"/>
                  <a:gd name="textAreaRight" fmla="*/ 913320 w 912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>
                  <a:gd name="textAreaLeft" fmla="*/ 0 w 1170000"/>
                  <a:gd name="textAreaRight" fmla="*/ 1170360 w 11700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>
                  <a:gd name="textAreaLeft" fmla="*/ 0 w 1333440"/>
                  <a:gd name="textAreaRight" fmla="*/ 1333800 w 13334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>
                <a:gd name="textAreaLeft" fmla="*/ 0 w 962280"/>
                <a:gd name="textAreaRight" fmla="*/ 962640 w 962280"/>
                <a:gd name="textAreaTop" fmla="*/ 0 h 2246040"/>
                <a:gd name="textAreaBottom" fmla="*/ 2246400 h 2246040"/>
              </a:gdLst>
              <a:ahLst/>
              <a:rect l="textAreaLeft" t="textAreaTop" r="textAreaRight" b="textAreaBottom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>
                <a:gd name="textAreaLeft" fmla="*/ 0 w 362160"/>
                <a:gd name="textAreaRight" fmla="*/ 362520 w 362160"/>
                <a:gd name="textAreaTop" fmla="*/ 0 h 676080"/>
                <a:gd name="textAreaBottom" fmla="*/ 676440 h 676080"/>
              </a:gdLst>
              <a:ahLst/>
              <a:rect l="textAreaLeft" t="textAreaTop" r="textAreaRight" b="textAreaBottom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>
                <a:gd name="textAreaLeft" fmla="*/ 0 w 1562040"/>
                <a:gd name="textAreaRight" fmla="*/ 1562400 w 1562040"/>
                <a:gd name="textAreaTop" fmla="*/ 0 h 2835360"/>
                <a:gd name="textAreaBottom" fmla="*/ 2835360 h 2835360"/>
              </a:gdLst>
              <a:ahLst/>
              <a:rect l="textAreaLeft" t="textAreaTop" r="textAreaRight" b="textAreaBottom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1341360"/>
                <a:gd name="textAreaBottom" fmla="*/ 1341360 h 1341360"/>
              </a:gdLst>
              <a:ahLst/>
              <a:rect l="textAreaLeft" t="textAreaTop" r="textAreaRight" b="textAreaBottom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>
                <a:gd name="textAreaLeft" fmla="*/ 0 w 647640"/>
                <a:gd name="textAreaRight" fmla="*/ 648000 w 647640"/>
                <a:gd name="textAreaTop" fmla="*/ 0 h 657360"/>
                <a:gd name="textAreaBottom" fmla="*/ 657360 h 657360"/>
              </a:gdLst>
              <a:ahLst/>
              <a:rect l="textAreaLeft" t="textAreaTop" r="textAreaRight" b="textAreaBottom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>
                <a:gd name="textAreaLeft" fmla="*/ 0 w 1362240"/>
                <a:gd name="textAreaRight" fmla="*/ 1362240 w 136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>
                <a:gd name="textAreaLeft" fmla="*/ 0 w 933480"/>
                <a:gd name="textAreaRight" fmla="*/ 933840 w 933480"/>
                <a:gd name="textAreaTop" fmla="*/ 0 h 950760"/>
                <a:gd name="textAreaBottom" fmla="*/ 951120 h 950760"/>
              </a:gdLst>
              <a:ahLst/>
              <a:rect l="textAreaLeft" t="textAreaTop" r="textAreaRight" b="textAreaBottom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>
                <a:gd name="textAreaLeft" fmla="*/ 0 w 428760"/>
                <a:gd name="textAreaRight" fmla="*/ 429120 w 42876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BDB08-5738-4889-ABF3-2B6DC4C09F1F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 type="dt" idx="2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B51EC-4006-4742-9E8B-2CC1C1ECEAC8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D6381-0EB2-467E-8180-A428B70AE39B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7E248-717F-4D77-9115-FEDD866958E2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>
                <a:gd name="textAreaLeft" fmla="*/ 0 w 1141200"/>
                <a:gd name="textAreaRight" fmla="*/ 1141560 w 1141200"/>
                <a:gd name="textAreaTop" fmla="*/ 0 h 2682720"/>
                <a:gd name="textAreaBottom" fmla="*/ 2683080 h 2682720"/>
              </a:gdLst>
              <a:ahLst/>
              <a:rect l="textAreaLeft" t="textAreaTop" r="textAreaRight" b="textAreaBottom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>
                <a:gd name="textAreaLeft" fmla="*/ 0 w 599760"/>
                <a:gd name="textAreaRight" fmla="*/ 600120 w 599760"/>
                <a:gd name="textAreaTop" fmla="*/ 0 h 828720"/>
                <a:gd name="textAreaBottom" fmla="*/ 829080 h 828720"/>
              </a:gdLst>
              <a:ahLst/>
              <a:rect l="textAreaLeft" t="textAreaTop" r="textAreaRight" b="textAreaBottom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>
                  <a:gd name="textAreaLeft" fmla="*/ 0 w 113760"/>
                  <a:gd name="textAreaRight" fmla="*/ 114120 w 113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>
                  <a:gd name="textAreaLeft" fmla="*/ 0 w 275760"/>
                  <a:gd name="textAreaRight" fmla="*/ 276120 w 275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>
                  <a:gd name="textAreaLeft" fmla="*/ 0 w 534600"/>
                  <a:gd name="textAreaRight" fmla="*/ 534960 w 534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>
                  <a:gd name="textAreaLeft" fmla="*/ 0 w 677520"/>
                  <a:gd name="textAreaRight" fmla="*/ 677880 w 6775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>
                  <a:gd name="textAreaLeft" fmla="*/ 0 w 885240"/>
                  <a:gd name="textAreaRight" fmla="*/ 885600 w 8852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>
                  <a:gd name="textAreaLeft" fmla="*/ 0 w 1094760"/>
                  <a:gd name="textAreaRight" fmla="*/ 1095120 w 1094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>
                  <a:gd name="textAreaLeft" fmla="*/ 0 w 1371240"/>
                  <a:gd name="textAreaRight" fmla="*/ 1371240 w 13712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>
                  <a:gd name="textAreaLeft" fmla="*/ 0 w 237600"/>
                  <a:gd name="textAreaRight" fmla="*/ 237960 w 237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>
                  <a:gd name="textAreaLeft" fmla="*/ 0 w 475920"/>
                  <a:gd name="textAreaRight" fmla="*/ 476280 w 4759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>
                  <a:gd name="textAreaLeft" fmla="*/ 0 w 674280"/>
                  <a:gd name="textAreaRight" fmla="*/ 674640 w 6742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>
                  <a:gd name="textAreaLeft" fmla="*/ 0 w 912600"/>
                  <a:gd name="textAreaRight" fmla="*/ 912960 w 912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>
                  <a:gd name="textAreaLeft" fmla="*/ 0 w 1169640"/>
                  <a:gd name="textAreaRight" fmla="*/ 1170000 w 11696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>
                  <a:gd name="textAreaLeft" fmla="*/ 0 w 1333080"/>
                  <a:gd name="textAreaRight" fmla="*/ 1333440 w 13330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>
                <a:gd name="textAreaLeft" fmla="*/ 0 w 961920"/>
                <a:gd name="textAreaRight" fmla="*/ 962280 w 961920"/>
                <a:gd name="textAreaTop" fmla="*/ 0 h 2246040"/>
                <a:gd name="textAreaBottom" fmla="*/ 2246400 h 2246040"/>
              </a:gdLst>
              <a:ahLst/>
              <a:rect l="textAreaLeft" t="textAreaTop" r="textAreaRight" b="textAreaBottom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>
                <a:gd name="textAreaLeft" fmla="*/ 0 w 361800"/>
                <a:gd name="textAreaRight" fmla="*/ 362160 w 361800"/>
                <a:gd name="textAreaTop" fmla="*/ 0 h 676080"/>
                <a:gd name="textAreaBottom" fmla="*/ 676440 h 676080"/>
              </a:gdLst>
              <a:ahLst/>
              <a:rect l="textAreaLeft" t="textAreaTop" r="textAreaRight" b="textAreaBottom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>
                <a:gd name="textAreaLeft" fmla="*/ 0 w 1561680"/>
                <a:gd name="textAreaRight" fmla="*/ 1562040 w 1561680"/>
                <a:gd name="textAreaTop" fmla="*/ 0 h 2835360"/>
                <a:gd name="textAreaBottom" fmla="*/ 2835360 h 2835360"/>
              </a:gdLst>
              <a:ahLst/>
              <a:rect l="textAreaLeft" t="textAreaTop" r="textAreaRight" b="textAreaBottom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>
                <a:gd name="textAreaLeft" fmla="*/ 0 w 1141200"/>
                <a:gd name="textAreaRight" fmla="*/ 1141560 w 1141200"/>
                <a:gd name="textAreaTop" fmla="*/ 0 h 1341360"/>
                <a:gd name="textAreaBottom" fmla="*/ 1341360 h 1341360"/>
              </a:gdLst>
              <a:ahLst/>
              <a:rect l="textAreaLeft" t="textAreaTop" r="textAreaRight" b="textAreaBottom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>
                <a:gd name="textAreaLeft" fmla="*/ 0 w 647280"/>
                <a:gd name="textAreaRight" fmla="*/ 647640 w 647280"/>
                <a:gd name="textAreaTop" fmla="*/ 0 h 657360"/>
                <a:gd name="textAreaBottom" fmla="*/ 657360 h 657360"/>
              </a:gdLst>
              <a:ahLst/>
              <a:rect l="textAreaLeft" t="textAreaTop" r="textAreaRight" b="textAreaBottom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>
                <a:gd name="textAreaLeft" fmla="*/ 0 w 1361880"/>
                <a:gd name="textAreaRight" fmla="*/ 1362240 w 136188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>
                <a:gd name="textAreaLeft" fmla="*/ 0 w 933120"/>
                <a:gd name="textAreaRight" fmla="*/ 933480 w 933120"/>
                <a:gd name="textAreaTop" fmla="*/ 0 h 950760"/>
                <a:gd name="textAreaBottom" fmla="*/ 951120 h 950760"/>
              </a:gdLst>
              <a:ahLst/>
              <a:rect l="textAreaLeft" t="textAreaTop" r="textAreaRight" b="textAreaBottom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>
                <a:gd name="textAreaLeft" fmla="*/ 0 w 428400"/>
                <a:gd name="textAreaRight" fmla="*/ 428760 w 42840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DF60D-D422-4485-8DB8-810165767451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DF139-FCE4-435C-9268-4BAC3B98405F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7BA28-AB31-48EF-AFB1-9ECD920E77F6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4353B-E3AF-43D5-ABFE-B4A88FF13D99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78816-765C-470D-A851-417FECCD5CC2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 type="dt" idx="1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5C419-6D06-48A3-A7B7-165A41302EB0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6F22E-A05E-4F66-8825-0410B2A245C4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 type="dt" idx="25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B18B7-5A41-4E64-84F9-996B2AA5A79C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857160" y="1499760"/>
            <a:ext cx="7772400" cy="2087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161616"/>
                </a:solidFill>
                <a:latin typeface="Arial"/>
              </a:rPr>
              <a:t>«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40400" cy="23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68" name="Picture 4" descr="C:\Documents and Settings\ученик1\Рабочий стол\archives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9" name="Прямоугольник 7"/>
          <p:cNvSpPr/>
          <p:nvPr/>
        </p:nvSpPr>
        <p:spPr>
          <a:xfrm>
            <a:off x="1039680" y="1928880"/>
            <a:ext cx="7268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63636"/>
                </a:solidFill>
                <a:latin typeface="Verdana"/>
              </a:rPr>
              <a:t>«Зависит ли будущее от меня?»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0" name="Прямоугольник 8"/>
          <p:cNvSpPr/>
          <p:nvPr/>
        </p:nvSpPr>
        <p:spPr>
          <a:xfrm>
            <a:off x="3124440" y="428760"/>
            <a:ext cx="323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Классный ча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Прямоугольник 7"/>
          <p:cNvSpPr/>
          <p:nvPr/>
        </p:nvSpPr>
        <p:spPr>
          <a:xfrm>
            <a:off x="214200" y="1071720"/>
            <a:ext cx="83584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61616"/>
                </a:solidFill>
                <a:latin typeface="Verdana"/>
              </a:rPr>
              <a:t>Лев Толстой: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61616"/>
                </a:solidFill>
                <a:latin typeface="Verdana"/>
              </a:rPr>
              <a:t> </a:t>
            </a:r>
            <a:r>
              <a:rPr b="0" lang="ru-RU" sz="3600" spc="-1" strike="noStrike">
                <a:solidFill>
                  <a:srgbClr val="161616"/>
                </a:solidFill>
                <a:latin typeface="Verdana"/>
              </a:rPr>
              <a:t>« Судьба человека такая или другая бывает только от того, как он в мыслях понимает свою жизнь»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2" name="Picture 4" descr="учитель 2 "/>
          <p:cNvPicPr/>
          <p:nvPr/>
        </p:nvPicPr>
        <p:blipFill>
          <a:blip r:embed="rId1"/>
          <a:stretch/>
        </p:blipFill>
        <p:spPr>
          <a:xfrm>
            <a:off x="324000" y="3860640"/>
            <a:ext cx="2684160" cy="2792520"/>
          </a:xfrm>
          <a:prstGeom prst="rect">
            <a:avLst/>
          </a:prstGeom>
          <a:ln w="0">
            <a:noFill/>
          </a:ln>
        </p:spPr>
      </p:pic>
      <p:pic>
        <p:nvPicPr>
          <p:cNvPr id="573" name="Picture 5" descr="лётчик"/>
          <p:cNvPicPr/>
          <p:nvPr/>
        </p:nvPicPr>
        <p:blipFill>
          <a:blip r:embed="rId2"/>
          <a:stretch/>
        </p:blipFill>
        <p:spPr>
          <a:xfrm>
            <a:off x="6286680" y="0"/>
            <a:ext cx="2489040" cy="3755880"/>
          </a:xfrm>
          <a:prstGeom prst="rect">
            <a:avLst/>
          </a:prstGeom>
          <a:ln w="0">
            <a:noFill/>
          </a:ln>
        </p:spPr>
      </p:pic>
      <p:pic>
        <p:nvPicPr>
          <p:cNvPr id="574" name="Picture 6" descr="врач"/>
          <p:cNvPicPr/>
          <p:nvPr/>
        </p:nvPicPr>
        <p:blipFill>
          <a:blip r:embed="rId3"/>
          <a:stretch/>
        </p:blipFill>
        <p:spPr>
          <a:xfrm>
            <a:off x="3143160" y="2357280"/>
            <a:ext cx="3132360" cy="21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20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" dur="20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" dur="20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/>
          </p:nvPr>
        </p:nvSpPr>
        <p:spPr>
          <a:xfrm>
            <a:off x="214200" y="785520"/>
            <a:ext cx="8715600" cy="534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1489ff"/>
                </a:solidFill>
                <a:latin typeface="Verdana"/>
              </a:rPr>
              <a:t>Успех – это удачное достижение желаемого результата!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6" name="Прямоугольник 3" descr=""/>
          <p:cNvPicPr/>
          <p:nvPr/>
        </p:nvPicPr>
        <p:blipFill>
          <a:blip r:embed="rId1"/>
          <a:stretch/>
        </p:blipFill>
        <p:spPr>
          <a:xfrm>
            <a:off x="133200" y="512640"/>
            <a:ext cx="8444160" cy="368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1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Заповеди успешного образования.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28760" y="85680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1d2e"/>
                </a:solidFill>
                <a:latin typeface="Verdana"/>
              </a:rPr>
              <a:t>Будь умней из класса в класс – это раз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1d2e"/>
                </a:solidFill>
                <a:latin typeface="Verdana"/>
              </a:rPr>
              <a:t>Бодренько вставай с утра- в 8.15 в школе быть пора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1d2e"/>
                </a:solidFill>
                <a:latin typeface="Verdana"/>
              </a:rPr>
              <a:t>Не бубни и не кричи, отвечай, а не молчи - это три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1d2e"/>
                </a:solidFill>
                <a:latin typeface="Verdana"/>
              </a:rPr>
              <a:t>Чист и аккуратен будь - в этом суть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1d2e"/>
                </a:solidFill>
                <a:latin typeface="Verdana"/>
              </a:rPr>
              <a:t>Нужно медленно писать, чтобы не было помарок и в тетради было пять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1d2e"/>
                </a:solidFill>
                <a:latin typeface="Verdana"/>
              </a:rPr>
              <a:t>Будь здоровым – фрукты ешь – это шесть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1d2e"/>
                </a:solidFill>
                <a:latin typeface="Verdana"/>
              </a:rPr>
              <a:t>Нужно добрым быть во всём – это семь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1d2e"/>
                </a:solidFill>
                <a:latin typeface="Verdana"/>
              </a:rPr>
              <a:t>Сами вещи не растут – нужен труд, карандаш, тетрадь, перо, парту, доску и окно, книжку, сумку береги, не ломай, не мни, не рви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1d2e"/>
                </a:solidFill>
                <a:latin typeface="Verdana"/>
              </a:rPr>
              <a:t>Прежде чем захлопнуть дверь, всё ли взял с собой, проверь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1d2e"/>
                </a:solidFill>
                <a:latin typeface="Verdana"/>
              </a:rPr>
              <a:t>На уроках не хихикай, стул туда-сюда не двигай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1d2e"/>
                </a:solidFill>
                <a:latin typeface="Verdana"/>
              </a:rPr>
              <a:t>В школе, в классе не сори, а насоришь – убери!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1d2e"/>
                </a:solidFill>
                <a:latin typeface="Verdana"/>
              </a:rPr>
              <a:t>А ещё старайся – спортом больше занимайся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1000"/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1000"/>
                                        <p:tgtEl>
                                          <p:spTgt spid="5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1000"/>
                                        <p:tgtEl>
                                          <p:spTgt spid="5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1000"/>
                                        <p:tgtEl>
                                          <p:spTgt spid="5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2000"/>
                                        <p:tgtEl>
                                          <p:spTgt spid="5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1000"/>
                                        <p:tgtEl>
                                          <p:spTgt spid="5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1000"/>
                                        <p:tgtEl>
                                          <p:spTgt spid="5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1000"/>
                                        <p:tgtEl>
                                          <p:spTgt spid="5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1000"/>
                                        <p:tgtEl>
                                          <p:spTgt spid="5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1000"/>
                                        <p:tgtEl>
                                          <p:spTgt spid="5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1000"/>
                                        <p:tgtEl>
                                          <p:spTgt spid="5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9" name="Прямоугольник 3" descr=""/>
          <p:cNvPicPr/>
          <p:nvPr/>
        </p:nvPicPr>
        <p:blipFill>
          <a:blip r:embed="rId1"/>
          <a:stretch/>
        </p:blipFill>
        <p:spPr>
          <a:xfrm>
            <a:off x="79200" y="639720"/>
            <a:ext cx="8985600" cy="498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5T16:57:57Z</dcterms:created>
  <dc:creator>Галя</dc:creator>
  <dc:description/>
  <dc:language>en-US</dc:language>
  <cp:lastModifiedBy>Музыка</cp:lastModifiedBy>
  <dcterms:modified xsi:type="dcterms:W3CDTF">2020-01-07T22:31:50Z</dcterms:modified>
  <cp:revision>11</cp:revision>
  <dc:subject/>
  <dc:title>«Будущее зависит от меня»</dc:title>
</cp:coreProperties>
</file>