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EBC-8BE7-4BAD-88CF-6118A8C09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звать предметы в каждом сервиз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3A74-63BE-4A31-9CC1-433B02B9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ве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FBFB-E132-4896-80E4-2271F09C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Назвать предметы, изображённые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Какая картинка лишняя? Как назвать одним словом оставшиеся предме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делать разбор слова П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4FA-0619-4C5D-886E-9BE9AE93C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звать предметы, записать схемы с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352-DA4F-423F-89E6-509FC7A38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добрать к слогам из первого столбика подходящий слог. Прочитать получившиеся слова. Как используют эти предме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9D4C-C688-492C-914C-341EC7A79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один предмет и много пре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DA1E-FA82-4943-A56B-91F8111CE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осчитать сколько чашек и чайников изображено на рису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47B9-91CA-436F-A2E6-0AB008A7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ставить в слова пропущенные гласные, записать слова прави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0E6D-A828-4F5D-8FB8-87FF80B2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уда что поло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D7CE-51F3-4891-A7D2-A4493400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сставить  слова в  предложениях в нужном порядке. Записать, прове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521-274D-49F4-B402-DB60764E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703-5414-423C-945E-9BED3F09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F3B-4E10-49A6-B0A3-809D0A9B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3D8-19F4-4001-AB0A-114B8803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290-CF12-4C76-B158-040CD70A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5F8-652C-49D2-8610-2B21A428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2DC-2C63-439F-A1A2-97614034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116-C46D-48F2-BFB4-73255AC2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F71-620C-4FCD-8252-18E2CE4D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0D9-630D-41E9-A9E5-0610BFFF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D55-C774-4557-BDB6-F54469E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C31-2FC7-4E5B-BD62-D4DED3F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029-93E1-467E-8B76-81C2942A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2F1-6AC9-4BCE-9866-68572A769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звуко - слогового анализ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 примере лексической темы</a:t>
            </a: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ОСУ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62520" y="3962520"/>
            <a:ext cx="49528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логопедическому занят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обучающихся 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ила: Чува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талья Николаевна,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г. Мурманска ООШ №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тавь серви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763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34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 лишне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стакан"/>
          <p:cNvPicPr/>
          <p:nvPr/>
        </p:nvPicPr>
        <p:blipFill>
          <a:blip r:embed="rId2"/>
          <a:stretch/>
        </p:blipFill>
        <p:spPr>
          <a:xfrm>
            <a:off x="152280" y="3809880"/>
            <a:ext cx="2600280" cy="289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ЗЧ"/>
          <p:cNvPicPr/>
          <p:nvPr/>
        </p:nvPicPr>
        <p:blipFill>
          <a:blip r:embed="rId3"/>
          <a:stretch/>
        </p:blipFill>
        <p:spPr>
          <a:xfrm>
            <a:off x="152280" y="609480"/>
            <a:ext cx="2667240" cy="2716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271944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стул"/>
          <p:cNvPicPr/>
          <p:nvPr/>
        </p:nvPicPr>
        <p:blipFill>
          <a:blip r:embed="rId5"/>
          <a:stretch/>
        </p:blipFill>
        <p:spPr>
          <a:xfrm>
            <a:off x="5867280" y="609480"/>
            <a:ext cx="2438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пиши схемы с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стакан"/>
          <p:cNvPicPr/>
          <p:nvPr/>
        </p:nvPicPr>
        <p:blipFill>
          <a:blip r:embed="rId2"/>
          <a:stretch/>
        </p:blipFill>
        <p:spPr>
          <a:xfrm>
            <a:off x="380880" y="91440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199872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бери нужный с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ЛОЖ               С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ИЛ                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ЧАШ               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ЁР                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Один- мног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нож кухонный"/>
          <p:cNvPicPr/>
          <p:nvPr/>
        </p:nvPicPr>
        <p:blipFill>
          <a:blip r:embed="rId2"/>
          <a:stretch/>
        </p:blipFill>
        <p:spPr>
          <a:xfrm>
            <a:off x="457200" y="8380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нож кухонный"/>
          <p:cNvPicPr/>
          <p:nvPr/>
        </p:nvPicPr>
        <p:blipFill>
          <a:blip r:embed="rId3"/>
          <a:stretch/>
        </p:blipFill>
        <p:spPr>
          <a:xfrm>
            <a:off x="7086600" y="9144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нож кухонный"/>
          <p:cNvPicPr/>
          <p:nvPr/>
        </p:nvPicPr>
        <p:blipFill>
          <a:blip r:embed="rId4"/>
          <a:stretch/>
        </p:blipFill>
        <p:spPr>
          <a:xfrm>
            <a:off x="5334120" y="914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5"/>
          <a:stretch/>
        </p:blipFill>
        <p:spPr>
          <a:xfrm>
            <a:off x="396720" y="332892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"/>
          <p:cNvPicPr/>
          <p:nvPr/>
        </p:nvPicPr>
        <p:blipFill>
          <a:blip r:embed="rId6"/>
          <a:stretch/>
        </p:blipFill>
        <p:spPr>
          <a:xfrm>
            <a:off x="5105520" y="3276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7"/>
          <a:stretch/>
        </p:blipFill>
        <p:spPr>
          <a:xfrm>
            <a:off x="6934320" y="3276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8"/>
          <a:stretch/>
        </p:blipFill>
        <p:spPr>
          <a:xfrm>
            <a:off x="228600" y="5334120"/>
            <a:ext cx="2133720" cy="1238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9"/>
          <a:stretch/>
        </p:blipFill>
        <p:spPr>
          <a:xfrm>
            <a:off x="6858000" y="5334120"/>
            <a:ext cx="1947960" cy="1238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"/>
          <p:cNvPicPr/>
          <p:nvPr/>
        </p:nvPicPr>
        <p:blipFill>
          <a:blip r:embed="rId10"/>
          <a:stretch/>
        </p:blipFill>
        <p:spPr>
          <a:xfrm>
            <a:off x="4952880" y="5257800"/>
            <a:ext cx="1947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чит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гадай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 К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Р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Д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С Т Р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Л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Л  К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517840" cy="153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сковорода"/>
          <p:cNvPicPr/>
          <p:nvPr/>
        </p:nvPicPr>
        <p:blipFill>
          <a:blip r:embed="rId3"/>
          <a:stretch/>
        </p:blipFill>
        <p:spPr>
          <a:xfrm>
            <a:off x="5943600" y="3200400"/>
            <a:ext cx="283068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кастрюля"/>
          <p:cNvPicPr/>
          <p:nvPr/>
        </p:nvPicPr>
        <p:blipFill>
          <a:blip r:embed="rId4"/>
          <a:stretch/>
        </p:blipFill>
        <p:spPr>
          <a:xfrm>
            <a:off x="838080" y="533520"/>
            <a:ext cx="2414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да полож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леб  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хар 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оль 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лфетки 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хлебница"/>
          <p:cNvPicPr/>
          <p:nvPr/>
        </p:nvPicPr>
        <p:blipFill>
          <a:blip r:embed="rId2"/>
          <a:stretch/>
        </p:blipFill>
        <p:spPr>
          <a:xfrm>
            <a:off x="3429000" y="457200"/>
            <a:ext cx="228600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3"/>
          <a:stretch/>
        </p:blipFill>
        <p:spPr>
          <a:xfrm>
            <a:off x="3429000" y="2057400"/>
            <a:ext cx="1600200" cy="150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нс"/>
          <p:cNvPicPr/>
          <p:nvPr/>
        </p:nvPicPr>
        <p:blipFill>
          <a:blip r:embed="rId4"/>
          <a:stretch/>
        </p:blipFill>
        <p:spPr>
          <a:xfrm>
            <a:off x="3429000" y="3886200"/>
            <a:ext cx="1447920" cy="131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салфетница"/>
          <p:cNvPicPr/>
          <p:nvPr/>
        </p:nvPicPr>
        <p:blipFill>
          <a:blip r:embed="rId5"/>
          <a:stretch/>
        </p:blipFill>
        <p:spPr>
          <a:xfrm>
            <a:off x="4267080" y="4572000"/>
            <a:ext cx="20574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авь пред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суду, мыла, Га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дну, она, чашку, разби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уваева</cp:lastModifiedBy>
  <dcterms:modified xsi:type="dcterms:W3CDTF">2019-06-16T15:55:5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