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6012-5EF5-4A6F-B4BE-980C811E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5A4A-B456-4735-BE09-D613A7E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F3A3-FC00-4C1D-AA56-F5587ABA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2E0F-8856-4493-AEA8-7EDB0D54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E3F2-88D3-4823-9F07-95D1F7B8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3C0F-2FAC-4D55-ADB5-C7D58BBA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FAD4-E3DD-414E-9DD6-CE52B232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1445-0560-4ABB-BFC1-AE1EB3A1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D6C9-FB21-4B33-BA71-315E728E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A943-8D78-492E-B6EC-32FDFE9C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A78E-E8D7-42F9-A09B-7A29A28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B824-ACBD-4486-BFA9-993DE46A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15F1-D190-4FE8-95B8-ECA0714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EBBF-2501-4E7A-9F20-D4501FE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37AD-33E9-477B-A4CF-32CD5ED1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D799-3C91-4083-A184-FEB29F4A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E9AA-7012-49FE-983C-3BAD1B49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DC64-2F29-49CF-AA39-E0C2CD3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60DD-B333-4336-84F4-49650249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17E0-5026-4FD4-81E1-6D57CBDB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BAAD-2C08-4FBF-964A-95ACB2D8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80E1-54B4-402F-AE1A-39F09CD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D9EE-41CD-4A9F-A4E1-4B493E3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2453-7F80-47BC-8083-0CAE575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2AB0-E73A-4C56-89A7-F64788094F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EC12-3097-4529-9D41-0B9C7013E6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«Макаронический» стиль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.И.Фонвизин, комедия «Бригадир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.Ю.Лермонтов, роман «Герой нашего времени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.С.Лесков, «Левша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172200" y="4950360"/>
            <a:ext cx="2782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Ерина С.В.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ОУ «Лицей №3»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.Сар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ижегородской обла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577600" y="6361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419720" y="1066680"/>
            <a:ext cx="441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на Бердовой маш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думалось моей куз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дную меня, мала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одить жюск'а Кронштад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г весь кипит народ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 нашим пароходо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мамзель, де кавал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попы, дез офис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коляски, де кар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старушки, де кад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словом, всякий сб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5943600"/>
            <a:ext cx="2514600" cy="9144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Malade - бо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276720" y="5943600"/>
            <a:ext cx="2438280" cy="9144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Jusqu'a... - до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095880" y="5638680"/>
            <a:ext cx="3048120" cy="1219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mesdemoisell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cavalliers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барышни, кавале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officiers - офиц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 характеризует героиню Мятл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оединение в речи слов русского и французского язык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219320" y="2362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rcRect l="0" t="38669" r="713" b="0"/>
          <a:stretch/>
        </p:blipFill>
        <p:spPr>
          <a:xfrm>
            <a:off x="0" y="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0" y="3505320"/>
            <a:ext cx="50292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сказе Н.С.Лескова «Левш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потребление иностранных с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авторском  повеств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даёт тексту комический эффек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5080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523880" y="5159520"/>
            <a:ext cx="4648320" cy="1709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 комизма достиг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мешением слов и фор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з различных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4267080" y="0"/>
            <a:ext cx="2819520" cy="16002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ан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танц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6553080" y="1219320"/>
            <a:ext cx="2362320" cy="2057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ы в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рандев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дел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6477120" y="3657600"/>
            <a:ext cx="2438280" cy="220968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рж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глиц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а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общим сказанное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каронический»  стиль – сочетание в произведении русских и иностранных с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редство позволяет автору изобразить героя и выразить своё отношение к изображаем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 словесности под редакцией Р.И.Альбетк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7616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АРОНИЧЕСКИЙ СТИЛЬ - (от итал. machaeroni - макароны) - изобразительное средство языка: включение в стихотворное или прозаическое произведение иноязычных слов перенесенных в неизменном виде или подчиненных морфологическим нормам языка ав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четание в тексте русских и иностранных с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: "И промыслила билет // Для себя э пур Аннет" (и для Анны) (И. Мятлев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4"/>
          <p:cNvSpPr/>
          <p:nvPr/>
        </p:nvSpPr>
        <p:spPr>
          <a:xfrm>
            <a:off x="1752480" y="533520"/>
            <a:ext cx="6400800" cy="37335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этого языкового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макаронический стил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сходит от комической поэ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льянского поэта 15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фи дельи Ода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80880" y="5029200"/>
            <a:ext cx="8534520" cy="13716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вкраплении в тек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оязычных слов  возник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мическая вырази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276720" cy="3657600"/>
          </a:xfrm>
          <a:prstGeom prst="rect">
            <a:avLst/>
          </a:prstGeom>
          <a:ln w="9360">
            <a:solidFill>
              <a:srgbClr val="0078f0"/>
            </a:solidFill>
            <a:miter/>
          </a:ln>
        </p:spPr>
      </p:pic>
      <p:sp>
        <p:nvSpPr>
          <p:cNvPr id="122" name="Rectangle 8"/>
          <p:cNvSpPr/>
          <p:nvPr/>
        </p:nvSpPr>
        <p:spPr>
          <a:xfrm>
            <a:off x="4267080" y="457200"/>
            <a:ext cx="4419720" cy="17524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 ве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шенью русской сати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редко ок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лломания двор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rcRect l="0" t="0" r="7667" b="5560"/>
          <a:stretch/>
        </p:blipFill>
        <p:spPr>
          <a:xfrm>
            <a:off x="6095880" y="2743200"/>
            <a:ext cx="275436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150480" y="4038480"/>
            <a:ext cx="56761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.И.Фонвизин в комедии «Бригадир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ярко изобразил щёголя Ивануш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торый, как он сам говори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дражает француз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езирает всё русское и выраж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вои примитивные желания на сме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усского и французского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990720" y="228600"/>
            <a:ext cx="81532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очитайте отрывок из комедии «Бригади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йдите употребление макаронического стиля в тексте. Какова роль этого средства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-1080" y="1981080"/>
            <a:ext cx="90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Без сумнения, мы рождены под одною комет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Все несчастие мое состоит в том только, что ты рус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Это, ангел мой, конечно, для меня ужас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гиб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Это такой defaut,  которого ничем загладить уже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Что ж мне дел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Дай мне в себе волю. Я не намерен в России умереть. 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щу occasion favorable увезти тебя в Париж. Тамо оста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ней наших, les restes des nos jours, будем иметь уте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одить с французами; тамо увидишь ты, что есть меж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ими и- такие люди, с которыми я могу иметь soci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051680" y="1523880"/>
            <a:ext cx="1099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910640" y="63612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defaut -  недостат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ccasion favorable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приятный случ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restes des nos jou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остатки наших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ociete - общество,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191120" cy="3476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762120" y="5105520"/>
            <a:ext cx="76960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помните сцену на балу в «Герое нашего времен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кова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роль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макаронической речи в  этой  сце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486400" y="457200"/>
            <a:ext cx="3657600" cy="2666880"/>
          </a:xfrm>
          <a:prstGeom prst="cloudCallout">
            <a:avLst>
              <a:gd name="adj1" fmla="val -83375"/>
              <a:gd name="adj2" fmla="val 3422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мете... ну, да что тут! Просто ангажирую вас на мазу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ём макаронической речи служит в сцене бала характеристикой персонаж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рожий господин хочет оскорбить княжну М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авая французское слов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ettez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звольте) русскими буквами, Лермонтов говорит о том, как произносит это слово господин, и тем самым характеризует этого малообразованн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56272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русской поэзии яркий образец макаронической  поэзии создал И. П. Мятлев, спародировав речь русских дворян-французоманов («Сенсации и замечания госпожи Курдюковой за границею — дан л’этранже»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5857920" y="152280"/>
            <a:ext cx="3286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9-11-07T15:53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