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48F6-20A5-479C-AF2F-C3D318F1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5873-3152-450B-B127-0335858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9101-577E-439B-8817-4672E29F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6C4C-CE69-4036-96C7-E638804A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1C44-3C16-4E3B-9773-21D75F4E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0BD2-0953-46D3-BDE3-ADC8B55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0FD-68B2-41A4-9BFA-DCC3CB92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43C5-5EC7-4C12-83BF-290EA39E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00FD-3338-4A6F-AE53-D4456AE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40B9-5341-4799-9DC3-C6F6E37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48C-F9F8-4190-9806-9BB08E9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9300-BAE0-436A-997D-5FDC3752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A39C-16C7-4C93-9C13-BD03A9D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C2A-FE75-4E79-A118-78B96AD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3329-1695-4C08-BD39-B0C9695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254F-AF07-4D3A-B964-6A456D2C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9837-6015-49A1-BB95-7106E4A2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D58E-2272-4614-91EC-773D4C2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BAD1-D9DA-450D-B935-CF16533C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9B15-627A-41EA-A66E-E6DD0088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18EF-ABAC-4AC4-AA5B-64AE31FA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0E31-7127-4C9B-955D-C110747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67B0-1EAF-4843-9408-F85C563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5121-2869-4DD9-8E63-BE0EA0F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A31C-9165-4689-B3AD-4D40F36BF2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7570-F14B-4DBE-B182-9CCD9A07EF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«Макаронический» стиль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.И.Фонвизин, комедия «Бригадир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.Ю.Лермонтов, роман «Герой нашего времени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.С.Лесков, «Левша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172200" y="4950360"/>
            <a:ext cx="2782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Ерина С.В.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ОУ «Лицей №3»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.Сар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ижегородской обл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77600" y="6361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419720" y="106668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а Бердовой маш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думалось моей куз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дную меня, мала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жюск'а Кронштад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г весь кипит народ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 нашим пароход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мамзель, де кавал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попы, дез офис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коляски, де кар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старушки, де кад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словом, всякий сб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5943600"/>
            <a:ext cx="251460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alade - бо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276720" y="5943600"/>
            <a:ext cx="243828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Jusqu'a... - до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95880" y="5638680"/>
            <a:ext cx="3048120" cy="1219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mesdemoisell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cavalliers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барышни, кавале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officiers - офиц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характеризует героиню Мятл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оединение в речи слов русского и французского язы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19320" y="236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rcRect l="0" t="38669" r="713" b="0"/>
          <a:stretch/>
        </p:blipFill>
        <p:spPr>
          <a:xfrm>
            <a:off x="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3505320"/>
            <a:ext cx="5029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сказе Н.С.Лескова «Левш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потребление иностранны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авторском  повеств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даёт тексту комический эффе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080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523880" y="5159520"/>
            <a:ext cx="4648320" cy="170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 комизма достиг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мешением слов и фор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з различ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4267080" y="0"/>
            <a:ext cx="2819520" cy="16002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ан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танц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6553080" y="1219320"/>
            <a:ext cx="2362320" cy="2057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ы 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нде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6477120" y="3657600"/>
            <a:ext cx="2438280" cy="220968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р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глиц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общим сказанное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каронический»  стиль – сочетание в произведении русских и иностранных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редство позволяет автору изобразить героя и выразить своё отношение к изображаем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словесности под редакцией Р.И.Альбетк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АРОНИЧЕСКИЙ СТИЛЬ - (от итал. machaeroni - макароны) - изобразительное средство языка: включение в стихотворное или прозаическое произведение иноязычных слов перенесенных в неизменном виде или подчиненных морфологическим нормам языка ав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четание в тексте русских и иностранн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: "И промыслила билет // Для себя э пур Аннет" (и для Анны) (И. Мятлев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1752480" y="533520"/>
            <a:ext cx="6400800" cy="37335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этого языкового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акаронический сти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от комической поэ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льянского поэта 15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фи дельи Ода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80880" y="5029200"/>
            <a:ext cx="8534520" cy="13716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вкраплении в 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оязычных слов  возник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ическая вырази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3657600"/>
          </a:xfrm>
          <a:prstGeom prst="rect">
            <a:avLst/>
          </a:prstGeom>
          <a:ln w="9360">
            <a:solidFill>
              <a:srgbClr val="0078f0"/>
            </a:solidFill>
            <a:miter/>
          </a:ln>
        </p:spPr>
      </p:pic>
      <p:sp>
        <p:nvSpPr>
          <p:cNvPr id="122" name="Rectangle 8"/>
          <p:cNvSpPr/>
          <p:nvPr/>
        </p:nvSpPr>
        <p:spPr>
          <a:xfrm>
            <a:off x="4267080" y="457200"/>
            <a:ext cx="4419720" cy="17524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 в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шенью русской сат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редко ок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лломания двор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rcRect l="0" t="0" r="7667" b="5560"/>
          <a:stretch/>
        </p:blipFill>
        <p:spPr>
          <a:xfrm>
            <a:off x="6095880" y="2743200"/>
            <a:ext cx="275436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150480" y="4038480"/>
            <a:ext cx="56761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.И.Фонвизин в комедии «Бригади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ярко изобразил щёголя Ивануш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торый, как он сам говори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ражает француз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езирает всё русское и выраж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вои примитивные желания на сме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усского и французского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990720" y="228600"/>
            <a:ext cx="81532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читайте отрывок из комедии «Бригади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йдите употребление макаронического стиля в тексте. Какова роль этого средства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1080" y="1981080"/>
            <a:ext cx="90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Без сумнения, мы рождены под одною комет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Все несчастие мое состоит в том только, что ты рус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Это, ангел мой, конечно, для меня ужа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иб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Это такой defaut,  которого ничем загладить уже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Что ж мне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Дай мне в себе волю. Я не намерен в России умереть.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щу occasion favorable увезти тебя в Париж. Тамо оста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й наших, les restes des nos jours, будем иметь ут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с французами; тамо увидишь ты, что есть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ми и- такие люди, с которыми я могу иметь soci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051680" y="1523880"/>
            <a:ext cx="1099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910640" y="63612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defaut -  недоста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ccasion favorable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приятный случ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restes des nos jou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остатки наших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ociete - общество,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191120" cy="3476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762120" y="5105520"/>
            <a:ext cx="7696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помните сцену на балу в «Герое нашего времен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кова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роль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макаронической речи в  этой  сце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486400" y="457200"/>
            <a:ext cx="3657600" cy="2666880"/>
          </a:xfrm>
          <a:prstGeom prst="cloudCallout">
            <a:avLst>
              <a:gd name="adj1" fmla="val -83375"/>
              <a:gd name="adj2" fmla="val 3422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мете... ну, да что тут! Просто ангажирую вас на мазу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ём макаронической речи служит в сцене бала характеристикой персонаж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рожий господин хочет оскорбить княжну М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вая французское сло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ettez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звольте) русскими буквами, Лермонтов говорит о том, как произносит это слово господин, и тем самым характеризует этого малообразованн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5627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русской поэзии яркий образец макаронической  поэзии создал И. П. Мятлев, спародировав речь русских дворян-французоманов («Сенсации и замечания госпожи Курдюковой за границею — дан л’этранже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857920" y="152280"/>
            <a:ext cx="3286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9-11-07T15:53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