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56B25-C513-443B-BCED-217A2146E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BF2E6-45BA-45A5-90BF-1626C006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AC516-6004-4109-9E10-52694D65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2271A-5A16-4A01-A0CA-237B72293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B094-E2A5-4E7D-BDAC-86D0DF07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1F98-8086-47FC-A65A-7182AB42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A9632-EFED-4996-9740-742DB6A8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53CB-13D5-448D-B874-A2D71F59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AA651-D118-4FE2-97A3-4ACA2E319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9482-DC4D-47AE-BB9D-ADB20CD5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3F41-6C31-4317-8762-7A1C5AE0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E77E-2F62-4F9C-B8AE-2CC0E3B9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9B47-1D72-4C78-95BF-0ED03166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74ED-3210-4870-BC10-86B1944A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3DCD6-16B7-4C07-A102-0490F974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3302-6E99-439B-B29B-CB4F9025B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04676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417000" y="19810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6761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04676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417000" y="413064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985F-D5C6-48DF-B24F-C756E78FC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AB0E2-336D-44A7-AA8E-6BD5ED73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4C6BC-C874-4220-AD2C-35CC1686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1D24E-4728-444B-81CA-82B12F14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676160" y="457200"/>
            <a:ext cx="701028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FA09E-CB6F-4253-B9DE-58A463D06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7C3A-53AB-42A6-90BE-A2E5E0BF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68240" y="413064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24B0-E42B-42F9-8840-7FEB090A4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68240" y="1981080"/>
            <a:ext cx="3420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676160" y="4130640"/>
            <a:ext cx="7010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0D2B-8BA5-436B-9245-434A592C1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53A20-1F11-419F-A053-E0F8DB12A2C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304920"/>
            <a:ext cx="8610480" cy="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228600" y="457200"/>
            <a:ext cx="1246320" cy="1371600"/>
            <a:chOff x="228600" y="457200"/>
            <a:chExt cx="1246320" cy="1371600"/>
          </a:xfrm>
        </p:grpSpPr>
        <p:sp>
          <p:nvSpPr>
            <p:cNvPr id="7" name="Rectangle 9"/>
            <p:cNvSpPr/>
            <p:nvPr/>
          </p:nvSpPr>
          <p:spPr>
            <a:xfrm>
              <a:off x="934920" y="457200"/>
              <a:ext cx="44640" cy="8478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835200" y="457200"/>
              <a:ext cx="44280" cy="746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733320" y="457200"/>
              <a:ext cx="44640" cy="63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31800" y="457200"/>
              <a:ext cx="44640" cy="530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531720" y="457200"/>
              <a:ext cx="44640" cy="426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430200" y="457200"/>
              <a:ext cx="44640" cy="312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328680" y="457200"/>
              <a:ext cx="46080" cy="216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228600" y="457200"/>
              <a:ext cx="44280" cy="1080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036800" y="457200"/>
              <a:ext cx="41040" cy="950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135080" y="457200"/>
              <a:ext cx="41400" cy="1058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1231920" y="457200"/>
              <a:ext cx="42840" cy="11606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1332000" y="457200"/>
              <a:ext cx="44280" cy="12700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1432080" y="457200"/>
              <a:ext cx="42840" cy="1371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7"/>
          <p:cNvSpPr/>
          <p:nvPr/>
        </p:nvSpPr>
        <p:spPr>
          <a:xfrm>
            <a:off x="228600" y="990720"/>
            <a:ext cx="8610480" cy="0"/>
          </a:xfrm>
          <a:prstGeom prst="line">
            <a:avLst/>
          </a:prstGeom>
          <a:ln w="66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" name="Group 8"/>
          <p:cNvGrpSpPr/>
          <p:nvPr/>
        </p:nvGrpSpPr>
        <p:grpSpPr>
          <a:xfrm>
            <a:off x="228600" y="1447920"/>
            <a:ext cx="2286000" cy="2514600"/>
            <a:chOff x="228600" y="1447920"/>
            <a:chExt cx="2286000" cy="2514600"/>
          </a:xfrm>
        </p:grpSpPr>
        <p:sp>
          <p:nvSpPr>
            <p:cNvPr id="59" name="Rectangle 9"/>
            <p:cNvSpPr/>
            <p:nvPr/>
          </p:nvSpPr>
          <p:spPr>
            <a:xfrm>
              <a:off x="1523880" y="1447920"/>
              <a:ext cx="82800" cy="1554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10"/>
            <p:cNvSpPr/>
            <p:nvPr/>
          </p:nvSpPr>
          <p:spPr>
            <a:xfrm>
              <a:off x="1339920" y="1447920"/>
              <a:ext cx="82440" cy="13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11"/>
            <p:cNvSpPr/>
            <p:nvPr/>
          </p:nvSpPr>
          <p:spPr>
            <a:xfrm>
              <a:off x="1154160" y="1447920"/>
              <a:ext cx="82440" cy="11682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12"/>
            <p:cNvSpPr/>
            <p:nvPr/>
          </p:nvSpPr>
          <p:spPr>
            <a:xfrm>
              <a:off x="968400" y="1447920"/>
              <a:ext cx="82440" cy="9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13"/>
            <p:cNvSpPr/>
            <p:nvPr/>
          </p:nvSpPr>
          <p:spPr>
            <a:xfrm>
              <a:off x="784080" y="1447920"/>
              <a:ext cx="82800" cy="782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Rectangle 14"/>
            <p:cNvSpPr/>
            <p:nvPr/>
          </p:nvSpPr>
          <p:spPr>
            <a:xfrm>
              <a:off x="598320" y="1447920"/>
              <a:ext cx="82800" cy="5731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15"/>
            <p:cNvSpPr/>
            <p:nvPr/>
          </p:nvSpPr>
          <p:spPr>
            <a:xfrm>
              <a:off x="412920" y="1447920"/>
              <a:ext cx="82440" cy="395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16"/>
            <p:cNvSpPr/>
            <p:nvPr/>
          </p:nvSpPr>
          <p:spPr>
            <a:xfrm>
              <a:off x="228600" y="1447920"/>
              <a:ext cx="82440" cy="198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17"/>
            <p:cNvSpPr/>
            <p:nvPr/>
          </p:nvSpPr>
          <p:spPr>
            <a:xfrm>
              <a:off x="1709640" y="1447920"/>
              <a:ext cx="77760" cy="17431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18"/>
            <p:cNvSpPr/>
            <p:nvPr/>
          </p:nvSpPr>
          <p:spPr>
            <a:xfrm>
              <a:off x="1890720" y="1447920"/>
              <a:ext cx="77760" cy="19414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19"/>
            <p:cNvSpPr/>
            <p:nvPr/>
          </p:nvSpPr>
          <p:spPr>
            <a:xfrm>
              <a:off x="2070000" y="1447920"/>
              <a:ext cx="77760" cy="212868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20"/>
            <p:cNvSpPr/>
            <p:nvPr/>
          </p:nvSpPr>
          <p:spPr>
            <a:xfrm>
              <a:off x="2251080" y="1447920"/>
              <a:ext cx="82440" cy="232704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21"/>
            <p:cNvSpPr/>
            <p:nvPr/>
          </p:nvSpPr>
          <p:spPr>
            <a:xfrm>
              <a:off x="2436840" y="1447920"/>
              <a:ext cx="77760" cy="2514600"/>
            </a:xfrm>
            <a:prstGeom prst="rect">
              <a:avLst/>
            </a:prstGeom>
            <a:solidFill>
              <a:srgbClr val="0078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Line 22"/>
          <p:cNvSpPr/>
          <p:nvPr/>
        </p:nvSpPr>
        <p:spPr>
          <a:xfrm>
            <a:off x="266760" y="6172200"/>
            <a:ext cx="8610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78f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CE60-4338-40EE-9EDF-4EB6E6B1FB2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895120" y="1371600"/>
            <a:ext cx="586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ffffff"/>
                </a:solidFill>
                <a:latin typeface="Arial"/>
              </a:rPr>
              <a:t>«Макаронический» стиль.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533520" y="3962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.И.Фонвизин, комедия «Бригадир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М.Ю.Лермонтов, роман «Герой нашего времени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.С.Лесков, «Левша»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6172200" y="4950360"/>
            <a:ext cx="2782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Автор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Ерина С.В.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учитель русского языка и литератур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МОУ «Лицей №3»</a:t>
            </a: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г.Сарова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Arial"/>
              </a:rPr>
              <a:t>Нижегородской области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1476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577600" y="63612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3505320" cy="42670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4419720" y="1066680"/>
            <a:ext cx="4419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на Бердовой маш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думалось моей кузин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дную меня, малад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одить жюск'а Кронштад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рег весь кипит народ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ед нашим пароходом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мамзель, де кавал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попы, дез офись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коляски, де кар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е старушки, де кадеты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дним словом, всякий сбро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5943600"/>
            <a:ext cx="2514600" cy="9144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Malade - боль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3276720" y="5943600"/>
            <a:ext cx="2438280" cy="9144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Jusqu'a... - до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095880" y="5638680"/>
            <a:ext cx="3048120" cy="121932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mesdemoiselle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cavalliers –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барышни, кавале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</a:rPr>
              <a:t>Des officiers - офице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0" y="152280"/>
            <a:ext cx="86868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Как характеризует героиню Мятлев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66"/>
                </a:solidFill>
                <a:latin typeface="Arial"/>
              </a:rPr>
              <a:t>соединение в речи слов русского и французского языков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4"/>
          <p:cNvSpPr/>
          <p:nvPr/>
        </p:nvSpPr>
        <p:spPr>
          <a:xfrm>
            <a:off x="1219320" y="23623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1"/>
          <a:srcRect l="0" t="38669" r="713" b="0"/>
          <a:stretch/>
        </p:blipFill>
        <p:spPr>
          <a:xfrm>
            <a:off x="0" y="0"/>
            <a:ext cx="3962520" cy="350532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0" y="3505320"/>
            <a:ext cx="502920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сказе Н.С.Лескова «Левш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потребление иностранных сл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 авторском  повествован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идаёт тексту комический эффек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1508040" y="6361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523880" y="5159520"/>
            <a:ext cx="4648320" cy="1709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 комизма достиг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мешением слов и фор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из различных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10"/>
          <p:cNvSpPr/>
          <p:nvPr/>
        </p:nvSpPr>
        <p:spPr>
          <a:xfrm>
            <a:off x="4267080" y="0"/>
            <a:ext cx="2819520" cy="16002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анс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не танц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11"/>
          <p:cNvSpPr/>
          <p:nvPr/>
        </p:nvSpPr>
        <p:spPr>
          <a:xfrm>
            <a:off x="6553080" y="1219320"/>
            <a:ext cx="2362320" cy="205740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Мы ва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грандев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сдела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12"/>
          <p:cNvSpPr/>
          <p:nvPr/>
        </p:nvSpPr>
        <p:spPr>
          <a:xfrm>
            <a:off x="6477120" y="3657600"/>
            <a:ext cx="2438280" cy="220968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Держа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аглиц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паре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Обобщим сказанное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Макаронический»  стиль – сочетание в произведении русских и иностранных сло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о средство позволяет автору изобразить героя и выразить своё отношение к изображаемо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20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8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676160" y="457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словесности под редакцией Р.И.Альбетково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67616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КАРОНИЧЕСКИЙ СТИЛЬ - (от итал. machaeroni - макароны) - изобразительное средство языка: включение в стихотворное или прозаическое произведение иноязычных слов перенесенных в неизменном виде или подчиненных морфологическим нормам языка ав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четание в тексте русских и иностранных слов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пример: "И промыслила билет // Для себя э пур Аннет" (и для Анны) (И. Мятлев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Oval 4"/>
          <p:cNvSpPr/>
          <p:nvPr/>
        </p:nvSpPr>
        <p:spPr>
          <a:xfrm>
            <a:off x="1752480" y="533520"/>
            <a:ext cx="6400800" cy="3733560"/>
          </a:xfrm>
          <a:prstGeom prst="ellipse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вание этого языкового сре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макаронический стиль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исходит от комической поэ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тальянского поэта 15 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ифи дельи Одаз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380880" y="5029200"/>
            <a:ext cx="8534520" cy="137160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При вкраплении в тек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иноязычных слов  возникае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комическая выразитель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3276720" cy="3657600"/>
          </a:xfrm>
          <a:prstGeom prst="rect">
            <a:avLst/>
          </a:prstGeom>
          <a:ln w="9360">
            <a:solidFill>
              <a:srgbClr val="0078f0"/>
            </a:solidFill>
            <a:miter/>
          </a:ln>
        </p:spPr>
      </p:pic>
      <p:sp>
        <p:nvSpPr>
          <p:cNvPr id="122" name="Rectangle 8"/>
          <p:cNvSpPr/>
          <p:nvPr/>
        </p:nvSpPr>
        <p:spPr>
          <a:xfrm>
            <a:off x="4267080" y="457200"/>
            <a:ext cx="4419720" cy="1752480"/>
          </a:xfrm>
          <a:prstGeom prst="rect">
            <a:avLst/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18 век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ишенью русской сати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редко оказывает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алломания дворя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9" descr=""/>
          <p:cNvPicPr/>
          <p:nvPr/>
        </p:nvPicPr>
        <p:blipFill>
          <a:blip r:embed="rId2"/>
          <a:srcRect l="0" t="0" r="7667" b="5560"/>
          <a:stretch/>
        </p:blipFill>
        <p:spPr>
          <a:xfrm>
            <a:off x="6095880" y="2743200"/>
            <a:ext cx="2754360" cy="3886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0"/>
          <p:cNvSpPr/>
          <p:nvPr/>
        </p:nvSpPr>
        <p:spPr>
          <a:xfrm>
            <a:off x="150480" y="4038480"/>
            <a:ext cx="5676120" cy="2654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Д.И.Фонвизин в комедии «Бригадир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ярко изобразил щёголя Иванушку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оторый, как он сам говорит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дражает француза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езирает всё русское и выраж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свои примитивные желания на смес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русского и французского язык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990720" y="228600"/>
            <a:ext cx="8153280" cy="119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очитайте отрывок из комедии «Бригадир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Найдите употребление макаронического стиля в тексте. Какова роль этого средства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-1080" y="1981080"/>
            <a:ext cx="907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Без сумнения, мы рождены под одною комето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Все несчастие мое состоит в том только, что ты русска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Это, ангел мой, конечно, для меня ужас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гиб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Это такой defaut,  которого ничем загладить уже нельз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ветница. Что ж мне дела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н. Дай мне в себе волю. Я не намерен в России умереть.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ыщу occasion favorable увезти тебя в Париж. Тамо остат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ней наших, les restes des nos jours, будем иметь ут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водить с французами; тамо увидишь ты, что есть меж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чими и- такие люди, с которыми я могу иметь socie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7051680" y="1523880"/>
            <a:ext cx="10998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8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Словар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7910640" y="63612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дале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676160" y="198108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defaut -  недостаток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occasion favorable -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лагоприятный случа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les restes des nos jours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- остатки наших дн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Societe - общество, </a:t>
            </a:r>
            <a:r>
              <a:rPr b="0" lang="ru-RU" sz="2800" spc="-1" strike="noStrike" u="sng">
                <a:solidFill>
                  <a:srgbClr val="3399ff"/>
                </a:solidFill>
                <a:uFillTx/>
                <a:latin typeface="Arial"/>
                <a:hlinkClick r:id="rId1" action="ppaction://hlinksldjump"/>
              </a:rPr>
              <a:t>обще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4191120" cy="3476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762120" y="5105520"/>
            <a:ext cx="769608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Вспомните сцену на балу в «Герое нашего времени»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Какова </a:t>
            </a:r>
            <a:r>
              <a:rPr b="0" lang="ru-RU" sz="2400" spc="-1" strike="noStrike" u="sng">
                <a:solidFill>
                  <a:srgbClr val="3399ff"/>
                </a:solidFill>
                <a:uFillTx/>
                <a:latin typeface="Arial"/>
                <a:hlinkClick r:id="rId2" action="ppaction://hlinksldjump"/>
              </a:rPr>
              <a:t>роль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 макаронической речи в  этой  сцене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6"/>
          <p:cNvSpPr/>
          <p:nvPr/>
        </p:nvSpPr>
        <p:spPr>
          <a:xfrm>
            <a:off x="5486400" y="457200"/>
            <a:ext cx="3657600" cy="2666880"/>
          </a:xfrm>
          <a:prstGeom prst="cloudCallout">
            <a:avLst>
              <a:gd name="adj1" fmla="val -83375"/>
              <a:gd name="adj2" fmla="val 34226"/>
            </a:avLst>
          </a:prstGeom>
          <a:solidFill>
            <a:srgbClr val="0078f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ермете... ну, да что тут! Просто ангажирую вас на мазурк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ём макаронической речи служит в сцене бала характеристикой персонаж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рожий господин хочет оскорбить княжну Мер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давая французское слово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mettez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(позвольте) русскими буквами, Лермонтов говорит о том, как произносит это слово господин, и тем самым характеризует этого малообразованного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562720" cy="4114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78f0"/>
              </a:buClr>
              <a:buSzPct val="8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В русской поэзии яркий образец макаронической  поэзии создал И. П. Мятлев, спародировав речь русских дворян-французоманов («Сенсации и замечания госпожи Курдюковой за границею — дан л’этранже»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5857920" y="152280"/>
            <a:ext cx="328608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Дом</dc:creator>
  <dc:description/>
  <dc:language>en-US</dc:language>
  <cp:lastModifiedBy>Дом</cp:lastModifiedBy>
  <dcterms:modified xsi:type="dcterms:W3CDTF">2019-11-07T15:53:49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