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CC6-036F-48D0-8B5E-745ED89DF7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d t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us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n'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ave to   5 should  6 must 7 don’t have to ( you have a choice) 8 shouldn’t  9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936E-1AA2-4CCB-979B-19CC0E050202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93B-9E52-400F-918D-DC572264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3C6-F5C0-4FAF-AE08-DC45B762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C69EC-E038-4070-B873-888A703D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09D6E-773C-4715-B42A-92BDAB3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B5D8B-F42E-4C8A-81E2-7DCDEE38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BE8B1-8CC6-43A1-8B4B-5EDBA15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A9B84-1643-4D52-BA12-36F63062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D9A3C-C74C-4C8A-A70B-F142B6D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45E1B-8997-476D-80F1-717243DE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202CA-C05E-442E-9F3F-72CB0FE6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8A1E3-0A73-46C1-A67C-B9C8F89A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EEF2A-3AB0-4536-A4DE-324BCB7F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2C5-A41D-479C-81F9-6539E80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9A73D-D04E-4C7E-8D40-1F26E61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84A54-28AB-4194-8A9F-4FB08CDA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DEEF6-CB2B-4337-B9F1-362DCECC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FA579-B722-4025-8B5B-D8EDD52E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3D9EF-AC53-47BF-B4E7-4056AD4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97598-7ED7-4FA4-BFBA-13D988F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A0D9F-9BA2-4032-ACDF-9F0666B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8DE1-78EF-4C22-BFB9-9172091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11AFA-598B-4961-BD5A-AD40E57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629C-32FD-45DB-8EF4-4955A81A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0A8-0670-4F9C-A0C8-82FD5ACA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08845-57E6-4148-B183-A489432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98576-0BE0-4E43-A6ED-31C90D50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06E39-612A-4DCE-8913-9743840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F49D-964B-4C36-8196-CFCE8A7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00CDA-869C-4962-AB2B-F7B934D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1F5DD-23D9-49C3-9C2B-B2E9651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38358-DEC4-4A7E-B4EB-9B3C0C1C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8C980-1FD6-42A0-9575-DBE7F36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59948-AFE5-44C3-A0C1-DD0CBFF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4D6B-03E6-49EA-AE18-69CAEAA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F3F-5C75-457C-916B-9992966F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DB297-F55A-4226-BE98-FB8D91D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D8C40-4EF7-4AD3-AD1A-D0ED2A69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1A08-B3BA-4C4D-B612-F84F6703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6B62B-C205-4381-93CE-1C6F510E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E45AA-7842-4977-944C-BEA1BB7A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25700-11A4-41CF-B6FC-1525EA6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8A0E9-CA85-4915-8333-47FBD66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51D43-CA66-4945-AC12-D630920A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43AD1-86BA-4048-AEF9-2A2F99E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4BD57-69EC-4F05-8302-1B14DD3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CBF3-CA41-443C-92F7-EE074C7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B7130-33D7-4C72-A2A0-906C41B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65112-1D47-435A-BA39-495BC0A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E6B94-3F89-4CE3-BFA9-C902901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90696-C731-4F3D-B5A1-C9090B8E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FEFA8-7371-46D3-B8A9-6DECFC63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E024-5CD3-4D4E-A9A5-BB3DF8D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5E8A-1E7E-4E71-8BA0-20ACA8D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A88-5F74-45F5-8813-D627028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AE40-111B-4D85-A586-2E258111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DC85-1DBF-431A-9BFA-CCE9315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912-C629-4136-A935-0121EB16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92B-CFA4-432C-B49A-4294D55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7E7C-9B03-4E55-8F57-A9F94D0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C6D3-B8E3-4352-8CFA-F7161948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2F27-1169-44C4-9DD9-0F7BF9D6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4C82-E513-4698-A0B0-C3F4D33F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C070-520F-4B68-9292-774C00FC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5460-6E44-46F4-955A-6A817F67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66FC-567F-4503-A68A-54924A6D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494F-6BAC-49D2-B9BA-5F8F7B1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2EF4-B924-47D9-BF02-C2DB122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543-DC17-4A40-9E49-DEEFA66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9092-966E-41CF-8292-22CA731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D1CC-FCB2-4D9A-8C81-6F5A0DB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B1DB-2765-4809-9EEB-AA5B101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F126-5D0A-4212-AFFA-01B8FE9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02AB-6987-498E-B685-9656067A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4F3A-2126-4D9F-A13E-ECDA8076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F657-E2BD-4AE6-BE8F-3D502C43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9923-C325-40B9-BB42-F16AD7EE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2032-D7F8-4850-9A32-6C3D8EC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DDA6-0949-463B-BAD8-C3BABDE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CF5-E696-47F7-BB47-A3AE74B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BBF9-65A0-47F5-AFE6-CDA5936B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E5A9-4780-47B6-AD87-76BB8648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F9C3-8B94-4F1D-BB0C-F30B9F8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19F2-6F6D-4C51-8E9A-D15EFD5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3963-5BE3-4480-ABB3-E503813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0659-9958-485D-A05A-486169A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888B-EA23-4A70-8250-A51C4B1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EE1A-65AA-4590-92B9-AA7332A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7562-336E-4F11-A405-1124B288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1AA4-6E44-4FCD-B698-A57E6731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271-21AE-4B8B-9D77-EE8EBE98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7988-7AD5-4B2F-8211-927F278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2646-20EC-41B1-9BB7-D9CF1CB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5058-FCB0-4BC7-A8CE-7A077E3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3FB2-C203-40AB-9D9E-6097A285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2342-9BD0-41AA-B0AE-4309831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90AF-301A-4D1F-B610-FA8289B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71B5-3602-4586-B1CF-3BA7A63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E5FC-363C-42FD-BA96-8B025F24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5C44-7A5F-4B3D-99B8-519A276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55F6C-7287-404A-89CD-ABC3B02E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A10-EF88-4F0F-BE18-185BA348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CD307-424B-42E9-9EF4-0B33DD90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D4E1-F3D1-401C-B5FB-9164602A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4F68B-BFA9-488C-B0A8-CCBE7446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E6EF-DC1F-4AF7-8028-5CA6E64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8E69-26C8-48E0-BE1B-37039D5F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FE5F-659F-46E1-8549-BEE8A76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39786-6E27-446C-A7E6-630AE23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CE85-4340-4EB8-B846-2DAC130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D98F-468C-4200-BE64-2D21C4A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E5CD-F977-4650-AAE7-5AC515A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277-8FCB-4106-9B2D-46CBAC1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AEC0-AF42-447C-A713-CC250C6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89A6-4460-4A9F-98A3-39016601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649F-46A8-48E9-BC44-76B89F27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E764D-A76E-450B-9459-814B485D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E7B7-E565-4B63-9443-C7DD15B8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7D96-9F6A-434B-8752-75F185F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CFA1-D4EB-4435-8805-FE45A9E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A7D71-A0F9-4DA4-BB58-7F8B5C8F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F864-238E-4C2C-80A3-AC6AEFA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EFED-AA4F-4EC0-BFF9-F3C4792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D63-16E7-4A0D-81E4-E435FCA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A9BC5-B22A-41E0-BF1F-2503F93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4B32-72C1-4972-B8A4-9BB3911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5D1E-21B5-4B56-BB47-1878E0B8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BDA1-9EB0-44B6-8AAB-945ACF45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10AF-EF7A-40F3-97E3-FB5B2A58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2EF5F-9E19-40ED-B359-3FD9EBD1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E6966-DF58-4FBF-8DBF-A525BA6A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D719F-BAB9-4ACF-BC57-3C4CEBDC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76E4-202E-4388-9225-8E1D8EDE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BD21C-2D49-4B80-A6E2-561C2D4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653-B58E-44F6-9FB2-4B80F59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3D72-5A1A-4A26-9F13-B61B9C4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FBC7-244F-4903-A832-B7208BF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5CD8-EBBA-4BE8-A600-EC22843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F45E8-7FEC-4685-9D48-53CB6AA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DE12-2080-4EFC-A79B-D9072CA7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23744-F681-46CC-8CDA-194301ED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DD15-3A98-4E32-B016-CCAFD36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913B3-2B2E-438D-AC18-A59F7C19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93E49-1D9C-40FA-B6BC-64330F2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1A2FF-FD88-4443-8FB4-0851DFF9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C63F-EB4E-4505-BCF9-3428E05BEA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327-38BF-4486-B067-6589788D31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8097-4913-4B63-941D-F890DA7220E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376-0AEE-4EF2-AF3D-3FD7534F40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078-40DD-4BEC-837D-C1426D6E5AA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7B2-D735-496C-B1FD-14754BB72D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469C-B21A-43BB-AF04-7B5599D8DC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8CC-D2CD-4B59-8D02-D37F46D766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A1FA-21A5-4495-9545-08AF8291491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2D9-B5E9-436C-94F4-81C4680078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0EA-5166-46AB-851B-08B29BB383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330-2108-40EA-8AC1-D22CCDA172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6349"/>
                </a:solidFill>
                <a:latin typeface="Georgia"/>
              </a:rPr>
              <a:t>Must /have to / should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Рисунок 4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5244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Have t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даёт необходимость совершить действие, т.к. этого требуют обстоятельст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I have to go to school on Monday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понедельник я должен идти в шк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I have to get up at seven</a:t>
            </a: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втра утром я должен встать в семь час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отрица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отсутствии необходимости совершить действие употребляется </a:t>
            </a:r>
            <a:r>
              <a:rPr b="1" lang="en-US" sz="3600" spc="-1" strike="noStrike">
                <a:solidFill>
                  <a:srgbClr val="71481c"/>
                </a:solidFill>
                <a:latin typeface="Georgia"/>
              </a:rPr>
              <a:t>don’t have t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You don’t have to help them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бе не надо им помог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вопросительных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просительная формы глагол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have t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всегда образуются с помощью вспомогательного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71481c"/>
                </a:solidFill>
                <a:latin typeface="Georgia"/>
              </a:rPr>
              <a:t>do/doe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Do I have to help them?</a:t>
            </a:r>
            <a:r>
              <a:rPr b="0" lang="ru-RU" sz="27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должен помогать и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Georgia"/>
              </a:rPr>
              <a:t>Mus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5056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потребляется говорящим, когда он сам считает, что необходимо совершить действ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You must read this book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ы должен прочитать эту кни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b9899"/>
                </a:solidFill>
                <a:latin typeface="Georgia"/>
              </a:rPr>
              <a:t>Must not = mustn’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ражает запреще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He mustn’t eat sweets.</a:t>
            </a: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му нельзя есть конф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You must not make noise at night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чью нельз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ш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ме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потребляется для выражения настоятельного совета, рекомендаци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You should see a doctor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м следует показаться врач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 the correct verb: must, have to or shoul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hadn't enough money and I ... pay by cheq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see it. It's the best film I've ever se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…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ter this room. It is danger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ish children . . . stay at school till the age of 1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think you … learn Spanish if you want to work t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walk across the street on the crossing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 buy coffee in the cafe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worry about it. It’s not importa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remember to do your homewor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Объект 3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522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йсан</cp:lastModifiedBy>
  <dcterms:modified xsi:type="dcterms:W3CDTF">2020-01-08T19:16:24Z</dcterms:modified>
  <cp:revision>15</cp:revision>
  <dc:subject/>
  <dc:title>Презентация PowerPoint</dc:title>
</cp:coreProperties>
</file>