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FCA-FB3F-4ED3-91FB-85D28F04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9BB-465B-43A1-A792-7CA0963D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21DF5-801F-4677-AE02-5E546137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E36DF-90BA-4A29-BB4A-6F883267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57C01-7616-436C-9A75-1F008E55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06C4D-3BF7-4845-9376-71F9DA9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26220-6972-4341-B43B-2E6ABA87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EC8BF-8FA2-4F5A-B703-66830ED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8A059-E2E7-4150-BA7B-267924D1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148CB-52E6-448F-93B9-2C1578FA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76A64-A999-4A47-8754-031C274B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1A213-ACBB-42C9-BD99-8500BE9B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4B8-71CB-49C6-BE26-A6071359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B40DF-DF18-4B1C-B84B-354AEE1C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17636-A6C9-49AD-BB9E-C762A961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388FB-006E-405E-B9F5-ECDAAA96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51706-29CC-464E-AA40-69800BAB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E14AE-2D4C-4768-922A-197A777B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40BED-FD74-4DC1-B802-AF05954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EFAE0-5BD6-4BF6-BD81-9E9EF42E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A3431-1F96-423D-B2F1-D4FFAFA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364C2-175A-47C4-A107-E79FA58B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505DE-80E1-4576-A2DE-42AFB637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CAF-C6A8-4768-B78C-AB2110C2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56819-2927-4533-B7FF-76815D3F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D272F-4C43-4A2B-B5F4-DD0D01CC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91086-E08E-4BB0-AD2D-60FEB634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0CFDA-8455-4460-968E-B43E174D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C5C4A-3B4A-48EB-AE37-C0F9AA4F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79400-76C9-4C42-8C75-6556E1D1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4FDDE-FDC6-4863-A903-F4BC633F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742C6-295C-4FE3-802B-0C79925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2570A-485D-498C-8243-D6EC794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B0566-F44C-4615-9CEB-166CCB06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E7AB-515E-4563-A51C-B94C9435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9598C-94CC-4D02-A76F-5B1536D1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86EB8-6384-4EA6-8BE3-EA801FA4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33624-0D26-49E2-882D-96F035CD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83974-1923-488F-BB93-65558413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D08BB-2375-43EF-8624-16944CED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C480A-0DDC-4D8E-B405-3448A0E3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F1632-D33F-471B-8A35-86C70E57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AA168-DD72-454B-B78F-55EA567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D581C-A6C3-4D59-9DE6-58FB0281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2C276-CE93-465B-B812-3C72AD89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6A87-8AEA-40C4-9918-A6449B3C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6FD8B-4702-4FB3-8AD4-8DEB0DB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CE8C2-AB1E-4B54-8706-47515C4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CBB0B-1043-4C4E-9C7A-BC7F80F3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55E16-D2B6-41DC-9128-8640BCF8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BE0EC-7A68-4741-AC06-B0BB33F6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31A5E-26BA-409C-86DB-DED0B0F1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07EEA-66E5-446C-B2E7-8EC45EE5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2594A-653E-4608-8450-FBDBC6EF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3C219-A658-418F-BD08-D96EAA4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70C00-FC6A-4305-B5EA-3001D984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C468-5BA7-40CE-A052-970AF190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57455-7DBD-4FA1-AF38-7F7AE47D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379DF-6905-46D6-9F0D-8B386D74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D9B60-6774-4F2D-8779-74514EDC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438E0-969A-410C-8B3C-64CC5C9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88323-9C7E-42F8-90AC-4F2EBAE0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6D446-A550-45D8-8B69-6B8ED69F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1080C-56A9-465A-95B1-CB50F0D6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A9744-3B53-4C60-81F5-3F1FB363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53AE5-0437-48AD-831B-4568B17A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7DB3E-A565-4215-BE56-63296C79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FDD7-C344-4C66-9336-1A5EDFB6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C28A2-AB8F-4707-98F9-FA8F0E42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BFEA8-585C-4D84-AF45-ED4C200F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D7CAD-6E82-4211-9E64-E06087D3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6C8C1-CCEC-4634-B821-2FA5324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36CCF-3236-468B-80B6-51BC5C5A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ACCDE-8A0B-4D36-9E60-E1610EE5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959BE-F127-4078-B2BC-63BD664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96748-B510-4554-B5A7-02180DB6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A29A6-A8C8-47C9-A35C-357248A9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23EE2-5C55-4DC8-906F-0023FF69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C50B-145C-4447-867A-1BF1AA14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E234F-D2AB-4C43-9EA1-C41B5C4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2FB3D-E281-42F7-9009-6E3EB3B2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0F9DA-CE80-49DC-8A42-CAB52477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EC3A8-5E70-43B1-A74C-E36D338B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A0386-7EC4-4C47-92CF-5C9F17D0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E7501-F2C8-4DA9-8711-642753E1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46778-AF48-446C-B51D-73D68C2E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39968-E5C8-4BCE-A9E7-05213C7E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97842-C5C0-4F46-ADBC-ADD85608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F5C14-DDA1-45EE-89E0-3F92AE72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E9C6-9167-4588-9E12-43B2292A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8A1BF-563F-46A8-9732-36C8EF5C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81EB63-406A-4451-8B8C-4DA54542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0C240-59DF-4D3E-9997-A7DCC549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09FB0-B15F-4FAF-8909-FE5DA8F0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C949B-CB1C-498F-A6A7-9246B65C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CE8AE-EA4E-40DF-90AE-367CDF3D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20A60-408F-4BE7-9031-37D5CEFC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678C7-2CA5-495B-8C3E-C1969E2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C0787F-DDEA-4387-BD8B-972CC35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DC691-20F9-4F34-B3D2-44FF57B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D8C6-175B-4DA5-93AF-F1FCE89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6E4F0-463A-4882-9501-4F4A7188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783DE-7219-45A3-B0DB-4339429D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EF9A6-30DB-4454-A2DB-0EC3CA00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4B54E-2C44-4F34-A217-A335E1CF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5D507-6549-4A7A-BCCA-A085D720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AF0EE-E2A8-4ECD-B1A5-0217AF0C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3A4E3-8A11-4AC4-A593-C4F58F6C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11A4E-FAB8-4544-AB72-1A2FC9EE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65B114-2752-4483-9887-1F32FC4B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07C83-4593-48CF-98FC-2DA76E0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8D9-469C-4F68-A06F-8639673F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0CD0-ADFB-4B5A-BA20-222D2A5F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6E488-C4A4-4020-AC59-DB34601D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5B03F-6910-4F44-A96C-17D28EC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E7615-66FB-4033-A774-90670CF8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FBCDE-2C7D-467B-8181-CBD6872E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4C820-B297-4C53-8E29-EABD5694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019C1-EF6A-402E-AC48-537C20E8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C2612-142C-49A0-A122-CAFFB6BF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AE880-4E3A-4455-9E3A-35925DE4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2057D-E5B6-463D-A469-A511ABA7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14929-F51C-4601-A255-A0D8807B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887E-8B46-4722-9DD0-98873F6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3F2BD-3242-4D91-9871-81A02FE1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8EEE6A-3FDB-47D8-A0A4-B7DCA6B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13ADC-9B69-45A8-9610-205AB0B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87ABA2-8175-4E5D-95DB-F3CC26C1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0CA303-CD1A-4D49-BB64-C345AD0B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AF5F3-8DC2-4C9E-BFDD-EE1DCDC3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6840F-583E-409A-B3AE-A6BBBB1C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22B-5158-437E-8500-1F58C0D0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41D2-4C8D-42FD-BEAA-DE730193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B083-6FAC-4DEF-B6D2-40CB3C93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1C1D3-7FC3-4D96-A8D6-A570C890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E327-8289-41CB-B2D2-081DCDC6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F66B-2485-4416-84A8-AC11689A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4CC4-D66D-4CD2-AAB7-A16DA3C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85A0-E983-4DC4-9795-702C7973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779-8B0B-445A-AF66-E4E30DAD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8361-6E20-40DD-9903-CE1037F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8910-C192-43C0-A9B0-05E68A6A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17A2B-8905-4D9D-AFB5-6F041E99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50037-0F1C-49E4-BFEC-451824BF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78BAA-E851-4247-8F28-5DBA406A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BADF9-8AEC-4AFC-BCFF-1D5C99EB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174BB9-8193-4977-AB03-0D810391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2AFD3-45E9-4283-A232-556952BD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EA473-148A-44EF-A28D-D15BDAF3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D7DA-AE6E-4AC8-960C-93E9662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A41FA-8679-4636-AB29-9E627252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99056-39E7-40EB-A71D-44FCF21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80DC4D-2D91-4B92-9F4B-BEB41C4A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58484-940F-47E8-A75F-EFBE5A81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F37FA-0505-4B4C-9019-645EF4FE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0E69-E588-45E3-B426-D6D5472D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2C9B-2864-4D3B-B8BA-64F00B7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7650-CCA2-4B17-853C-C0293083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B1D5C-7FAD-4171-BC92-1D69E8A7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6F451-2B0C-447A-96CB-EA80486F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6172-79B4-4F41-98E4-835C66CB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FE95D-8918-4281-B05B-928A4B11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685-DA3A-4D84-BF61-60C691EB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59A56-ADFC-4887-9E7D-BB725F14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92B05-2E00-47DB-A21C-FFBA8157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E780C-72B1-44AB-88AA-8E1FD495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09E7-48D7-483E-8830-67250EC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130D-909F-41E4-8A94-FC577A5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1672-B4B7-42BA-8A28-3BD1CC3C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9D7F-3097-4219-8EAD-715911AB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68D9-D1D6-4208-9327-C6A1C769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31909-BC74-4FE6-99B7-8711A024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2161-D2F2-4FD8-8434-1713DD7A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476-5967-49E5-9C88-72837836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57D9-710E-4999-87B9-4AE7F60D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3C369-5171-4CB7-92E7-5793AEF5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4A85E-2D2A-48A0-A8BF-9B90318C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350BF-5C3C-4F13-98B3-504F1D48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D3034-DC55-4C7E-8866-3BFD3A1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A243-104E-4F29-9060-FD8BAB9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3182C-82AF-4D49-9D10-3764115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BD7E-C61F-4F61-863A-8B4EC65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DFBEF-14B4-4B7F-BF1C-D954C563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A225E-060C-489F-A03F-C3B000DE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BE2-3BC4-49C6-B619-4A58F90A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3425-C645-412A-AFC8-AE855B94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02C44-E522-4B9B-B09C-F3EBA0B5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EE93B-5DEA-4279-AF0F-0739402F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7FF1-9A5A-4E58-A3D4-572D4E21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52B7-0A81-4F8D-9283-CED24464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0FF50-0425-4849-BD01-3EE274EB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3ED2B-F008-4DC0-B123-550B02B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3D1BD-834B-4B14-9906-8BAE785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1798-923F-42FF-B3C7-692DE21C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D9B21-45CB-4F18-B6B7-5FA90ED8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04B-94A0-4BA8-9D82-E036859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E101B-7251-4A14-A2B5-B8A8D3DF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E80A-D035-4A0D-9D25-3A74734F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2B80F-067B-41AF-8B2B-B1D3A537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EED5-332F-432A-BD6E-C632ECA4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2A861-0487-44D0-BF89-240DFA34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F5F83-3FC1-483F-A32C-F017382F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E2EE-C3C6-4540-B48D-2ADF450E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ACF29-BC88-457A-A9A4-33542ADB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37C33-7222-4F8C-85F6-9739CA88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CD9E-A96B-4830-ADD1-F8E78F7A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9D9-7D29-4327-8EE1-34CCA0DC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C4243-50F5-4852-998A-FC1AEBE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F5C9-F392-4EF7-8E63-BEC2201D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C8268-3771-421A-B22E-72C89C52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E979B-94FD-4C95-90A1-C615D33A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EF494-987C-42FA-AD97-27B52600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4523D-A9E1-4C70-B7FD-263C6545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9848-E21D-44E4-98E4-84CC811E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E7E4-BCFA-4B29-A144-240FD533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EFFE-162E-4E7E-8DD0-7B47727C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ACA5-9E7E-4C48-A068-868A6A01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0F3-8459-43BE-9FF6-A56D668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AEE5A-CD4E-42B9-B8EB-0699287E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93806-B245-4D54-B620-55C570D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0D7C-98EF-4250-A0E6-762F91AA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C845D-B0EC-4DD2-A774-582893F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BEB86-3026-4EC6-9008-BB15AEC0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3D3A9-224E-4309-8462-F9B8AFF8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63E50-0AC2-4CCD-A4D8-CA33B3AC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E15D9-F2D8-41DC-A84B-FD962CD7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989B3-917A-46BC-9F22-9C668D22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E7553-4B1E-45F3-9B6C-8D6E9CE5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09D1-834A-49D3-82EE-A8DE2B62505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9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0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0FCF-7471-460B-B1DD-BA577C1DEBB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5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5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55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56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56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56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56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56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6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56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7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57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57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57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57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7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F79D-3585-477C-BA21-01B1B46BA52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474E-57A2-4B2E-B7AE-75A80BF6BF64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9651-8980-42AE-8C14-E815584345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86D-DBF8-4430-A93F-640509EF08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3B04-082F-4953-82F6-FCEEEE5077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4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4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66ED-73FD-44E3-86EE-8F38C792AA4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5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5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5732-C333-4DF9-97C8-F111036C20A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Группа 6"/>
          <p:cNvGrpSpPr/>
          <p:nvPr/>
        </p:nvGrpSpPr>
        <p:grpSpPr>
          <a:xfrm>
            <a:off x="-39600" y="27000"/>
            <a:ext cx="9128160" cy="6858000"/>
            <a:chOff x="-39600" y="27000"/>
            <a:chExt cx="9128160" cy="6858000"/>
          </a:xfrm>
        </p:grpSpPr>
        <p:pic>
          <p:nvPicPr>
            <p:cNvPr id="876" name="Picture 4" descr=""/>
            <p:cNvPicPr/>
            <p:nvPr/>
          </p:nvPicPr>
          <p:blipFill>
            <a:blip r:embed="rId3"/>
            <a:stretch/>
          </p:blipFill>
          <p:spPr>
            <a:xfrm>
              <a:off x="-39600" y="2700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Прямоугольник 8"/>
            <p:cNvSpPr/>
            <p:nvPr/>
          </p:nvSpPr>
          <p:spPr>
            <a:xfrm>
              <a:off x="195120" y="287280"/>
              <a:ext cx="352908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D47B-9D9A-4A82-A138-B77616699A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Группа 6"/>
          <p:cNvGrpSpPr/>
          <p:nvPr/>
        </p:nvGrpSpPr>
        <p:grpSpPr>
          <a:xfrm>
            <a:off x="-39600" y="27000"/>
            <a:ext cx="9128160" cy="6858000"/>
            <a:chOff x="-39600" y="27000"/>
            <a:chExt cx="9128160" cy="6858000"/>
          </a:xfrm>
        </p:grpSpPr>
        <p:pic>
          <p:nvPicPr>
            <p:cNvPr id="920" name="Picture 4" descr=""/>
            <p:cNvPicPr/>
            <p:nvPr/>
          </p:nvPicPr>
          <p:blipFill>
            <a:blip r:embed="rId3"/>
            <a:stretch/>
          </p:blipFill>
          <p:spPr>
            <a:xfrm>
              <a:off x="-39600" y="2700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Прямоугольник 8"/>
            <p:cNvSpPr/>
            <p:nvPr/>
          </p:nvSpPr>
          <p:spPr>
            <a:xfrm>
              <a:off x="195120" y="287280"/>
              <a:ext cx="352908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2FFA-BB0C-4DB8-87E5-B1E1064D8E6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</p:grpSp>
      <p:grpSp>
        <p:nvGrpSpPr>
          <p:cNvPr id="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8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8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9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9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9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9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9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9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9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9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9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  <p:sp>
          <p:nvSpPr>
            <p:cNvPr id="1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Группа 6"/>
          <p:cNvGrpSpPr/>
          <p:nvPr/>
        </p:nvGrpSpPr>
        <p:grpSpPr>
          <a:xfrm>
            <a:off x="-39600" y="27000"/>
            <a:ext cx="9128160" cy="6858000"/>
            <a:chOff x="-39600" y="27000"/>
            <a:chExt cx="9128160" cy="6858000"/>
          </a:xfrm>
        </p:grpSpPr>
        <p:pic>
          <p:nvPicPr>
            <p:cNvPr id="961" name="Picture 4" descr=""/>
            <p:cNvPicPr/>
            <p:nvPr/>
          </p:nvPicPr>
          <p:blipFill>
            <a:blip r:embed="rId3"/>
            <a:stretch/>
          </p:blipFill>
          <p:spPr>
            <a:xfrm>
              <a:off x="-39600" y="2700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Прямоугольник 8"/>
            <p:cNvSpPr/>
            <p:nvPr/>
          </p:nvSpPr>
          <p:spPr>
            <a:xfrm>
              <a:off x="195120" y="287280"/>
              <a:ext cx="352908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Группа 6"/>
          <p:cNvGrpSpPr/>
          <p:nvPr/>
        </p:nvGrpSpPr>
        <p:grpSpPr>
          <a:xfrm>
            <a:off x="-39600" y="27000"/>
            <a:ext cx="9128160" cy="6858000"/>
            <a:chOff x="-39600" y="27000"/>
            <a:chExt cx="9128160" cy="6858000"/>
          </a:xfrm>
        </p:grpSpPr>
        <p:pic>
          <p:nvPicPr>
            <p:cNvPr id="1002" name="Picture 4" descr=""/>
            <p:cNvPicPr/>
            <p:nvPr/>
          </p:nvPicPr>
          <p:blipFill>
            <a:blip r:embed="rId3"/>
            <a:stretch/>
          </p:blipFill>
          <p:spPr>
            <a:xfrm>
              <a:off x="-39600" y="2700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Прямоугольник 8"/>
            <p:cNvSpPr/>
            <p:nvPr/>
          </p:nvSpPr>
          <p:spPr>
            <a:xfrm>
              <a:off x="195120" y="287280"/>
              <a:ext cx="352908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Группа 6"/>
          <p:cNvGrpSpPr/>
          <p:nvPr/>
        </p:nvGrpSpPr>
        <p:grpSpPr>
          <a:xfrm>
            <a:off x="-39600" y="27000"/>
            <a:ext cx="9128160" cy="6858000"/>
            <a:chOff x="-39600" y="27000"/>
            <a:chExt cx="9128160" cy="6858000"/>
          </a:xfrm>
        </p:grpSpPr>
        <p:pic>
          <p:nvPicPr>
            <p:cNvPr id="1043" name="Picture 4" descr=""/>
            <p:cNvPicPr/>
            <p:nvPr/>
          </p:nvPicPr>
          <p:blipFill>
            <a:blip r:embed="rId3"/>
            <a:stretch/>
          </p:blipFill>
          <p:spPr>
            <a:xfrm>
              <a:off x="-39600" y="2700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Прямоугольник 8"/>
            <p:cNvSpPr/>
            <p:nvPr/>
          </p:nvSpPr>
          <p:spPr>
            <a:xfrm>
              <a:off x="195120" y="287280"/>
              <a:ext cx="352908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Группа 6"/>
          <p:cNvGrpSpPr/>
          <p:nvPr/>
        </p:nvGrpSpPr>
        <p:grpSpPr>
          <a:xfrm>
            <a:off x="-39600" y="27000"/>
            <a:ext cx="9128160" cy="6858000"/>
            <a:chOff x="-39600" y="27000"/>
            <a:chExt cx="9128160" cy="6858000"/>
          </a:xfrm>
        </p:grpSpPr>
        <p:pic>
          <p:nvPicPr>
            <p:cNvPr id="1084" name="Picture 4" descr=""/>
            <p:cNvPicPr/>
            <p:nvPr/>
          </p:nvPicPr>
          <p:blipFill>
            <a:blip r:embed="rId3"/>
            <a:stretch/>
          </p:blipFill>
          <p:spPr>
            <a:xfrm>
              <a:off x="-39600" y="2700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Прямоугольник 8"/>
            <p:cNvSpPr/>
            <p:nvPr/>
          </p:nvSpPr>
          <p:spPr>
            <a:xfrm>
              <a:off x="195120" y="287280"/>
              <a:ext cx="352908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Группа 6"/>
          <p:cNvGrpSpPr/>
          <p:nvPr/>
        </p:nvGrpSpPr>
        <p:grpSpPr>
          <a:xfrm>
            <a:off x="-39600" y="27000"/>
            <a:ext cx="9128160" cy="6858000"/>
            <a:chOff x="-39600" y="27000"/>
            <a:chExt cx="9128160" cy="6858000"/>
          </a:xfrm>
        </p:grpSpPr>
        <p:pic>
          <p:nvPicPr>
            <p:cNvPr id="1125" name="Picture 4" descr=""/>
            <p:cNvPicPr/>
            <p:nvPr/>
          </p:nvPicPr>
          <p:blipFill>
            <a:blip r:embed="rId3"/>
            <a:stretch/>
          </p:blipFill>
          <p:spPr>
            <a:xfrm>
              <a:off x="-39600" y="2700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Прямоугольник 8"/>
            <p:cNvSpPr/>
            <p:nvPr/>
          </p:nvSpPr>
          <p:spPr>
            <a:xfrm>
              <a:off x="195120" y="287280"/>
              <a:ext cx="352908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Группа 6"/>
          <p:cNvGrpSpPr/>
          <p:nvPr/>
        </p:nvGrpSpPr>
        <p:grpSpPr>
          <a:xfrm>
            <a:off x="-39600" y="27000"/>
            <a:ext cx="9128160" cy="6858000"/>
            <a:chOff x="-39600" y="27000"/>
            <a:chExt cx="9128160" cy="6858000"/>
          </a:xfrm>
        </p:grpSpPr>
        <p:pic>
          <p:nvPicPr>
            <p:cNvPr id="1166" name="Picture 4" descr=""/>
            <p:cNvPicPr/>
            <p:nvPr/>
          </p:nvPicPr>
          <p:blipFill>
            <a:blip r:embed="rId3"/>
            <a:stretch/>
          </p:blipFill>
          <p:spPr>
            <a:xfrm>
              <a:off x="-39600" y="2700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Прямоугольник 8"/>
            <p:cNvSpPr/>
            <p:nvPr/>
          </p:nvSpPr>
          <p:spPr>
            <a:xfrm>
              <a:off x="195120" y="287280"/>
              <a:ext cx="352908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Группа 6"/>
          <p:cNvGrpSpPr/>
          <p:nvPr/>
        </p:nvGrpSpPr>
        <p:grpSpPr>
          <a:xfrm>
            <a:off x="-39600" y="27000"/>
            <a:ext cx="9128160" cy="6858000"/>
            <a:chOff x="-39600" y="27000"/>
            <a:chExt cx="9128160" cy="6858000"/>
          </a:xfrm>
        </p:grpSpPr>
        <p:pic>
          <p:nvPicPr>
            <p:cNvPr id="1207" name="Picture 4" descr=""/>
            <p:cNvPicPr/>
            <p:nvPr/>
          </p:nvPicPr>
          <p:blipFill>
            <a:blip r:embed="rId3"/>
            <a:stretch/>
          </p:blipFill>
          <p:spPr>
            <a:xfrm>
              <a:off x="-39600" y="27000"/>
              <a:ext cx="9128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Прямоугольник 8"/>
            <p:cNvSpPr/>
            <p:nvPr/>
          </p:nvSpPr>
          <p:spPr>
            <a:xfrm>
              <a:off x="195120" y="287280"/>
              <a:ext cx="352908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2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125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5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6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6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26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26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6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6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6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26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2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C9C4-708F-4F2F-9B21-E1CD919BC7F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E95-D5E6-4163-860F-929F764930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E2B3-0EC0-489A-8F5D-20AC269E89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7B4A-AB88-4B00-A979-4A020DF644F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3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24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4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4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4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4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4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4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4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24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5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5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5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5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5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5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5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</p:grpSp>
      <p:grpSp>
        <p:nvGrpSpPr>
          <p:cNvPr id="25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0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261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26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263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26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65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66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67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68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69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70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71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  <p:sp>
          <p:nvSpPr>
            <p:cNvPr id="27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2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1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8346-9FCC-4AC6-8D0F-404E8FFD818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6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6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0057-D19E-4D4D-9E24-C3A834EA5AC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8E5-145F-4CB8-893A-A8D7A50A95E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7875-ADB5-49C2-8431-CA8AEC0611B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posternazakaz.ru/shop/makeframe/37619/406/82/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hyperlink" Target="http://www.posternazakaz.ru/shop/makeframe/37613/403/82/" TargetMode="External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0" y="115560"/>
            <a:ext cx="45720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Как-то рано поутр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С другом сели мы в метру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И поехали в метр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Фильм смотреть о кенгур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Вот сидим мы с ним в кин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Без пальта и без кашне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А вернее - я и т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Без кашна и без пальты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2" name="Прямоугольник 5"/>
          <p:cNvSpPr/>
          <p:nvPr/>
        </p:nvSpPr>
        <p:spPr>
          <a:xfrm>
            <a:off x="4572000" y="1268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Любит кины детво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Если в кинах кенг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Ходит-бродит по шосс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Носит в сумке шимпанз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Кенгуру в кафу заше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Занял там свободный сто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И сидит за доми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С шимпанзой и какад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Вдруг огромный обезья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Стал играть на фортепьян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Тут и взрослый, сняв пенсню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Хохотал на всю кин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3" name="Picture 2" descr=""/>
          <p:cNvPicPr/>
          <p:nvPr/>
        </p:nvPicPr>
        <p:blipFill>
          <a:blip r:embed="rId1"/>
          <a:stretch/>
        </p:blipFill>
        <p:spPr>
          <a:xfrm>
            <a:off x="324000" y="4665600"/>
            <a:ext cx="21920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 txBox="1"/>
          <p:nvPr/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аку — столица и крупнейший город Азербайджана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3" name="Picture 6" descr="stariy_gorod08"/>
          <p:cNvPicPr/>
          <p:nvPr/>
        </p:nvPicPr>
        <p:blipFill>
          <a:blip r:embed="rId1"/>
          <a:stretch/>
        </p:blipFill>
        <p:spPr>
          <a:xfrm>
            <a:off x="423720" y="1628640"/>
            <a:ext cx="3384720" cy="295596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8" descr="pic_2005621_19mn58s21mls262"/>
          <p:cNvPicPr/>
          <p:nvPr/>
        </p:nvPicPr>
        <p:blipFill>
          <a:blip r:embed="rId2"/>
          <a:stretch/>
        </p:blipFill>
        <p:spPr>
          <a:xfrm>
            <a:off x="5262480" y="1550880"/>
            <a:ext cx="3333960" cy="2505240"/>
          </a:xfrm>
          <a:prstGeom prst="rect">
            <a:avLst/>
          </a:prstGeom>
          <a:ln w="0">
            <a:noFill/>
          </a:ln>
        </p:spPr>
      </p:pic>
      <p:sp>
        <p:nvSpPr>
          <p:cNvPr id="1415" name="Rectangle 9"/>
          <p:cNvSpPr/>
          <p:nvPr/>
        </p:nvSpPr>
        <p:spPr>
          <a:xfrm>
            <a:off x="5580000" y="434808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ло – столица Норвеги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6" name="Picture 11" descr="300px-Tuapse-2"/>
          <p:cNvPicPr/>
          <p:nvPr/>
        </p:nvPicPr>
        <p:blipFill>
          <a:blip r:embed="rId3"/>
          <a:stretch/>
        </p:blipFill>
        <p:spPr>
          <a:xfrm>
            <a:off x="1206360" y="4541760"/>
            <a:ext cx="2857680" cy="226692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12"/>
          <p:cNvSpPr/>
          <p:nvPr/>
        </p:nvSpPr>
        <p:spPr>
          <a:xfrm>
            <a:off x="4064040" y="5816520"/>
            <a:ext cx="41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уапсе - город в Краснодарском крае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Я люблю читать книги Марка Твена, Стефана Цвейга, Джека Лондона, Жюля Верна, а особенно рассказы Конан Дойля о Шерлоке Холмс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0" name="Picture 6" descr="фото ЦВЕЙГ Стефан"/>
          <p:cNvPicPr/>
          <p:nvPr/>
        </p:nvPicPr>
        <p:blipFill>
          <a:blip r:embed="rId1"/>
          <a:stretch/>
        </p:blipFill>
        <p:spPr>
          <a:xfrm>
            <a:off x="2916360" y="4076640"/>
            <a:ext cx="1571400" cy="2016360"/>
          </a:xfrm>
          <a:prstGeom prst="rect">
            <a:avLst/>
          </a:prstGeom>
          <a:ln w="0">
            <a:noFill/>
          </a:ln>
        </p:spPr>
      </p:pic>
      <p:sp>
        <p:nvSpPr>
          <p:cNvPr id="1421" name="AutoShape 8"/>
          <p:cNvSpPr/>
          <p:nvPr/>
        </p:nvSpPr>
        <p:spPr>
          <a:xfrm>
            <a:off x="81000" y="-27000"/>
            <a:ext cx="685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2" name="AutoShape 10"/>
          <p:cNvSpPr/>
          <p:nvPr/>
        </p:nvSpPr>
        <p:spPr>
          <a:xfrm>
            <a:off x="81000" y="-27000"/>
            <a:ext cx="685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3" name="AutoShape 12"/>
          <p:cNvSpPr/>
          <p:nvPr/>
        </p:nvSpPr>
        <p:spPr>
          <a:xfrm>
            <a:off x="81000" y="-27000"/>
            <a:ext cx="619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4" name="AutoShape 14"/>
          <p:cNvSpPr/>
          <p:nvPr/>
        </p:nvSpPr>
        <p:spPr>
          <a:xfrm>
            <a:off x="81000" y="-27000"/>
            <a:ext cx="619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5" name="Picture 18" descr="QG001507. Фото Жюль Верн, постер Жюль Верн, постеры Жюль Верн, плакат Жюль Вер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4005360"/>
            <a:ext cx="1295280" cy="20160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20" descr="Артур Конан Дойл (фото)"/>
          <p:cNvPicPr/>
          <p:nvPr/>
        </p:nvPicPr>
        <p:blipFill>
          <a:blip r:embed="rId4"/>
          <a:stretch/>
        </p:blipFill>
        <p:spPr>
          <a:xfrm>
            <a:off x="7380360" y="4076640"/>
            <a:ext cx="1298520" cy="179064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22" descr="BE041446. Фото Джек Лондон, постер Джек Лондон, постеры Джек Лондон, плакат Джек Лондон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4076640"/>
            <a:ext cx="1439640" cy="194472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24" descr="i2"/>
          <p:cNvPicPr/>
          <p:nvPr/>
        </p:nvPicPr>
        <p:blipFill>
          <a:blip r:embed="rId7"/>
          <a:stretch/>
        </p:blipFill>
        <p:spPr>
          <a:xfrm>
            <a:off x="468360" y="4005360"/>
            <a:ext cx="23032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4"/>
          <p:cNvSpPr/>
          <p:nvPr/>
        </p:nvSpPr>
        <p:spPr>
          <a:xfrm>
            <a:off x="304920" y="541008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533520" y="2362320"/>
          <a:ext cx="7619760" cy="77940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7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лоняемы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есклоняемы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1" name="Rectangle 69"/>
          <p:cNvSpPr/>
          <p:nvPr/>
        </p:nvSpPr>
        <p:spPr>
          <a:xfrm>
            <a:off x="1828800" y="4038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окно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2" name="Rectangle 70"/>
          <p:cNvSpPr/>
          <p:nvPr/>
        </p:nvSpPr>
        <p:spPr>
          <a:xfrm>
            <a:off x="1523880" y="4572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3" name="Rectangle 71"/>
          <p:cNvSpPr/>
          <p:nvPr/>
        </p:nvSpPr>
        <p:spPr>
          <a:xfrm>
            <a:off x="1905120" y="5029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сено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4" name="Rectangle 180"/>
          <p:cNvSpPr/>
          <p:nvPr/>
        </p:nvSpPr>
        <p:spPr>
          <a:xfrm>
            <a:off x="2590920" y="4114800"/>
            <a:ext cx="304560" cy="380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5" name="Rectangle 234"/>
          <p:cNvSpPr/>
          <p:nvPr/>
        </p:nvSpPr>
        <p:spPr>
          <a:xfrm>
            <a:off x="2819520" y="4648320"/>
            <a:ext cx="304560" cy="380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Rectangle 235"/>
          <p:cNvSpPr/>
          <p:nvPr/>
        </p:nvSpPr>
        <p:spPr>
          <a:xfrm>
            <a:off x="2666880" y="5105520"/>
            <a:ext cx="304920" cy="380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7" name="AutoShape 236"/>
          <p:cNvSpPr/>
          <p:nvPr/>
        </p:nvSpPr>
        <p:spPr>
          <a:xfrm rot="16200000">
            <a:off x="2097720" y="3768840"/>
            <a:ext cx="228600" cy="766800"/>
          </a:xfrm>
          <a:custGeom>
            <a:avLst/>
            <a:gdLst>
              <a:gd name="textAreaLeft" fmla="*/ 0 w 228600"/>
              <a:gd name="textAreaRight" fmla="*/ 160560 w 228600"/>
              <a:gd name="textAreaTop" fmla="*/ 191520 h 766800"/>
              <a:gd name="textAreaBottom" fmla="*/ 575280 h 7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8" name="AutoShape 238"/>
          <p:cNvSpPr/>
          <p:nvPr/>
        </p:nvSpPr>
        <p:spPr>
          <a:xfrm rot="16200000">
            <a:off x="2212200" y="4797720"/>
            <a:ext cx="228600" cy="690840"/>
          </a:xfrm>
          <a:custGeom>
            <a:avLst/>
            <a:gdLst>
              <a:gd name="textAreaLeft" fmla="*/ 0 w 228600"/>
              <a:gd name="textAreaRight" fmla="*/ 160560 w 228600"/>
              <a:gd name="textAreaTop" fmla="*/ 172800 h 690840"/>
              <a:gd name="textAreaBottom" fmla="*/ 5184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9" name="AutoShape 239"/>
          <p:cNvSpPr/>
          <p:nvPr/>
        </p:nvSpPr>
        <p:spPr>
          <a:xfrm rot="16200000">
            <a:off x="2135880" y="4035600"/>
            <a:ext cx="228600" cy="1147680"/>
          </a:xfrm>
          <a:custGeom>
            <a:avLst/>
            <a:gdLst>
              <a:gd name="textAreaLeft" fmla="*/ 0 w 228600"/>
              <a:gd name="textAreaRight" fmla="*/ 160560 w 228600"/>
              <a:gd name="textAreaTop" fmla="*/ 286920 h 1147680"/>
              <a:gd name="textAreaBottom" fmla="*/ 860760 h 11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0" name="Rectangle 240"/>
          <p:cNvSpPr/>
          <p:nvPr/>
        </p:nvSpPr>
        <p:spPr>
          <a:xfrm>
            <a:off x="5410080" y="4038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ино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1" name="Rectangle 241"/>
          <p:cNvSpPr/>
          <p:nvPr/>
        </p:nvSpPr>
        <p:spPr>
          <a:xfrm>
            <a:off x="5029200" y="44956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ианино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2" name="Rectangle 242"/>
          <p:cNvSpPr/>
          <p:nvPr/>
        </p:nvSpPr>
        <p:spPr>
          <a:xfrm>
            <a:off x="5257800" y="4952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ао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3" name="AutoShape 243"/>
          <p:cNvSpPr/>
          <p:nvPr/>
        </p:nvSpPr>
        <p:spPr>
          <a:xfrm rot="16200000">
            <a:off x="5829120" y="3695040"/>
            <a:ext cx="228600" cy="914400"/>
          </a:xfrm>
          <a:custGeom>
            <a:avLst/>
            <a:gdLst>
              <a:gd name="textAreaLeft" fmla="*/ 0 w 228600"/>
              <a:gd name="textAreaRight" fmla="*/ 160560 w 228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4" name="AutoShape 244"/>
          <p:cNvSpPr/>
          <p:nvPr/>
        </p:nvSpPr>
        <p:spPr>
          <a:xfrm rot="16200000">
            <a:off x="5829120" y="3771360"/>
            <a:ext cx="228600" cy="1676160"/>
          </a:xfrm>
          <a:custGeom>
            <a:avLst/>
            <a:gdLst>
              <a:gd name="textAreaLeft" fmla="*/ 0 w 228600"/>
              <a:gd name="textAreaRight" fmla="*/ 160560 w 228600"/>
              <a:gd name="textAreaTop" fmla="*/ 419040 h 1676160"/>
              <a:gd name="textAreaBottom" fmla="*/ 12571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5" name="AutoShape 245"/>
          <p:cNvSpPr/>
          <p:nvPr/>
        </p:nvSpPr>
        <p:spPr>
          <a:xfrm rot="16200000">
            <a:off x="5753160" y="4533480"/>
            <a:ext cx="228600" cy="1066680"/>
          </a:xfrm>
          <a:custGeom>
            <a:avLst/>
            <a:gdLst>
              <a:gd name="textAreaLeft" fmla="*/ 0 w 228600"/>
              <a:gd name="textAreaRight" fmla="*/ 160560 w 2286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6" name="Rectangle 246"/>
          <p:cNvSpPr/>
          <p:nvPr/>
        </p:nvSpPr>
        <p:spPr>
          <a:xfrm>
            <a:off x="380880" y="5638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но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7" name="Rectangle 247"/>
          <p:cNvSpPr/>
          <p:nvPr/>
        </p:nvSpPr>
        <p:spPr>
          <a:xfrm>
            <a:off x="1525680" y="563868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но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8" name="Rectangle 249"/>
          <p:cNvSpPr/>
          <p:nvPr/>
        </p:nvSpPr>
        <p:spPr>
          <a:xfrm>
            <a:off x="2516760" y="563868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анино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9" name="Rectangle 250"/>
          <p:cNvSpPr/>
          <p:nvPr/>
        </p:nvSpPr>
        <p:spPr>
          <a:xfrm>
            <a:off x="4192560" y="56386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о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0" name="Rectangle 251"/>
          <p:cNvSpPr/>
          <p:nvPr/>
        </p:nvSpPr>
        <p:spPr>
          <a:xfrm>
            <a:off x="5337360" y="563868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око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1" name="Rectangle 252"/>
          <p:cNvSpPr/>
          <p:nvPr/>
        </p:nvSpPr>
        <p:spPr>
          <a:xfrm>
            <a:off x="6859800" y="563868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заимопровер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6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Тест.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318960" y="836640"/>
            <a:ext cx="850608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1.Выберите несклоняемые существительны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) меню;       Б) село;         В) Баку;       Г) Жюль Вер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2.В каком слове нет и не может быть оконч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) поле           Б) горе        В) кафе          Г) ребр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nstantia"/>
              </a:rPr>
              <a:t>3. В каком предложении допущена ошиб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) Дети с удовольствием читают романы Вальтера Скот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) Друзья ждали Машу Гореленко в фой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) «Зенит» сыграл вничью с «Динамо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Тест.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25092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onstantia"/>
              </a:rPr>
              <a:t>1. А, В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onstantia"/>
              </a:rPr>
              <a:t>2. В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onstantia"/>
              </a:rPr>
              <a:t>3. В.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2060"/>
                </a:solidFill>
                <a:latin typeface="Constantia"/>
              </a:rPr>
              <a:t>Один ответ- 3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onstantia"/>
              </a:rPr>
              <a:t>Два ответа – 4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onstantia"/>
              </a:rPr>
              <a:t>Три ответа - 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5c8fe9"/>
                </a:solidFill>
                <a:latin typeface="Calibri"/>
              </a:rPr>
              <a:t>Найдите оконч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 Живописн…  Бали – прекрасное место для отдыха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В 160 километрах от устья Лимпопо становится судоходн… 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Альпинисты с трудом преодолевают вершины труднодоступн…  Килиманджаро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Сурикаты обитают в знойн…  и выжженн…  солнцем Калахар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 Многомиллионн…  Токио – столица Япон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460" name=""/>
          <p:cNvGraphicFramePr/>
          <p:nvPr/>
        </p:nvGraphicFramePr>
        <p:xfrm>
          <a:off x="324000" y="428760"/>
          <a:ext cx="8034120" cy="5879880"/>
        </p:xfrm>
        <a:graphic>
          <a:graphicData uri="http://schemas.openxmlformats.org/drawingml/2006/table">
            <a:tbl>
              <a:tblPr/>
              <a:tblGrid>
                <a:gridCol w="3679560"/>
                <a:gridCol w="4354560"/>
              </a:tblGrid>
              <a:tr h="5879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ыло интересно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ыло трудно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1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2" name="Line 18"/>
          <p:cNvSpPr/>
          <p:nvPr/>
        </p:nvSpPr>
        <p:spPr>
          <a:xfrm flipV="1">
            <a:off x="3214800" y="2000160"/>
            <a:ext cx="785880" cy="8575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3" name="Line 19"/>
          <p:cNvSpPr/>
          <p:nvPr/>
        </p:nvSpPr>
        <p:spPr>
          <a:xfrm>
            <a:off x="3143160" y="3071880"/>
            <a:ext cx="785880" cy="1071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4" name="Line 20"/>
          <p:cNvSpPr/>
          <p:nvPr/>
        </p:nvSpPr>
        <p:spPr>
          <a:xfrm>
            <a:off x="3286080" y="292896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Домашнее зад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Найти в словаре 5 несклоняемых имён существительных, записать значения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Составить 5 предложений с несклоняемыми существительным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Упр 26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 txBox="1"/>
          <p:nvPr/>
        </p:nvSpPr>
        <p:spPr>
          <a:xfrm>
            <a:off x="0" y="620640"/>
            <a:ext cx="4788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Интересное кино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Жаль, что кончилась оно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В гардероб пора бежать -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Будут польта выдавать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15" name="Picture 2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160720" cy="86364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3" descr=""/>
          <p:cNvPicPr/>
          <p:nvPr/>
        </p:nvPicPr>
        <p:blipFill>
          <a:blip r:embed="rId2"/>
          <a:stretch/>
        </p:blipFill>
        <p:spPr>
          <a:xfrm>
            <a:off x="755640" y="3076560"/>
            <a:ext cx="1943280" cy="194472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4" descr=""/>
          <p:cNvPicPr/>
          <p:nvPr/>
        </p:nvPicPr>
        <p:blipFill>
          <a:blip r:embed="rId3"/>
          <a:stretch/>
        </p:blipFill>
        <p:spPr>
          <a:xfrm>
            <a:off x="3635280" y="4638600"/>
            <a:ext cx="1968480" cy="180036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5" descr=""/>
          <p:cNvPicPr/>
          <p:nvPr/>
        </p:nvPicPr>
        <p:blipFill>
          <a:blip r:embed="rId4"/>
          <a:stretch/>
        </p:blipFill>
        <p:spPr>
          <a:xfrm>
            <a:off x="6335640" y="1171440"/>
            <a:ext cx="1727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1"/>
          <p:cNvGrpSpPr/>
          <p:nvPr/>
        </p:nvGrpSpPr>
        <p:grpSpPr>
          <a:xfrm>
            <a:off x="304920" y="457200"/>
            <a:ext cx="5180040" cy="912960"/>
            <a:chOff x="304920" y="457200"/>
            <a:chExt cx="5180040" cy="912960"/>
          </a:xfrm>
        </p:grpSpPr>
        <p:sp>
          <p:nvSpPr>
            <p:cNvPr id="1320" name="Oval 2"/>
            <p:cNvSpPr/>
            <p:nvPr/>
          </p:nvSpPr>
          <p:spPr>
            <a:xfrm>
              <a:off x="304920" y="457200"/>
              <a:ext cx="5027400" cy="912960"/>
            </a:xfrm>
            <a:prstGeom prst="ellipse">
              <a:avLst/>
            </a:prstGeom>
            <a:solidFill>
              <a:srgbClr val="e0fa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1" name="Text Box 3"/>
            <p:cNvSpPr/>
            <p:nvPr/>
          </p:nvSpPr>
          <p:spPr>
            <a:xfrm>
              <a:off x="457200" y="685800"/>
              <a:ext cx="50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990033"/>
                  </a:solidFill>
                  <a:uFillTx/>
                  <a:latin typeface="Arial"/>
                </a:rPr>
                <a:t>Кашн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шейный платок или шарф.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5562720" y="152280"/>
            <a:ext cx="1298520" cy="22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23" name="Picture 5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268280" cy="215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324" name="Group 6"/>
          <p:cNvGrpSpPr/>
          <p:nvPr/>
        </p:nvGrpSpPr>
        <p:grpSpPr>
          <a:xfrm>
            <a:off x="3352680" y="2666880"/>
            <a:ext cx="4875480" cy="1446480"/>
            <a:chOff x="3352680" y="2666880"/>
            <a:chExt cx="4875480" cy="1446480"/>
          </a:xfrm>
        </p:grpSpPr>
        <p:sp>
          <p:nvSpPr>
            <p:cNvPr id="1325" name="AutoShape 7"/>
            <p:cNvSpPr/>
            <p:nvPr/>
          </p:nvSpPr>
          <p:spPr>
            <a:xfrm>
              <a:off x="3352680" y="2666880"/>
              <a:ext cx="4799160" cy="1446480"/>
            </a:xfrm>
            <a:prstGeom prst="roundRect">
              <a:avLst>
                <a:gd name="adj" fmla="val 16667"/>
              </a:avLst>
            </a:prstGeom>
            <a:solidFill>
              <a:srgbClr val="fff6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6" name="Text Box 8"/>
            <p:cNvSpPr/>
            <p:nvPr/>
          </p:nvSpPr>
          <p:spPr>
            <a:xfrm>
              <a:off x="3429000" y="2895480"/>
              <a:ext cx="479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Манто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широкое дамское пальто, обычно меховое.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327" name="Picture 9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2057400" cy="289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328" name="Group 10"/>
          <p:cNvGrpSpPr/>
          <p:nvPr/>
        </p:nvGrpSpPr>
        <p:grpSpPr>
          <a:xfrm>
            <a:off x="152280" y="4876920"/>
            <a:ext cx="5942160" cy="1598400"/>
            <a:chOff x="152280" y="4876920"/>
            <a:chExt cx="5942160" cy="1598400"/>
          </a:xfrm>
        </p:grpSpPr>
        <p:sp>
          <p:nvSpPr>
            <p:cNvPr id="1329" name="AutoShape 11"/>
            <p:cNvSpPr/>
            <p:nvPr/>
          </p:nvSpPr>
          <p:spPr>
            <a:xfrm>
              <a:off x="152280" y="4876920"/>
              <a:ext cx="5942160" cy="1598400"/>
            </a:xfrm>
            <a:prstGeom prst="bevel">
              <a:avLst>
                <a:gd name="adj" fmla="val 12500"/>
              </a:avLst>
            </a:prstGeom>
            <a:solidFill>
              <a:srgbClr val="ff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30" name="Text Box 12"/>
            <p:cNvSpPr/>
            <p:nvPr/>
          </p:nvSpPr>
          <p:spPr>
            <a:xfrm>
              <a:off x="457200" y="5105520"/>
              <a:ext cx="563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990033"/>
                  </a:solidFill>
                  <a:uFillTx/>
                  <a:latin typeface="Arial"/>
                </a:rPr>
                <a:t>Фой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омещение в театре, кино и других общественных местах для пребывания зрителей, посетителей перед началом спектакля, фильма, концерта и др.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1331" name="Picture 13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248520" y="4221000"/>
            <a:ext cx="289548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З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4" name="AutoShape 12"/>
          <p:cNvSpPr/>
          <p:nvPr/>
        </p:nvSpPr>
        <p:spPr>
          <a:xfrm>
            <a:off x="81000" y="-27000"/>
            <a:ext cx="1219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5" name="AutoShape 14"/>
          <p:cNvSpPr/>
          <p:nvPr/>
        </p:nvSpPr>
        <p:spPr>
          <a:xfrm>
            <a:off x="81000" y="-27000"/>
            <a:ext cx="1219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AutoShape 16"/>
          <p:cNvSpPr/>
          <p:nvPr/>
        </p:nvSpPr>
        <p:spPr>
          <a:xfrm>
            <a:off x="81000" y="-27000"/>
            <a:ext cx="1219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7" name="AutoShape 18"/>
          <p:cNvSpPr/>
          <p:nvPr/>
        </p:nvSpPr>
        <p:spPr>
          <a:xfrm>
            <a:off x="81000" y="-27000"/>
            <a:ext cx="1219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8" name="AutoShape 20"/>
          <p:cNvSpPr/>
          <p:nvPr/>
        </p:nvSpPr>
        <p:spPr>
          <a:xfrm>
            <a:off x="81000" y="-27000"/>
            <a:ext cx="1219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9" name="AutoShape 25"/>
          <p:cNvSpPr/>
          <p:nvPr/>
        </p:nvSpPr>
        <p:spPr>
          <a:xfrm>
            <a:off x="81000" y="-27000"/>
            <a:ext cx="9619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0" name="AutoShape 27"/>
          <p:cNvSpPr/>
          <p:nvPr/>
        </p:nvSpPr>
        <p:spPr>
          <a:xfrm>
            <a:off x="81000" y="-27000"/>
            <a:ext cx="9619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1" name="AutoShape 31"/>
          <p:cNvSpPr/>
          <p:nvPr/>
        </p:nvSpPr>
        <p:spPr>
          <a:xfrm>
            <a:off x="81000" y="-27000"/>
            <a:ext cx="9619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2" name="AutoShape 35"/>
          <p:cNvSpPr/>
          <p:nvPr/>
        </p:nvSpPr>
        <p:spPr>
          <a:xfrm>
            <a:off x="81000" y="-27000"/>
            <a:ext cx="9619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3" name="AutoShape 37"/>
          <p:cNvSpPr/>
          <p:nvPr/>
        </p:nvSpPr>
        <p:spPr>
          <a:xfrm>
            <a:off x="81000" y="-27000"/>
            <a:ext cx="9619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4" name="AutoShape 45"/>
          <p:cNvSpPr/>
          <p:nvPr/>
        </p:nvSpPr>
        <p:spPr>
          <a:xfrm>
            <a:off x="81000" y="-27000"/>
            <a:ext cx="9810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5" name="Picture 48" descr="kakadu"/>
          <p:cNvPicPr/>
          <p:nvPr/>
        </p:nvPicPr>
        <p:blipFill>
          <a:blip r:embed="rId1"/>
          <a:stretch/>
        </p:blipFill>
        <p:spPr>
          <a:xfrm>
            <a:off x="469800" y="1246320"/>
            <a:ext cx="1944720" cy="208728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50" descr="5122852"/>
          <p:cNvPicPr/>
          <p:nvPr/>
        </p:nvPicPr>
        <p:blipFill>
          <a:blip r:embed="rId2"/>
          <a:stretch/>
        </p:blipFill>
        <p:spPr>
          <a:xfrm>
            <a:off x="2678040" y="1236600"/>
            <a:ext cx="2664000" cy="208620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52" descr="k-guru"/>
          <p:cNvPicPr/>
          <p:nvPr/>
        </p:nvPicPr>
        <p:blipFill>
          <a:blip r:embed="rId3"/>
          <a:stretch/>
        </p:blipFill>
        <p:spPr>
          <a:xfrm>
            <a:off x="5796000" y="836640"/>
            <a:ext cx="2886120" cy="254304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54" descr="horse-03"/>
          <p:cNvPicPr/>
          <p:nvPr/>
        </p:nvPicPr>
        <p:blipFill>
          <a:blip r:embed="rId4"/>
          <a:stretch/>
        </p:blipFill>
        <p:spPr>
          <a:xfrm>
            <a:off x="395280" y="3500280"/>
            <a:ext cx="4762440" cy="260064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58" descr="chimpanzee-picture"/>
          <p:cNvPicPr/>
          <p:nvPr/>
        </p:nvPicPr>
        <p:blipFill>
          <a:blip r:embed="rId5"/>
          <a:stretch/>
        </p:blipFill>
        <p:spPr>
          <a:xfrm>
            <a:off x="4572000" y="306864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973240" cy="281448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5" descr=""/>
          <p:cNvPicPr/>
          <p:nvPr/>
        </p:nvPicPr>
        <p:blipFill>
          <a:blip r:embed="rId3"/>
          <a:stretch/>
        </p:blipFill>
        <p:spPr>
          <a:xfrm>
            <a:off x="7072200" y="0"/>
            <a:ext cx="2071800" cy="233532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6" descr=""/>
          <p:cNvPicPr/>
          <p:nvPr/>
        </p:nvPicPr>
        <p:blipFill>
          <a:blip r:embed="rId4"/>
          <a:stretch/>
        </p:blipFill>
        <p:spPr>
          <a:xfrm>
            <a:off x="5905440" y="44290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7" descr=""/>
          <p:cNvPicPr/>
          <p:nvPr/>
        </p:nvPicPr>
        <p:blipFill>
          <a:blip r:embed="rId5"/>
          <a:stretch/>
        </p:blipFill>
        <p:spPr>
          <a:xfrm>
            <a:off x="0" y="2857680"/>
            <a:ext cx="3100320" cy="400032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2" descr=""/>
          <p:cNvPicPr/>
          <p:nvPr/>
        </p:nvPicPr>
        <p:blipFill>
          <a:blip r:embed="rId6"/>
          <a:stretch/>
        </p:blipFill>
        <p:spPr>
          <a:xfrm>
            <a:off x="7000920" y="2214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лонение существите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428760" y="1500120"/>
          <a:ext cx="8229600" cy="310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менитель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ь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енгур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в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енгур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е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в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енгур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ите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в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енгур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ите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в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енгур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льв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енгур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360" name="Блок-схема: процесс 5"/>
          <p:cNvSpPr/>
          <p:nvPr/>
        </p:nvSpPr>
        <p:spPr>
          <a:xfrm>
            <a:off x="4714920" y="1643040"/>
            <a:ext cx="357120" cy="285840"/>
          </a:xfrm>
          <a:prstGeom prst="flowChart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1" name="Блок-схема: процесс 6"/>
          <p:cNvSpPr/>
          <p:nvPr/>
        </p:nvSpPr>
        <p:spPr>
          <a:xfrm>
            <a:off x="4643280" y="2143080"/>
            <a:ext cx="357480" cy="285840"/>
          </a:xfrm>
          <a:prstGeom prst="flowChart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2" name="Блок-схема: процесс 7"/>
          <p:cNvSpPr/>
          <p:nvPr/>
        </p:nvSpPr>
        <p:spPr>
          <a:xfrm>
            <a:off x="4572000" y="2643120"/>
            <a:ext cx="428760" cy="285840"/>
          </a:xfrm>
          <a:prstGeom prst="flowChart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3" name="Дуга 8"/>
          <p:cNvSpPr/>
          <p:nvPr/>
        </p:nvSpPr>
        <p:spPr>
          <a:xfrm rot="19161600">
            <a:off x="6294240" y="1404720"/>
            <a:ext cx="2014200" cy="2084400"/>
          </a:xfrm>
          <a:custGeom>
            <a:avLst/>
            <a:gdLst/>
            <a:ahLst/>
            <a:rect l="l" t="t" r="r" b="b"/>
            <a:pathLst>
              <a:path stroke="0" w="2014537" h="2084387">
                <a:moveTo>
                  <a:pt x="1041841" y="614"/>
                </a:moveTo>
                <a:cubicBezTo>
                  <a:pt x="1520284" y="17615"/>
                  <a:pt x="1921063" y="380693"/>
                  <a:pt x="2000554" y="869140"/>
                </a:cubicBezTo>
                <a:lnTo>
                  <a:pt x="1007269" y="1042194"/>
                </a:lnTo>
                <a:lnTo>
                  <a:pt x="1041841" y="614"/>
                </a:lnTo>
                <a:close/>
              </a:path>
              <a:path fill="none" w="2014537" h="2084387">
                <a:moveTo>
                  <a:pt x="1041841" y="614"/>
                </a:moveTo>
                <a:cubicBezTo>
                  <a:pt x="1520284" y="17615"/>
                  <a:pt x="1921063" y="380693"/>
                  <a:pt x="2000554" y="8691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4" name="Дуга 9"/>
          <p:cNvSpPr/>
          <p:nvPr/>
        </p:nvSpPr>
        <p:spPr>
          <a:xfrm rot="19161600">
            <a:off x="6294240" y="1976040"/>
            <a:ext cx="2014200" cy="2084400"/>
          </a:xfrm>
          <a:custGeom>
            <a:avLst/>
            <a:gdLst/>
            <a:ahLst/>
            <a:rect l="l" t="t" r="r" b="b"/>
            <a:pathLst>
              <a:path stroke="0" w="2014537" h="2084387">
                <a:moveTo>
                  <a:pt x="1041841" y="614"/>
                </a:moveTo>
                <a:cubicBezTo>
                  <a:pt x="1520284" y="17615"/>
                  <a:pt x="1921063" y="380693"/>
                  <a:pt x="2000554" y="869140"/>
                </a:cubicBezTo>
                <a:lnTo>
                  <a:pt x="1007269" y="1042194"/>
                </a:lnTo>
                <a:lnTo>
                  <a:pt x="1041841" y="614"/>
                </a:lnTo>
                <a:close/>
              </a:path>
              <a:path fill="none" w="2014537" h="2084387">
                <a:moveTo>
                  <a:pt x="1041841" y="614"/>
                </a:moveTo>
                <a:cubicBezTo>
                  <a:pt x="1520284" y="17615"/>
                  <a:pt x="1921063" y="380693"/>
                  <a:pt x="2000554" y="8691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Дуга 10"/>
          <p:cNvSpPr/>
          <p:nvPr/>
        </p:nvSpPr>
        <p:spPr>
          <a:xfrm rot="19161600">
            <a:off x="6292800" y="2473200"/>
            <a:ext cx="2022480" cy="2084400"/>
          </a:xfrm>
          <a:custGeom>
            <a:avLst/>
            <a:gdLst/>
            <a:ahLst/>
            <a:rect l="l" t="t" r="r" b="b"/>
            <a:pathLst>
              <a:path stroke="0" w="2022475" h="2084388">
                <a:moveTo>
                  <a:pt x="1045810" y="609"/>
                </a:moveTo>
                <a:cubicBezTo>
                  <a:pt x="1525946" y="17537"/>
                  <a:pt x="1928250" y="380280"/>
                  <a:pt x="2008328" y="868477"/>
                </a:cubicBezTo>
                <a:lnTo>
                  <a:pt x="1011238" y="1042194"/>
                </a:lnTo>
                <a:lnTo>
                  <a:pt x="1045810" y="609"/>
                </a:lnTo>
                <a:close/>
              </a:path>
              <a:path fill="none" w="2022475" h="2084388">
                <a:moveTo>
                  <a:pt x="1045810" y="609"/>
                </a:moveTo>
                <a:cubicBezTo>
                  <a:pt x="1525946" y="17537"/>
                  <a:pt x="1928250" y="380280"/>
                  <a:pt x="2008328" y="8684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6" name="Дуга 11"/>
          <p:cNvSpPr/>
          <p:nvPr/>
        </p:nvSpPr>
        <p:spPr>
          <a:xfrm rot="19161600">
            <a:off x="6367320" y="3539880"/>
            <a:ext cx="1992600" cy="2084400"/>
          </a:xfrm>
          <a:custGeom>
            <a:avLst/>
            <a:gdLst/>
            <a:ahLst/>
            <a:rect l="l" t="t" r="r" b="b"/>
            <a:pathLst>
              <a:path stroke="0" w="1992312" h="2084388">
                <a:moveTo>
                  <a:pt x="1030728" y="628"/>
                </a:moveTo>
                <a:cubicBezTo>
                  <a:pt x="1504419" y="17838"/>
                  <a:pt x="1900922" y="381853"/>
                  <a:pt x="1978780" y="870998"/>
                </a:cubicBezTo>
                <a:lnTo>
                  <a:pt x="996156" y="1042194"/>
                </a:lnTo>
                <a:lnTo>
                  <a:pt x="1030728" y="628"/>
                </a:lnTo>
                <a:close/>
              </a:path>
              <a:path fill="none" w="1992312" h="2084388">
                <a:moveTo>
                  <a:pt x="1030728" y="628"/>
                </a:moveTo>
                <a:cubicBezTo>
                  <a:pt x="1504419" y="17838"/>
                  <a:pt x="1900922" y="381853"/>
                  <a:pt x="1978780" y="8709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7" name="Дуга 12"/>
          <p:cNvSpPr/>
          <p:nvPr/>
        </p:nvSpPr>
        <p:spPr>
          <a:xfrm rot="19161600">
            <a:off x="6292800" y="2979720"/>
            <a:ext cx="2022480" cy="2084400"/>
          </a:xfrm>
          <a:custGeom>
            <a:avLst/>
            <a:gdLst/>
            <a:ahLst/>
            <a:rect l="l" t="t" r="r" b="b"/>
            <a:pathLst>
              <a:path stroke="0" w="2022475" h="2084387">
                <a:moveTo>
                  <a:pt x="1045810" y="609"/>
                </a:moveTo>
                <a:cubicBezTo>
                  <a:pt x="1525946" y="17537"/>
                  <a:pt x="1928250" y="380280"/>
                  <a:pt x="2008328" y="868477"/>
                </a:cubicBezTo>
                <a:lnTo>
                  <a:pt x="1011238" y="1042194"/>
                </a:lnTo>
                <a:lnTo>
                  <a:pt x="1045810" y="609"/>
                </a:lnTo>
                <a:close/>
              </a:path>
              <a:path fill="none" w="2022475" h="2084387">
                <a:moveTo>
                  <a:pt x="1045810" y="609"/>
                </a:moveTo>
                <a:cubicBezTo>
                  <a:pt x="1525946" y="17537"/>
                  <a:pt x="1928250" y="380280"/>
                  <a:pt x="2008328" y="8684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8" name="Дуга 13"/>
          <p:cNvSpPr/>
          <p:nvPr/>
        </p:nvSpPr>
        <p:spPr>
          <a:xfrm rot="19161600">
            <a:off x="6367320" y="4039920"/>
            <a:ext cx="1992600" cy="2084400"/>
          </a:xfrm>
          <a:custGeom>
            <a:avLst/>
            <a:gdLst/>
            <a:ahLst/>
            <a:rect l="l" t="t" r="r" b="b"/>
            <a:pathLst>
              <a:path stroke="0" w="1992312" h="2084387">
                <a:moveTo>
                  <a:pt x="1030728" y="628"/>
                </a:moveTo>
                <a:cubicBezTo>
                  <a:pt x="1504419" y="17838"/>
                  <a:pt x="1900922" y="381853"/>
                  <a:pt x="1978780" y="870998"/>
                </a:cubicBezTo>
                <a:lnTo>
                  <a:pt x="996156" y="1042194"/>
                </a:lnTo>
                <a:lnTo>
                  <a:pt x="1030728" y="628"/>
                </a:lnTo>
                <a:close/>
              </a:path>
              <a:path fill="none" w="1992312" h="2084387">
                <a:moveTo>
                  <a:pt x="1030728" y="628"/>
                </a:moveTo>
                <a:cubicBezTo>
                  <a:pt x="1504419" y="17838"/>
                  <a:pt x="1900922" y="381853"/>
                  <a:pt x="1978780" y="8709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9" name="Блок-схема: процесс 14"/>
          <p:cNvSpPr/>
          <p:nvPr/>
        </p:nvSpPr>
        <p:spPr>
          <a:xfrm>
            <a:off x="4643280" y="3143160"/>
            <a:ext cx="357480" cy="327240"/>
          </a:xfrm>
          <a:prstGeom prst="flowChart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0" name="Блок-схема: процесс 15"/>
          <p:cNvSpPr/>
          <p:nvPr/>
        </p:nvSpPr>
        <p:spPr>
          <a:xfrm>
            <a:off x="4500720" y="3643200"/>
            <a:ext cx="642960" cy="357480"/>
          </a:xfrm>
          <a:prstGeom prst="flowChart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1" name="Блок-схема: процесс 16"/>
          <p:cNvSpPr/>
          <p:nvPr/>
        </p:nvSpPr>
        <p:spPr>
          <a:xfrm>
            <a:off x="4786200" y="4214880"/>
            <a:ext cx="357480" cy="285840"/>
          </a:xfrm>
          <a:prstGeom prst="flowChart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AutoShape 1"/>
          <p:cNvSpPr/>
          <p:nvPr/>
        </p:nvSpPr>
        <p:spPr>
          <a:xfrm>
            <a:off x="533520" y="3124080"/>
            <a:ext cx="8305560" cy="297180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3" name="AutoShape 2"/>
          <p:cNvSpPr/>
          <p:nvPr/>
        </p:nvSpPr>
        <p:spPr>
          <a:xfrm>
            <a:off x="304920" y="152280"/>
            <a:ext cx="8534160" cy="2590920"/>
          </a:xfrm>
          <a:prstGeom prst="roundRect">
            <a:avLst>
              <a:gd name="adj" fmla="val 16667"/>
            </a:avLst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4" name="Text Box 3"/>
          <p:cNvSpPr/>
          <p:nvPr/>
        </p:nvSpPr>
        <p:spPr>
          <a:xfrm>
            <a:off x="304920" y="914400"/>
            <a:ext cx="82296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чера мы ходили в         . В            было много народу. Из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ришли поздно. Мы вспоминали про          .  Мы бы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довольны           . Мы всем рассказывали о          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5" name="Text Box 4"/>
          <p:cNvSpPr/>
          <p:nvPr/>
        </p:nvSpPr>
        <p:spPr>
          <a:xfrm>
            <a:off x="2143080" y="18572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и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2408400" y="868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ин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7" name="Text Box 6"/>
          <p:cNvSpPr/>
          <p:nvPr/>
        </p:nvSpPr>
        <p:spPr>
          <a:xfrm>
            <a:off x="4643280" y="1357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и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8" name="Text Box 7"/>
          <p:cNvSpPr/>
          <p:nvPr/>
        </p:nvSpPr>
        <p:spPr>
          <a:xfrm>
            <a:off x="5715000" y="1785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и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9" name="Text Box 8"/>
          <p:cNvSpPr/>
          <p:nvPr/>
        </p:nvSpPr>
        <p:spPr>
          <a:xfrm>
            <a:off x="3214800" y="857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и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0" name="Text Box 9"/>
          <p:cNvSpPr/>
          <p:nvPr/>
        </p:nvSpPr>
        <p:spPr>
          <a:xfrm>
            <a:off x="6643800" y="9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и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1" name="Text Box 12"/>
          <p:cNvSpPr/>
          <p:nvPr/>
        </p:nvSpPr>
        <p:spPr>
          <a:xfrm>
            <a:off x="685800" y="3962520"/>
            <a:ext cx="8077320" cy="17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продаются разные              .        Мне купили ново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нее              . У               меховой воротник. К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шиты красивые пуговицы. Мне тепло в               . 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ен своим              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2" name="Text Box 13"/>
          <p:cNvSpPr/>
          <p:nvPr/>
        </p:nvSpPr>
        <p:spPr>
          <a:xfrm>
            <a:off x="5286240" y="4857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паль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3" name="Rectangle 14"/>
          <p:cNvSpPr/>
          <p:nvPr/>
        </p:nvSpPr>
        <p:spPr>
          <a:xfrm>
            <a:off x="4152240" y="39290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паль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4" name="Rectangle 15"/>
          <p:cNvSpPr/>
          <p:nvPr/>
        </p:nvSpPr>
        <p:spPr>
          <a:xfrm>
            <a:off x="1500120" y="4429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паль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5" name="Rectangle 16"/>
          <p:cNvSpPr/>
          <p:nvPr/>
        </p:nvSpPr>
        <p:spPr>
          <a:xfrm>
            <a:off x="2723400" y="4429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паль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Rectangle 17"/>
          <p:cNvSpPr/>
          <p:nvPr/>
        </p:nvSpPr>
        <p:spPr>
          <a:xfrm>
            <a:off x="6081120" y="4429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паль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7" name="Rectangle 18"/>
          <p:cNvSpPr/>
          <p:nvPr/>
        </p:nvSpPr>
        <p:spPr>
          <a:xfrm>
            <a:off x="2652120" y="5357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00"/>
                </a:solidFill>
                <a:uFillTx/>
                <a:latin typeface="Arial"/>
              </a:rPr>
              <a:t>пальт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8" name="Text Box 19"/>
          <p:cNvSpPr/>
          <p:nvPr/>
        </p:nvSpPr>
        <p:spPr>
          <a:xfrm>
            <a:off x="2428920" y="571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.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9" name="Text Box 20"/>
          <p:cNvSpPr/>
          <p:nvPr/>
        </p:nvSpPr>
        <p:spPr>
          <a:xfrm>
            <a:off x="3357720" y="642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.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0" name="Text Box 21"/>
          <p:cNvSpPr/>
          <p:nvPr/>
        </p:nvSpPr>
        <p:spPr>
          <a:xfrm>
            <a:off x="6715080" y="71424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.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1" name="Text Box 22"/>
          <p:cNvSpPr/>
          <p:nvPr/>
        </p:nvSpPr>
        <p:spPr>
          <a:xfrm>
            <a:off x="4786200" y="1143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.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2" name="Text Box 23"/>
          <p:cNvSpPr/>
          <p:nvPr/>
        </p:nvSpPr>
        <p:spPr>
          <a:xfrm>
            <a:off x="2143080" y="16430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.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3" name="Text Box 24"/>
          <p:cNvSpPr/>
          <p:nvPr/>
        </p:nvSpPr>
        <p:spPr>
          <a:xfrm>
            <a:off x="5786280" y="1643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.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4" name="Text Box 25"/>
          <p:cNvSpPr/>
          <p:nvPr/>
        </p:nvSpPr>
        <p:spPr>
          <a:xfrm>
            <a:off x="4214880" y="3714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.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5" name="Rectangle 26"/>
          <p:cNvSpPr/>
          <p:nvPr/>
        </p:nvSpPr>
        <p:spPr>
          <a:xfrm>
            <a:off x="1782000" y="4214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.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6" name="Rectangle 27"/>
          <p:cNvSpPr/>
          <p:nvPr/>
        </p:nvSpPr>
        <p:spPr>
          <a:xfrm>
            <a:off x="2908800" y="42148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.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7" name="Text Box 28"/>
          <p:cNvSpPr/>
          <p:nvPr/>
        </p:nvSpPr>
        <p:spPr>
          <a:xfrm>
            <a:off x="6143760" y="4143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.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8" name="Rectangle 29"/>
          <p:cNvSpPr/>
          <p:nvPr/>
        </p:nvSpPr>
        <p:spPr>
          <a:xfrm>
            <a:off x="5497200" y="464328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.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9" name="Rectangle 30"/>
          <p:cNvSpPr/>
          <p:nvPr/>
        </p:nvSpPr>
        <p:spPr>
          <a:xfrm>
            <a:off x="2714760" y="51436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.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0" name="AutoShape 31">
            <a:hlinkClick r:id="" action="ppaction://hlinkshowjump?jump=nextslide"/>
          </p:cNvPr>
          <p:cNvSpPr/>
          <p:nvPr/>
        </p:nvSpPr>
        <p:spPr>
          <a:xfrm>
            <a:off x="8604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1" name="AutoShape 32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2"/>
          <p:cNvSpPr/>
          <p:nvPr/>
        </p:nvSpPr>
        <p:spPr>
          <a:xfrm>
            <a:off x="539640" y="25124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3" name="Rectangle 3"/>
          <p:cNvSpPr/>
          <p:nvPr/>
        </p:nvSpPr>
        <p:spPr>
          <a:xfrm>
            <a:off x="539640" y="260280"/>
            <a:ext cx="8209080" cy="75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Чтобы определить падеж существительного, надо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1.Найти слово , к которому относится имя существительное, и поставить от него вопрос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2. По вопросу и предлогу                                                                                                                                                                         определить падеж.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склоняемые существитель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0" y="642960"/>
          <a:ext cx="9144000" cy="6218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руппы несклоняемых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ме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2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ущ. иноязычного происхождения с конечными гласными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–о, -е, -у, -ю, -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ламинго, шимпанзе, какаду, меню, колибр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67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406" name="Прямоугольник 4"/>
          <p:cNvSpPr/>
          <p:nvPr/>
        </p:nvSpPr>
        <p:spPr>
          <a:xfrm>
            <a:off x="0" y="228600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усские и украинские фамилии 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,–их (-ых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7" name="Прямоугольник 5"/>
          <p:cNvSpPr/>
          <p:nvPr/>
        </p:nvSpPr>
        <p:spPr>
          <a:xfrm>
            <a:off x="4761720" y="23572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ченко, Долгих, Толст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8" name="Прямоугольник 6"/>
          <p:cNvSpPr/>
          <p:nvPr/>
        </p:nvSpPr>
        <p:spPr>
          <a:xfrm>
            <a:off x="0" y="3500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ббревиатуры, оканчивающиеся н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с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с опорным словом среднего и женского р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9" name="Прямоугольник 7"/>
          <p:cNvSpPr/>
          <p:nvPr/>
        </p:nvSpPr>
        <p:spPr>
          <a:xfrm>
            <a:off x="4797000" y="3643200"/>
            <a:ext cx="33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И, МГУ, ЕГЭ, ОО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0" name="Прямоугольник 8"/>
          <p:cNvSpPr/>
          <p:nvPr/>
        </p:nvSpPr>
        <p:spPr>
          <a:xfrm>
            <a:off x="0" y="50720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ноязычные сущ., обозначающие лиц женского пола и оканчивающиеся н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гласны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1" name="Прямоугольник 9"/>
          <p:cNvSpPr/>
          <p:nvPr/>
        </p:nvSpPr>
        <p:spPr>
          <a:xfrm>
            <a:off x="4880880" y="5286240"/>
            <a:ext cx="331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ая мисс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ница Войнич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HP</cp:lastModifiedBy>
  <dcterms:modified xsi:type="dcterms:W3CDTF">2020-01-08T18:00:18Z</dcterms:modified>
  <cp:revision>72</cp:revision>
  <dc:subject/>
  <dc:title>Слайд 1</dc:title>
</cp:coreProperties>
</file>