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20E-77BC-4CD8-860D-3171E527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0A1-0427-45A8-B29F-A6CACA4A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2E8-AD53-454D-A00E-D99F433A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220-472C-42F3-B033-5F83CF4D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D8D1-714E-4094-A9DC-0DE1B024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771A-F470-42E7-8E66-92F4129F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DF12-3F69-415F-9B2A-A5D8C7B5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AA96-DB2E-4D8E-A82D-5326EC60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CA7D-8E09-4824-A4E5-4AC4AEA6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B7ED-D552-4685-B534-6986D187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4E56-0A89-428D-BD69-454A10B1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FF7-4ACB-484A-B7C4-4BB82004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6A47-0CF2-40CA-881E-612810DC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0DBB-AB1B-4BBF-AA0C-3F9E84A8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FEAB-FFEE-4915-A5AB-321AF5DD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26EF-2FB2-49B7-BE71-D50CF9E8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523A-96DA-4627-B9F3-C7FC158C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04DF7-3B13-47F8-8267-2B78824A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93D47-9D51-4627-829F-9AE0E92F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30097-E378-4147-AE27-5004BBDE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48AD3-0CE6-48A6-8A63-019D465F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FDF8F-BBEC-414C-9958-BCDCCB74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48A-3A8E-4A1A-A7CF-1F09A266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00F83-ED1D-4F53-BBD3-6D3A4978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08F1A-748E-4180-A451-335A48EF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41245-ED77-4E77-859D-704C4A29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0D014-AFF6-491B-9EA1-E469B5F6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08DB7-F67C-4B7F-AF7E-71087CFC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5E538-EDFA-4FA2-95B6-8ED24020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9E0D0-364A-40B7-8051-A6B8B81A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5D2B-60D4-40B0-A817-6753D6E8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9458-CCD0-4082-96C4-F450BE13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6EFD4-71B4-4D2E-8C88-AC5C7EAC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C88-5A06-4892-9A53-16693DAA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0AF85-D6EB-4F31-AD4C-09A9BF29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85808-E86D-4A4C-A6B3-E40255F1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03BDD-601F-4677-B728-41DCE679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CE09D-52EE-4C1D-A48B-2C4BCFE3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69CC-ACCE-4516-B0C2-AEF56891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6A87B-2BC0-4897-BF6A-051B1582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B848B-6DD8-4D44-A02E-9C1BCC39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F287-973D-43CC-A1E9-B3B96E7B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F283A-9162-4FF1-A9CF-7E395575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AE1C7-0D38-49CD-A20C-7D353E99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C26-A26B-4FB4-A7C2-645A9FD2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77BEA-FEF0-4775-B82A-A09863D3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ABD51-F512-4382-90E1-4F22F3CB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19F46-719C-411F-89EA-1E636530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27375-3339-49D0-8217-5EA2C9D4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8B093-749A-4B99-B20C-8E89D2CB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2E630-13F5-4336-8905-BE425E24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EDF6C-2226-4004-8BEF-9786D7CE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CE0F3-1FC1-4887-8900-548E754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50798-A64D-480B-8DF5-D312D9C7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AE7B8-D72C-4882-B0A4-21402745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FF6-72A0-416C-90C3-5B5570C2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40352-E811-4F3A-9C5E-6EE8551D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FCB31D-BEA4-41C7-903B-467E19AE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9FCC0-190C-4396-9BC7-435F8130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1C810-4FD8-478E-8982-9B862D94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17998-015B-4B77-BB6B-E92F30E6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F5516-6E6C-428A-A046-B95A1466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4F717-5B58-4739-869B-EA0946C8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C2B07-6E12-416E-B3E1-7528185F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76EAD-5F18-4457-9114-A592497C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334AD-30F9-412F-B2A9-F7CAC58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436-A79B-4827-82D7-6B72B574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684FF-0C6A-4C17-9F4F-EF32F9DC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C1E41-D5F4-45A7-BBE6-C796526B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70EEA-5C40-4C9D-8559-9A04022E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A489B-3CCF-4B4F-B1B2-6598408C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D1533-D6DA-4F7E-B012-92A6832C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AEFF0E-25ED-40C5-8340-90F15C6E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35B9F5-45DC-48FD-BD7A-76FC905B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BEF75-3E5D-47C9-9BB7-00AADC5E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64481-E90F-4970-B64F-7F65D22E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CC61F-540D-4D9C-9360-631F9C27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C04-D9DC-48CD-B4BF-0EE9718D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7EC2AD-BED2-4856-BE27-DDC8BA6B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53017-DEC5-4DC4-87A3-ABFBD98E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6F05D-7AF1-4BBC-8992-EB8C3D1B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AE5A8-C37B-4F67-8051-C44EACD7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BA35D-8AFA-4820-B5F3-A31EEE23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D13-25EA-467E-870C-FFF8CC71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D279-16C7-493F-9944-A9B76385F0C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7263-976B-40C1-96EB-47F66B2102F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5EDE-7F7C-4795-8204-27F11B39DBE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2017-DB0B-454C-8574-528BB945B6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0ED1-3FBB-42E2-A934-208420A6AD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4440-1E79-4319-9C91-513877B3CC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DF99-539B-48CC-A93E-7485143296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«МУНИЦИПАЛЬНОЕ ОБЩЕОБРАЗОВАТЕЛЬНОЕ БЮДЖЕТ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ШОЙБУЛАКСКАЯ СРЕДНЯЯ ОБЩЕОБРАЗОВАТЕЛЬНАЯ ШКОЛА»</a:t>
            </a:r>
            <a:br>
              <a:rPr sz="1400"/>
            </a:br>
            <a:br>
              <a:rPr sz="1400"/>
            </a:br>
            <a:br>
              <a:rPr sz="13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285880" y="4285800"/>
            <a:ext cx="30718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ыполнила: ученица 2 а клас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Михадарова Арина Игорев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Прямоугольник 3" descr=""/>
          <p:cNvPicPr/>
          <p:nvPr/>
        </p:nvPicPr>
        <p:blipFill>
          <a:blip r:embed="rId1"/>
          <a:stretch/>
        </p:blipFill>
        <p:spPr>
          <a:xfrm>
            <a:off x="1249200" y="1292400"/>
            <a:ext cx="6645600" cy="196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74674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Я ПРОЧИТАЛА И УЗНАЛА, ЧТО ЕСТЬ ШРИФТ ДЛЯ СЛЕПЫХ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 ВОЗМОЖНО ЛИ ЧИТАТЬ ПАЛЬЦАМИ?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       ОКАЗАЛОСЬ, ЧТО ДА МОИ ПАЛЬЦЫ ОЩУЩАЛИ ПРОДАВЛЕННЫЕ БУКВЫ И ЦИФРЫ НА КАРТОНЕ. ЧИТАТЬ МОЖНО НЕ ТОЛЬКО КОЖЕЙ ПАЛЬЦЕВ РУК, НО И КОЖЕЙ СТОП.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Содержимое 4" descr="IMG-8b799d7f769fbf51c2a1d406a581eda7-V.jpg"/>
          <p:cNvPicPr/>
          <p:nvPr/>
        </p:nvPicPr>
        <p:blipFill>
          <a:blip r:embed="rId1"/>
          <a:stretch/>
        </p:blipFill>
        <p:spPr>
          <a:xfrm>
            <a:off x="914400" y="2214720"/>
            <a:ext cx="3443400" cy="3929040"/>
          </a:xfrm>
          <a:prstGeom prst="rect">
            <a:avLst/>
          </a:prstGeom>
          <a:ln w="0">
            <a:noFill/>
          </a:ln>
        </p:spPr>
      </p:pic>
      <p:pic>
        <p:nvPicPr>
          <p:cNvPr id="378" name="Содержимое 5" descr="IMG-caf78be6beef2cfd6039d60a8d6ee41d-V.jpg"/>
          <p:cNvPicPr/>
          <p:nvPr/>
        </p:nvPicPr>
        <p:blipFill>
          <a:blip r:embed="rId2"/>
          <a:stretch/>
        </p:blipFill>
        <p:spPr>
          <a:xfrm>
            <a:off x="5072040" y="2214720"/>
            <a:ext cx="3286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5640" y="255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ПИТЫВАЕТ ЛИ НАША КОЖА ВОДУ?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АШЕ ТЕЛО НЕ ВПИТЫВАЕТ ВОДУ ВО ВРЕМЯ ДОЖДЯ ИЛИ КУПАНИЯ, КАК ГУБКА. ВДОБАВОК КОЖА ЗАДЕРЖИВАЕТ ВЛАГУ ВНУТРИ ТЕЛА, ПРЕПЯТСТВУЯ ЕЕ ВЫСЫХАНИЮ.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МОЯ КОЖА НЕ ПРОПУСКАЕТ В ОРГАНИЗМ ВОДУ. ИНАЧЕ Я БЫ НАПОЛНИЛАСЬ ВОДОЙ, КОГДА ПРИНИМАЮ ВАННУ. 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Содержимое 6" descr="IMG-77459dc129e4c4cf6444a06a73bdabcb-V.jpg"/>
          <p:cNvPicPr/>
          <p:nvPr/>
        </p:nvPicPr>
        <p:blipFill>
          <a:blip r:embed="rId1"/>
          <a:stretch/>
        </p:blipFill>
        <p:spPr>
          <a:xfrm>
            <a:off x="571680" y="2071800"/>
            <a:ext cx="3429000" cy="4100400"/>
          </a:xfrm>
          <a:prstGeom prst="rect">
            <a:avLst/>
          </a:prstGeom>
          <a:ln w="0">
            <a:noFill/>
          </a:ln>
        </p:spPr>
      </p:pic>
      <p:pic>
        <p:nvPicPr>
          <p:cNvPr id="381" name="Содержимое 5" descr="IMG-769213d1208f88db2040c23091a8bdfd-V.jpg"/>
          <p:cNvPicPr/>
          <p:nvPr/>
        </p:nvPicPr>
        <p:blipFill>
          <a:blip r:embed="rId2"/>
          <a:stretch/>
        </p:blipFill>
        <p:spPr>
          <a:xfrm>
            <a:off x="4384800" y="2071800"/>
            <a:ext cx="342900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ОЖА-СКАНЕР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13840" y="1285560"/>
            <a:ext cx="40006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нашей коже находится множество крошечных рецепторов, способных ощущать тепло, холод, прикосновения мягких и твердых, шершавых или гладких предметов. Каждый рецептор соединен с нервом, посылающим в мозг  сообщения об этих ощущениях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Содержимое 5" descr="IMG-cdbbf1fb8cedb93238f80f7131e2cc57-V.jpg"/>
          <p:cNvPicPr/>
          <p:nvPr/>
        </p:nvPicPr>
        <p:blipFill>
          <a:blip r:embed="rId1"/>
          <a:stretch/>
        </p:blipFill>
        <p:spPr>
          <a:xfrm>
            <a:off x="4500720" y="1428840"/>
            <a:ext cx="35715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6868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НТЕРЕСНЫЕ ФАК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14200" y="1571400"/>
            <a:ext cx="4143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у животных под шерстью и рыб под чешуей имеется кожа, которая им так же необходима как человеку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Содержимое 4" descr="IMG-3df1c7bcbd09dbfe03a007e9e8d8aa4a-V.jpg"/>
          <p:cNvPicPr/>
          <p:nvPr/>
        </p:nvPicPr>
        <p:blipFill>
          <a:blip r:embed="rId1"/>
          <a:stretch/>
        </p:blipFill>
        <p:spPr>
          <a:xfrm>
            <a:off x="4143240" y="1143000"/>
            <a:ext cx="4138920" cy="228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3429000" y="3571920"/>
            <a:ext cx="46432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686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В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642680"/>
            <a:ext cx="86868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жа – не просто наружный покров тела. Это такой же орган, как мозг или сердц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дежда на каждый день» самый крупный орган нашего тела, выполняющий несколько жизненно важных функ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жа защищает внутренние органы, помогает нам воспринимать внешний мир и поддерживает нужную температуру т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 КОЖЕЙ ТОЖЕ НАДО УХАЖИВАТЬ.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АВИЛА ЛИЧНОЙ ГИГИЕНЫ.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Содержимое 4" descr="IMG-bfa1b063151435ce892c6a8d3fd6d462-V.jpg"/>
          <p:cNvPicPr/>
          <p:nvPr/>
        </p:nvPicPr>
        <p:blipFill>
          <a:blip r:embed="rId1"/>
          <a:stretch/>
        </p:blipFill>
        <p:spPr>
          <a:xfrm>
            <a:off x="785880" y="150012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ыть тело 1-2 раза в недел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жедневно мыть лицо, руки, шею, подмышечные впадин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ыть руки с мылом перед едой, после прогулки, после посещения туале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Хорошо вытирать кожу после мытья полотенце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меть оказывать первую медицинскую помощь при повреждениях кож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35676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ПОЛЬЗУЕМАЯ 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ло человека. Энциклопедия/ Анна Клэйборн; пер. с анг. В.В. Свечникова.- м.:РОСМЭН, 2016.-112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ая энциклопедия малыша/ Л.В. Клюшник, И.В. Травина и др. – М.: РОСМЭН, 2017 .- 208 с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Прямоугольник 3" descr=""/>
          <p:cNvPicPr/>
          <p:nvPr/>
        </p:nvPicPr>
        <p:blipFill>
          <a:blip r:embed="rId1"/>
          <a:stretch/>
        </p:blipFill>
        <p:spPr>
          <a:xfrm>
            <a:off x="493560" y="633240"/>
            <a:ext cx="822960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18676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:   ИССЛЕДОВАТЬ РОЛЬ КОЖИ ДЛЯ  ЖИЗНИ ЧЕЛОВЕКА.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42960" y="1999800"/>
            <a:ext cx="80438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жный орган в жизни чело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литературу по данной тем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снить, почему кожа- это одежда на каждый ден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знать роль кожи в жизни человек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Times New Roman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2560" y="785880"/>
            <a:ext cx="397188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готовилась к уроку по окружающему миру и на одной из страниц энциклопедии увидела тему «тело человека» почитав ее, я узнал, что туловище это вместилище внутренних органов. И меня удивило, что кожа это тоже орган. И я решила убедиться в эт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Содержимое 4" descr="IMG-44bcf91068f8597b3749817330db905f-V.jpg"/>
          <p:cNvPicPr/>
          <p:nvPr/>
        </p:nvPicPr>
        <p:blipFill>
          <a:blip r:embed="rId1"/>
          <a:stretch/>
        </p:blipFill>
        <p:spPr>
          <a:xfrm>
            <a:off x="4786200" y="1071720"/>
            <a:ext cx="35719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13840" y="571320"/>
            <a:ext cx="44290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едположим , что кожа это тоже орган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 то мы с братиком сидели за столом и наши руки лежали рядом. Мне пришла идея сравнить их. Оказалось, что наши руки разны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Я задалась вопросом: я расту, а растет ли моя кожа?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Я попросила своего братика, маму и папу положить ладони рядом. И к моему удивлению, я заметила, размеры ладоней разные, чем взрослее человек, тем больше его ладонь. Значит кожа это самый большой орган и покрывает всю поверхность человек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Содержимое 4" descr="IMG-c8a1fab04d6c3fc1440f4f7e128e0676-V.jpg"/>
          <p:cNvPicPr/>
          <p:nvPr/>
        </p:nvPicPr>
        <p:blipFill>
          <a:blip r:embed="rId1"/>
          <a:stretch/>
        </p:blipFill>
        <p:spPr>
          <a:xfrm>
            <a:off x="4929120" y="928800"/>
            <a:ext cx="3786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ТРОЕНИЕ КОЖИ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85600"/>
            <a:ext cx="4038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детскую литературу, я узнала о строении кожи и ее особенностях.   Кожа состоит из двух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х слоев. Верхний слой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дермис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ет поверхность нашего тела. Нижний слой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лще эпидермиса и содержит кровеносные сосуды и потовые железы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48320" y="2249280"/>
            <a:ext cx="403848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Users\1\Desktop\IMG-7dff05143ebfafd4ce54431d4eb06bfe-V.jpg"/>
          <p:cNvPicPr/>
          <p:nvPr/>
        </p:nvPicPr>
        <p:blipFill>
          <a:blip r:embed="rId1"/>
          <a:stretch/>
        </p:blipFill>
        <p:spPr>
          <a:xfrm>
            <a:off x="4714920" y="128592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ahoma"/>
              </a:rPr>
              <a:t>     </a:t>
            </a:r>
            <a:r>
              <a:rPr b="1" lang="ru-RU" sz="2200" spc="-1" strike="noStrike">
                <a:solidFill>
                  <a:srgbClr val="575f6d"/>
                </a:solidFill>
                <a:latin typeface="Times New Roman"/>
                <a:ea typeface="Tahoma"/>
              </a:rPr>
              <a:t>НАША КОЖА НЕ ТАК КРЕПКА КАК НАМ КАЖЕТСЯ.  </a:t>
            </a:r>
            <a:br>
              <a:rPr sz="1600"/>
            </a:b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ahoma"/>
              </a:rPr>
              <a:t>МАМА  ПОРЕЗАЛА ПАЛЕЦ, МЫ РЕШИЛИ ПОСМОТРЕТЬ, ЧТО БУДЕТ ПРОИСХОДИТЬ С РАНКОЙ! ЧЕРЕЗ НЕДЕЛЮ ОСТАЛСЯ ТОЛЬКО НЕ БОЛЬШОЙ ШРАМ. НАША КОЖА СПОСОБНО ВОССТАНАВЛИВАТЬСЯ!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4" descr="IMG-4cd708429d30062d291f1ba80b31d435-V.jpg"/>
          <p:cNvPicPr/>
          <p:nvPr/>
        </p:nvPicPr>
        <p:blipFill>
          <a:blip r:embed="rId1"/>
          <a:stretch/>
        </p:blipFill>
        <p:spPr>
          <a:xfrm>
            <a:off x="571680" y="2062080"/>
            <a:ext cx="3429000" cy="364824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5" descr="IMG-81b7dedc1c6d470fb0d783398682cad8-V.jpg"/>
          <p:cNvPicPr/>
          <p:nvPr/>
        </p:nvPicPr>
        <p:blipFill>
          <a:blip r:embed="rId2"/>
          <a:stretch/>
        </p:blipFill>
        <p:spPr>
          <a:xfrm>
            <a:off x="4460760" y="2063880"/>
            <a:ext cx="32767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35684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м понадобится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 стакана с водо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-й – 40* С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-й – 25* С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-й – холодная вод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b32c1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Я наполнила стаканы разной водой : горячей, теплой и холодно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b32c1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кунула один указательный палец в стакан с холодной водой, а другой с горячей на 2 ми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b32c1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кунуть оба пальца в стакан с теплой водой. Мои  пальцы в стакане с одной и той же температуро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Что я чувствую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2143080" y="2858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ло или холод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Я ОПУСТИЛА ПАЛЬЦЫ В СТАКАНЫ И ПОНЯЛА, ЧТО В НИХ РАЗНАЯ ТЕМПЕРАТУРА ВОДЫ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Содержимое 4" descr="IMG-fd0729c4a62d1780cfe30d811185f8ff-V.jpg"/>
          <p:cNvPicPr/>
          <p:nvPr/>
        </p:nvPicPr>
        <p:blipFill>
          <a:blip r:embed="rId1"/>
          <a:stretch/>
        </p:blipFill>
        <p:spPr>
          <a:xfrm>
            <a:off x="457200" y="228600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373" name="Содержимое 5" descr="IMG-d26f0c1a1c1067322cb2af0b11fa85f0-V.jpg"/>
          <p:cNvPicPr/>
          <p:nvPr/>
        </p:nvPicPr>
        <p:blipFill>
          <a:blip r:embed="rId2"/>
          <a:stretch/>
        </p:blipFill>
        <p:spPr>
          <a:xfrm>
            <a:off x="4270320" y="2286000"/>
            <a:ext cx="3657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 МОЖНО ЛИ ЧИТАТЬ ПАЛЬЦАМИ?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99980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м понадобить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b32c16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вадратики из тонкого картон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b32c16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Хорошо наточенный карандаш или иголк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b32c1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ы с мамой написали на карточках цифры и буквы. С помощью иголки прорезали маленькие дырочки по контурам буквы и цифр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b32c1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ама завязала мне глаза с помощью платка и предложила мне прочесть пальцами буквы и цифры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b32c16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21:28:17Z</dcterms:created>
  <dc:creator>1</dc:creator>
  <dc:description/>
  <dc:language>en-US</dc:language>
  <cp:lastModifiedBy>вова</cp:lastModifiedBy>
  <dcterms:modified xsi:type="dcterms:W3CDTF">2020-01-08T17:50:27Z</dcterms:modified>
  <cp:revision>100</cp:revision>
  <dc:subject/>
  <dc:title>Слайд 1</dc:title>
</cp:coreProperties>
</file>