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A16-5E4A-43C0-9F54-11D78E31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2F0-5ECE-4E5B-8658-E8C71E0F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91C-505F-4D15-B5C3-2B66CF52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A57-AAAB-4E57-8C33-798F488A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975-55DC-4E11-AA5B-36F96DFC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E2D-B927-49EF-87F4-151EF69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916-6896-4D54-A248-342B58F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778-CD4B-4887-B6BC-31B3B98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FC6-698F-4AFB-A154-2BB0A6A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B6C-4B90-4195-B997-728591C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935-5D19-485F-BC29-7EFE09A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A56-2C44-4FB5-BE78-50CD955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9E87-782F-46E4-ACF3-0A2BEF2A5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униципальное бюджетное дошкольное образовательное учреждение комбинированного вида № 1 п.Шушен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онная модель инклюзивной практик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детском са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 Antiqua"/>
              </a:rPr>
              <a:t>Выполнила: 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 Antiqua"/>
              </a:rPr>
              <a:t>логопедической группы Бочкарева В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редоставления вариативных форм обучения и воспита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с разными стартовыми возмо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ая консультация, в ходе которой специалистами (психологом, логопедом, дефектологом, социальным педагогом и др.) проводится диагно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 Составление первичных рекомендаций по разработке индивидуального образовательного плана, определение направления развития, частных видов помощи, необходимых модулей коррекционно-развивающей програм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   Привлечение семьи в образовательное пространство. Способами включения родителей могут  быть индивидуальные консультации (по запросу взрослого), мастер-классы или семина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ные подразделения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клюзивного ДО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тивный пунк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оте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ранней помощ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развития (кратковременного пребывания) «Особый ребенок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люзивные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ультативный пун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ется для родителей (законных представителей) и детей в возрас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1 года до 7 лет, не посещающих образовательные учре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   обеспечение единства и преемственности семейного и общественного вос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родителям (законным представителя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ка всестороннего развития личности детей, не посещающих образовательные 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Содержание работы Консультативного пунк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   оказание всесторонней помощи родителям и детям 5–6 лет, не посещающим образовательные учреждения, в обеспечении равных стартовых возможностей при поступлении в школ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содействия в социализации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комплексной профилактики различных отклонений в физическом, психическом и социальном развитии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взаимодействия между ДОУ и другими организациями социальной и медицинской поддержки детей и родителей (законных представителе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ужба ранне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696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ует программу обучения и воспитания детей от 2 месяцев до 4 лет, составленную на основе рекомендаций по обучению ребенка раннего возрас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рганизованная психолого-педагогическая и социальная поддержка семьи, имею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ка с выявленными нарушениями развития (риском нарушения), не посещающего образователь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дбор адекватных способов взаимодействия с ребенком, его воспитания и обуч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рекция отклонений в развит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Содержание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го обследования детей с нарушениями развития (риском нарушения) и их сем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комплексной коррекционно-развивающей помощи детям) и психолого-педагогической поддержки их семь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уществление работы по адаптации, социализации и интеграции детей с нарушениями развития (риском наруш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ключение родителей (законных представителей) в процесс воспитания и обучения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дальнейшего образовательного маршрута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к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ба психологического сопровождения и специальной педагогической помощи родителям, воспитывающим детей с выраженными нарушениями и проблемами развития. Подразумевает еженедельные, бесплатные, индивидуально-коррекционные занятия для детей, которые не могут посещать ГОУ по состоянию здоровья или развития и нуждаются в психолого-педагогической и медико-социальной помощи. Является одной из первых ступеней социализации ребенка. Впоследствии ребенок может быть переведен в инклюзивную группу или кла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Ц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психолого-педагогического сопровождения детей от 2 месяцев до 7 лет с нарушениями развития для социализации, формирования предпосылок учебной деятельности, поддержки развития личности детей и оказания психолого-педагогической помощи родител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Содержание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я образовательной программы, разрабатываемой исходя из особенностей психофизического развития и индивидуальных возможностей воспитан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е родителей (законных представителей), специалистов государственных образовательных учреждений методам игрового взаимодействия с детьми, имеющими нарушения в разви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щь родителям (законным представителям) в подборе адекватных средств общения с ребен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бор индивидуальных техник формирования предпосылок учебной деятельности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ка инициатив родителей (законных представителей) в организации программ взаимодействия сем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руппа развития «Особый реб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ётся для детей-инвалидов в возрасте от 3 месяцев до 7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   оказание систематической психолого-медико-педагогической помощи детям-инвалидам, формирование у них 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йствие родителям в организации воспитания и обучения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ей работы специалистов различного профиля с детьми с ОВ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спечение первичной адаптации в группе сверстников без индивидуального сопровождения взрос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а ребенка с ОВЗ к посещению инклюзив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Содержание рабо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коррекционно-развивающих групповых и индивидуальных занятий, направленных на развитие коммуникативной, познавательной и иных сфер детей с ОВ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а ребенка с ОВЗ к включению в инклюзивную груп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   проведение консультативной работ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клюзивные группы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образовательных услуг для детей с различными стартовыми возможностями. Две трети состава группы составляют воспитанники с уровнем психофизического развития в соответствии с возрастной нормой, а треть воспитанников – дети с тем или иным отклонением (например, с нарушениями слуха, зрения, опорно-двигательного аппарата, интеллекта – умственной отсталостью в степени дебильности) либо дети раннего возраста, не имеющие выраженных первичных отклонений в развитии, но отстающие от возрастной нормы (в том числе дети с нарушениями эмоционально - волевой сфер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наличии трудностей в самообслуживании, самостоятельном передвижении, адаптации в детском коллективе ребенку предоставляется «тьютор», который реализует сопровождение не только в режимных моментах, но и на занят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ный перечень документации, обеспечивающей работу детского сада, имеющего инклюзивные группы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ложение об инклюзивных групп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риказ учредителя об открытии на базе конкретного дошкольного образовательного учреждения инклюзив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Устав дошкольного образовательного учреждения, в котором указываются конкретные образовательные услуги, предоставляемые учреждением в разделе «Образовательная деятельность» с полным их переч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Договор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Штатное распис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Должностные инстр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Приказ по дошкольному образовательному учрежд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6-11-09T14:36:1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