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C88-6160-4750-A979-9005BBCB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554-FAA9-4BB4-A05E-670ED2B4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109-D2F9-42B1-9272-69597E6C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0F5-F73D-4704-8331-12B71629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4493-ED13-4BD1-A36D-61386C55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B6CE-BEEF-4771-AD1F-D173CEA1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190C-6E17-4531-B23D-FAAC3DB2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269F-E708-42C7-91E0-5C94EDCD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A043-8AEA-4B91-AFBD-D8227206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8B70-2573-4C48-8BA1-F2E17290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AFCE-4609-4141-8A3E-A14FB063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CBA-4C0D-491F-82AB-7F38E676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1A75-8FDE-4D26-801B-2F1E9385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BD3C-5834-4DA8-AD8C-FFCCCA2B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F951-565B-4C25-AD75-A478B07A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F91B-8715-466A-8875-36A3B78B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728B-E7D1-4133-AB25-C7F5B835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C56D4-EC95-44FB-B702-E30796F9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9AFD-5D71-4F63-BF29-5019353E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21B0F-C6F7-4F73-88FC-526D2472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6B7F-14B2-4AC5-BE04-49A3C582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B68A-5DA9-4744-93C7-F639662C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F732-29F8-47EF-9F47-918673E0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E93BC-BECC-43A2-A8DC-303EDEE6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8269-DA96-4217-A0A2-6BF08A27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EDE1-1FB2-47CC-A6F8-C93FA5EF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3811C-803E-4414-9E00-F4EA463C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08016-0DA1-4E73-A35F-32E9142F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5C2F-64BA-4AA5-B6EF-F09B5B16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EDE56-AA33-4A03-BC4A-C764492D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56C-55F0-486C-9CAD-8F24E727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A74-41F7-4F35-B138-9EF1ED0D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D21-E24A-495B-882F-E9A4B571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F6F-E1BA-4151-B667-2EF8F632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394-D3E4-4127-A5EB-090A6AD4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DA8-B431-47EE-9579-CC91728F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8280" y="6598440"/>
            <a:ext cx="1621440" cy="25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8"/>
          <p:cNvSpPr/>
          <p:nvPr/>
        </p:nvSpPr>
        <p:spPr>
          <a:xfrm>
            <a:off x="179280" y="189000"/>
            <a:ext cx="8784720" cy="6479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57150">
            <a:solidFill>
              <a:srgbClr val="00b0f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" name="Рисунок 9" descr="babochka60.gif"/>
          <p:cNvPicPr/>
          <p:nvPr/>
        </p:nvPicPr>
        <p:blipFill>
          <a:blip r:embed="rId3"/>
          <a:stretch/>
        </p:blipFill>
        <p:spPr>
          <a:xfrm>
            <a:off x="468360" y="836640"/>
            <a:ext cx="818640" cy="2342880"/>
          </a:xfrm>
          <a:prstGeom prst="rect">
            <a:avLst/>
          </a:prstGeom>
          <a:ln w="9525">
            <a:noFill/>
          </a:ln>
        </p:spPr>
      </p:pic>
      <p:pic>
        <p:nvPicPr>
          <p:cNvPr id="3" name="Рисунок 10" descr="babochka60.gif"/>
          <p:cNvPicPr/>
          <p:nvPr/>
        </p:nvPicPr>
        <p:blipFill>
          <a:blip r:embed="rId4"/>
          <a:stretch/>
        </p:blipFill>
        <p:spPr>
          <a:xfrm>
            <a:off x="468360" y="3429000"/>
            <a:ext cx="818640" cy="23428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44C99E-9447-4F18-B516-8CCE45F7BC9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8280" y="6598440"/>
            <a:ext cx="1621440" cy="25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179280" y="189000"/>
            <a:ext cx="8784720" cy="6479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57150">
            <a:solidFill>
              <a:srgbClr val="00b0f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7" name="Рисунок 9" descr="babochka60.gif"/>
          <p:cNvPicPr/>
          <p:nvPr/>
        </p:nvPicPr>
        <p:blipFill>
          <a:blip r:embed="rId3"/>
          <a:stretch/>
        </p:blipFill>
        <p:spPr>
          <a:xfrm>
            <a:off x="468360" y="836640"/>
            <a:ext cx="818640" cy="2342880"/>
          </a:xfrm>
          <a:prstGeom prst="rect">
            <a:avLst/>
          </a:prstGeom>
          <a:ln w="9525">
            <a:noFill/>
          </a:ln>
        </p:spPr>
      </p:pic>
      <p:pic>
        <p:nvPicPr>
          <p:cNvPr id="48" name="Рисунок 10" descr="babochka60.gif"/>
          <p:cNvPicPr/>
          <p:nvPr/>
        </p:nvPicPr>
        <p:blipFill>
          <a:blip r:embed="rId4"/>
          <a:stretch/>
        </p:blipFill>
        <p:spPr>
          <a:xfrm>
            <a:off x="468360" y="3429000"/>
            <a:ext cx="818640" cy="2342880"/>
          </a:xfrm>
          <a:prstGeom prst="rect">
            <a:avLst/>
          </a:prstGeom>
          <a:ln w="9525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17CC11-80BF-4510-9443-B14821FCADC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8280" y="6598440"/>
            <a:ext cx="1621440" cy="25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8"/>
          <p:cNvSpPr/>
          <p:nvPr/>
        </p:nvSpPr>
        <p:spPr>
          <a:xfrm>
            <a:off x="179280" y="189000"/>
            <a:ext cx="8784720" cy="6479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57150">
            <a:solidFill>
              <a:srgbClr val="00b0f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2" name="Рисунок 9" descr="babochka60.gif"/>
          <p:cNvPicPr/>
          <p:nvPr/>
        </p:nvPicPr>
        <p:blipFill>
          <a:blip r:embed="rId3"/>
          <a:stretch/>
        </p:blipFill>
        <p:spPr>
          <a:xfrm>
            <a:off x="468360" y="836640"/>
            <a:ext cx="818640" cy="2342880"/>
          </a:xfrm>
          <a:prstGeom prst="rect">
            <a:avLst/>
          </a:prstGeom>
          <a:ln w="9525">
            <a:noFill/>
          </a:ln>
        </p:spPr>
      </p:pic>
      <p:pic>
        <p:nvPicPr>
          <p:cNvPr id="93" name="Рисунок 10" descr="babochka60.gif"/>
          <p:cNvPicPr/>
          <p:nvPr/>
        </p:nvPicPr>
        <p:blipFill>
          <a:blip r:embed="rId4"/>
          <a:stretch/>
        </p:blipFill>
        <p:spPr>
          <a:xfrm>
            <a:off x="468360" y="3429000"/>
            <a:ext cx="818640" cy="2342880"/>
          </a:xfrm>
          <a:prstGeom prst="rect">
            <a:avLst/>
          </a:prstGeom>
          <a:ln w="9525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1F662A-8251-4C9E-8032-610A24BF0F7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772640"/>
            <a:ext cx="8136720" cy="223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182880"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3600"/>
            </a:b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остроение инклюзивного пространств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1835640" y="5301360"/>
            <a:ext cx="5976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320"/>
              </a:spcBef>
            </a:pP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1403640" y="764640"/>
            <a:ext cx="720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униципальное бюджетное дошкольное образовательное учреждение комбинированного вида № 1 п.Шушен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1547640" y="4509000"/>
            <a:ext cx="691236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ыполнила: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логопедической группы Бочкарева В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3640" y="1166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одержание инклюзивного образования реализуется в разных формах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Скругленный прямоугольник 3"/>
          <p:cNvSpPr/>
          <p:nvPr/>
        </p:nvSpPr>
        <p:spPr>
          <a:xfrm>
            <a:off x="5224320" y="1268640"/>
            <a:ext cx="3667680" cy="22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chemeClr val="dk1"/>
                </a:solidFill>
                <a:latin typeface="Calibri"/>
              </a:rPr>
              <a:t>Фронтальные формы организации активности детей могут решать как познавательные, так и социальные задачи. Для организации инклюзивного процесса больше всего подходит занятие в форме круга – специально организованного, занятия, на котором дети и взрослые играют вместе в особой – спокойной, доверительной атмосфе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5"/>
          <p:cNvSpPr/>
          <p:nvPr/>
        </p:nvSpPr>
        <p:spPr>
          <a:xfrm>
            <a:off x="1043640" y="1268640"/>
            <a:ext cx="3960000" cy="230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200" spc="-1" strike="noStrike">
                <a:solidFill>
                  <a:schemeClr val="dk1"/>
                </a:solidFill>
                <a:latin typeface="Calibri"/>
              </a:rPr>
              <a:t>Взаимодействие детей в микрогруппах - способствует формированию социальных навыков общения и взаимодействия. организацию игровой, проектной и исследовательской деятельности. Для этого можно использовать дополнительные развивающие программы («Маленький исследователь», программы занятий в керамической и столярной мастерских, программы по организации проектной деятельности, программы физического воспитания, музыкального развития и др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9"/>
          <p:cNvSpPr/>
          <p:nvPr/>
        </p:nvSpPr>
        <p:spPr>
          <a:xfrm>
            <a:off x="899640" y="3933000"/>
            <a:ext cx="4032000" cy="136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chemeClr val="dk1"/>
                </a:solidFill>
                <a:latin typeface="Calibri"/>
              </a:rPr>
              <a:t>Детско-родительские группы - это комплексные занятия для детей и родителей, включающие в себя игры, творческие занятия, музыкальные занятия. Группы ведут специалисты: психолог, логопед, дефектолог, музыкальный руководи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кругленный прямоугольник 10"/>
          <p:cNvSpPr/>
          <p:nvPr/>
        </p:nvSpPr>
        <p:spPr>
          <a:xfrm>
            <a:off x="5148000" y="3933000"/>
            <a:ext cx="3672000" cy="12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chemeClr val="dk1"/>
                </a:solidFill>
                <a:latin typeface="Calibri"/>
              </a:rPr>
              <a:t>Праздники, экскурсии, конкурсы, походы выходного дня создают позитивный эмоциональный настрой, объединяют детей и взрослых, являются важным ритуалом группы и всего са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11"/>
          <p:cNvSpPr/>
          <p:nvPr/>
        </p:nvSpPr>
        <p:spPr>
          <a:xfrm>
            <a:off x="3204000" y="5589360"/>
            <a:ext cx="3240000" cy="88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chemeClr val="dk1"/>
                </a:solidFill>
                <a:latin typeface="Calibri"/>
              </a:rPr>
              <a:t>Из всех вышеперечисленных форм складывается жизнь инклюзивной группы. При этом должно учитываться соотношение самостоятельной активности детей и деятельности, организованной взросл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ндивидуальные занятия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7640" y="1600200"/>
            <a:ext cx="749880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авлены на развитие и поддержку функциональных способностей ребенка в соответствии с его возможностями. Содержание встреч, планируется согласно составленному индивидуальному плану. Специалисты (логопед, психолог, дефектолог, медсестра по массажу, кинезиотерапевт) в своей работе опираются на различные отечественные и зарубежные программы, методы и техники. Индивидуальные встречи проводятся специалистами в соответствии с составленным графиком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дивидуальные занятия строятся на оценке достижений ребенка и определения зоны его ближайшего развития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результату занятия специалист составляет запись в Индивидуальной карте развития ребенка, с которой обязательно знакомятся другие специалисты и воспитатели групп.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телям выдается подробное описание того, что и насколько успешно делал ребенок, а также домашнее задание с рекомендациями по отработке навыков и включению их в игровую и бытовую деятельность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Литератур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7640" y="1600200"/>
            <a:ext cx="749880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а по инклюзивному образованию детей с ограниченными возможностями здоровья «Первые шаги в детство». Разработка Бочковой Аллы Анатольевны, воспитателя МАДОУ ДС № 29 г. Нижневартовска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циально педагогическая деятельность по организации «безбарьерной среды» в условиях ДОУ. Аляутдинова Р.Н. «Вестник университета», 2012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дель социально-педагогической помощи детям с ограниченными возможностями здоровья в условиях дошкольного образовательного учреждения. Аляутдинова Р.Н.. «Вестник университета», 2013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временное состояние социально-педагогической помощи детям с ограниченными возможностями здоровья в условиях ДОУ. Аляутдинова Р.Н. «Вестник университета», 2012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клюзивное образование детей с ограниченными возможностями здоровья в условиях современного ДОУ. Миронова У.В., Шумайлова Ю.В. Сборник материалов Ежегодной международной научно-практической конференции «Воспитание и обучение детей младшего школьного возраста, 2015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59640" y="1989000"/>
            <a:ext cx="7416360" cy="446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агностика индивидуальных особенностей развития детей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клюзивной группы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ждисциплинарное оценивание ресурсов и дефицитов ребенка, составление Индивидуального образовательного маршрута и Индивидуального образовательного плана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го процесса с учетом индивидуальных образовательных потребностей детей группы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я совместной жизнедеятельности детей в условиях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клюзивной группы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ценка эффективности инклюзивного образовательного процесс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5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755640" y="653760"/>
            <a:ext cx="799236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Алгоритм построения инклюзив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в группе детского с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2"/>
          <p:cNvSpPr/>
          <p:nvPr/>
        </p:nvSpPr>
        <p:spPr>
          <a:xfrm>
            <a:off x="1043640" y="620640"/>
            <a:ext cx="7344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971640" y="332640"/>
            <a:ext cx="748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Диагностика индивидуальных особенностей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1115640" y="908640"/>
            <a:ext cx="7776360" cy="65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Беседа и анкетирование родител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 определение интересов ребенка, особенностей его поведения, развития навыков самообслуживания, речи, интеллектуальных и социальных ум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беседа родителей с воспитателем или психологом (цель беседы – установить контакт с родителями, познакомить родителей с детским садом и определить основные направления сотрудни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Диагностика развития ребен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проводится специалистами детского са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-228600"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Наблюдение за поведением в групп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уровень сформированности навыков самообслужи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особенности контакта с другими детьми и взрослы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навыки продуктивн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развитие двигательных и речевых навыков, познавательной сфе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проявление самостоятельности и актив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2"/>
          <p:cNvSpPr/>
          <p:nvPr/>
        </p:nvSpPr>
        <p:spPr>
          <a:xfrm>
            <a:off x="1043640" y="620640"/>
            <a:ext cx="7344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5"/>
          <p:cNvSpPr/>
          <p:nvPr/>
        </p:nvSpPr>
        <p:spPr>
          <a:xfrm>
            <a:off x="1331640" y="1124640"/>
            <a:ext cx="2304000" cy="914040"/>
          </a:xfrm>
          <a:prstGeom prst="ellipse">
            <a:avLst/>
          </a:prstGeom>
          <a:noFill/>
          <a:ln>
            <a:solidFill>
              <a:srgbClr val="00206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Овал 6"/>
          <p:cNvSpPr/>
          <p:nvPr/>
        </p:nvSpPr>
        <p:spPr>
          <a:xfrm>
            <a:off x="5652000" y="1196640"/>
            <a:ext cx="2304000" cy="914040"/>
          </a:xfrm>
          <a:prstGeom prst="ellipse">
            <a:avLst/>
          </a:prstGeom>
          <a:noFill/>
          <a:ln>
            <a:solidFill>
              <a:srgbClr val="00206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Овал 7"/>
          <p:cNvSpPr/>
          <p:nvPr/>
        </p:nvSpPr>
        <p:spPr>
          <a:xfrm>
            <a:off x="3204000" y="2853000"/>
            <a:ext cx="2952000" cy="1202040"/>
          </a:xfrm>
          <a:prstGeom prst="ellipse">
            <a:avLst/>
          </a:prstGeom>
          <a:noFill/>
          <a:ln>
            <a:solidFill>
              <a:srgbClr val="00206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1346400" y="1412640"/>
            <a:ext cx="234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Регистрация эпиз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9"/>
          <p:cNvSpPr/>
          <p:nvPr/>
        </p:nvSpPr>
        <p:spPr>
          <a:xfrm>
            <a:off x="5666400" y="1412640"/>
            <a:ext cx="236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Дневниковые зам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11"/>
          <p:cNvSpPr/>
          <p:nvPr/>
        </p:nvSpPr>
        <p:spPr>
          <a:xfrm>
            <a:off x="1331640" y="4797000"/>
            <a:ext cx="2304000" cy="914040"/>
          </a:xfrm>
          <a:prstGeom prst="ellipse">
            <a:avLst/>
          </a:prstGeom>
          <a:noFill/>
          <a:ln>
            <a:solidFill>
              <a:srgbClr val="00206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Овал 12"/>
          <p:cNvSpPr/>
          <p:nvPr/>
        </p:nvSpPr>
        <p:spPr>
          <a:xfrm>
            <a:off x="6012000" y="4797000"/>
            <a:ext cx="2304000" cy="914040"/>
          </a:xfrm>
          <a:prstGeom prst="ellipse">
            <a:avLst/>
          </a:prstGeom>
          <a:noFill/>
          <a:ln>
            <a:solidFill>
              <a:srgbClr val="00206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1475640" y="5085360"/>
            <a:ext cx="208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15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Видеонаблю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4"/>
          <p:cNvSpPr/>
          <p:nvPr/>
        </p:nvSpPr>
        <p:spPr>
          <a:xfrm>
            <a:off x="6094800" y="5085360"/>
            <a:ext cx="2217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Журнал наблю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5"/>
          <p:cNvSpPr/>
          <p:nvPr/>
        </p:nvSpPr>
        <p:spPr>
          <a:xfrm>
            <a:off x="3636000" y="2997000"/>
            <a:ext cx="228564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Техники наблю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Прямая со стрелкой 17"/>
          <p:cNvCxnSpPr>
            <a:endCxn id="145" idx="4"/>
          </p:cNvCxnSpPr>
          <p:nvPr/>
        </p:nvCxnSpPr>
        <p:spPr>
          <a:xfrm flipH="1" flipV="1">
            <a:off x="2483640" y="2039040"/>
            <a:ext cx="1152360" cy="1029960"/>
          </a:xfrm>
          <a:prstGeom prst="straightConnector1">
            <a:avLst/>
          </a:prstGeom>
          <a:ln w="254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156" name="Прямая со стрелкой 22"/>
          <p:cNvCxnSpPr>
            <a:endCxn id="146" idx="4"/>
          </p:cNvCxnSpPr>
          <p:nvPr/>
        </p:nvCxnSpPr>
        <p:spPr>
          <a:xfrm flipV="1">
            <a:off x="5652000" y="2111040"/>
            <a:ext cx="1152360" cy="885960"/>
          </a:xfrm>
          <a:prstGeom prst="straightConnector1">
            <a:avLst/>
          </a:prstGeom>
          <a:ln w="254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157" name="Прямая со стрелкой 24"/>
          <p:cNvCxnSpPr>
            <a:stCxn id="147" idx="3"/>
            <a:endCxn id="150" idx="0"/>
          </p:cNvCxnSpPr>
          <p:nvPr/>
        </p:nvCxnSpPr>
        <p:spPr>
          <a:xfrm flipH="1">
            <a:off x="2483640" y="3879000"/>
            <a:ext cx="1152720" cy="918360"/>
          </a:xfrm>
          <a:prstGeom prst="straightConnector1">
            <a:avLst/>
          </a:prstGeom>
          <a:ln w="254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158" name="Прямая со стрелкой 26"/>
          <p:cNvCxnSpPr>
            <a:stCxn id="147" idx="5"/>
            <a:endCxn id="151" idx="0"/>
          </p:cNvCxnSpPr>
          <p:nvPr/>
        </p:nvCxnSpPr>
        <p:spPr>
          <a:xfrm>
            <a:off x="5723640" y="3879000"/>
            <a:ext cx="1440720" cy="918360"/>
          </a:xfrm>
          <a:prstGeom prst="straightConnector1">
            <a:avLst/>
          </a:prstGeom>
          <a:ln w="25400">
            <a:solidFill>
              <a:srgbClr val="00206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2"/>
          <p:cNvSpPr/>
          <p:nvPr/>
        </p:nvSpPr>
        <p:spPr>
          <a:xfrm>
            <a:off x="1115640" y="764640"/>
            <a:ext cx="7344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755640" y="188640"/>
            <a:ext cx="78483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Диагностика ориентирована на следующие показател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1475640" y="1196640"/>
            <a:ext cx="676836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1259640" y="1072080"/>
            <a:ext cx="7416360" cy="3931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особенности развития ребенка в настоящий момен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ограничения в функционировании и состоянии здоровья, которые ему мешают развива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сильные стороны ребенка и его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отребности ребенка в каждой области развития: физическое, познавательное, социально-эмоциональное, самообслужи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запросы семьи, какие проблемы они видят в развитии и какие задачи ставя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озможности среды, в которой живет ребе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6"/>
          <p:cNvSpPr/>
          <p:nvPr/>
        </p:nvSpPr>
        <p:spPr>
          <a:xfrm>
            <a:off x="1043640" y="5157360"/>
            <a:ext cx="7416360" cy="118692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агностика носит динамический характер, позволяющий корректировать программы в ходе их осуществления и своевременно выстраивать для ребенка адекватную его изменяющемуся состоянию и актуальным возможностям постепенно усложняющуюся сре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260640"/>
            <a:ext cx="864072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еждисциплинарное оценивание ресурсов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и дефицитов развития ребенка.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Составление Индивидуального образовательного план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5640" y="1340640"/>
            <a:ext cx="7498800" cy="288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ждисциплинарное обсуждение результатов диагностики организуется всеми специалистами.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и: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 составление полной картины развития ребенка, а не фрагментарных представлений о его развитии в разных областях, что облегчает понимание потребности ребенка и семьи и планирование программы развития; 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выделение приоритетных направлений  обследования, определение меры активного участия в нем каждого специалиста;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выбор программы, соответствующей образовательным и социальным потребностям ребенка; 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разработка программ, направленных на реализацию образовательных, социальных и др. потребностей детей с ОВЗ и их здоровых сверстников. 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6"/>
          <p:cNvSpPr/>
          <p:nvPr/>
        </p:nvSpPr>
        <p:spPr>
          <a:xfrm>
            <a:off x="1691640" y="4581000"/>
            <a:ext cx="63507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Индивидуальный образовательный план обсуждается всеми специалистами, работающими с ребенком с учетом рекомендаций специалистов ПМПК и составляется на основе диагностических данных. План строится с опорой на сильные стороны ребенка и компенсирует дефициты, имеющиеся в его разви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60640"/>
            <a:ext cx="82292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екомендуемые для составления ИОП образовательные программы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3640" y="1196640"/>
            <a:ext cx="757080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рограмма воспитания и обучения в детском саду» под ред. Васильевой М.А. Москва, 2010 г.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а «Детство» под ред. Т.И. Бабаевой, З.А. Михайловской, Л.М. Гурович, 2001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а М. Монтессори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рограмма воспитания и обучения дошкольников с интеллектуальной недостаточностью» авторов Л.Б. Баряевой, О.П. Гаврилушкиной, А.П. Зарина, Н.Д. Соколовой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рограмма обучения и воспитания детей с фонетико-фонематическим недоразвитием речи» Филичевой Т.Б., Чиркиной Г.В.,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а ранней педагогической помощи детям с отклонениями в развитии «Маленькие ступеньки»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ы, утвержденные Министерством образования РФ по дошкольному образованию детей с нарушениями интеллекта, речи, опорно-двигательного аппарата и др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7640" y="404640"/>
            <a:ext cx="82292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ланирование образовательного процесса с учетом индивидуальных образовательных потребностей детей группы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992360" cy="554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клюзивный подход предполагает организацию социальных отношений детей группы с учетом реализации возможностей каждого ее участника.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расписании группы должны быть учтены индивидуальные занятия детей (расписаны помещения, время, специалисты), групповые занятия, реализующие интересы детей, групповые занятия, реализующие развивающие задачи Образовательной программы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 startAt="3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жим дня и недели в инклюзивной группе для разных детей может быть гибким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 startAt="3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ставление расписания в инклюзивном ДОУ представляет собой довольно сложную процедуру, которая входит в обязанности старшего воспитателя, и к которой подключаются междисциплинарные команды, работающие в инклюзивных группах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 startAt="3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анда специалистов, работающих в группе, обсуждает результаты диагностики и составляет программу организации совместной жизнедеятельности детей группы.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 startAt="3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оритет – не реализация тематических блоков образовательной программы, а задачи, которые формулируют педагоги по результатам диагностики детей и группы. Планы могут модифицироваться в соответствии с динамикой развития ситуации и/или специальными нуждами конкретного ребёнка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 startAt="3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ждисциплинарная команда разрабатывает разные формы активности детей в малых группах и в целом группе, разноуровневые задания, учитывая баланс между спокойными и активными занятиями, индивидуальными занятиями, принимая во внимание индивидуальные особенности детей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AutoNum type="arabicPeriod" startAt="3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роцессу планирования привлекаются дети и родители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640" y="260640"/>
            <a:ext cx="8229240" cy="92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рганизация совместной жизнедеятельности детей в условиях инклюзивной группы</a:t>
            </a:r>
            <a:br>
              <a:rPr sz="32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03640" y="1124640"/>
            <a:ext cx="7365240" cy="5112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учете разнообразия индивидуальных особенностей детей особенно остро встает проблема общения между детьми, «выстраивание» отношений внутри группы. Основное, что пронизывает всю жизнь инклюзивной группы – это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зитивная атмосфера принятия и поддержки. При совместном воспитании с учетом индивидуальных особенностей дети получают опыт согласования своих интересов с интересами других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создание общности детей и взрослых, основанной на уважении и интересе к личности каждого члена группы, его индивидуальным особенностям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развитие коммуникативных навыков и культуры общения, создание позитивного эмоционального настроя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активизация способности выбирать, планировать, договариваться, распределять роли и обязанности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развитие умений и навыков игровой, познавательной, исследовательской деятельности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формирование навыков саморегуляции и самообслуживания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абочки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абочки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Бабочки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Бабочки</Template>
  <TotalTime>1411</TotalTime>
  <Application>LibreOffice/7.4.7.2$Linux_X86_64 LibreOffice_project/40$Build-2</Application>
  <AppVersion>15.0000</AppVersion>
  <Words>1398</Words>
  <Paragraphs>10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9:23:25Z</dcterms:created>
  <dc:creator>Наташа</dc:creator>
  <dc:description/>
  <dc:language>en-US</dc:language>
  <cp:lastModifiedBy>User</cp:lastModifiedBy>
  <cp:lastPrinted>2015-05-19T12:33:25Z</cp:lastPrinted>
  <dcterms:modified xsi:type="dcterms:W3CDTF">2020-01-08T07:24:00Z</dcterms:modified>
  <cp:revision>137</cp:revision>
  <dc:subject/>
  <dc:title>Проект:  Млекопитающие Кольского полуострова, занесенные в Красную книгу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