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FE2-0DB8-4551-9093-80F5B7CD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2D3-CF5E-42D6-97E2-BE10E15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629-81D6-4A91-8418-A6655118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698-B0D9-4A54-BBB0-4C6BFCEA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92D-F4BF-47AA-80A9-8729218A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E44-E5BA-4784-BF2B-AB49D22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DF3-05C9-41DB-9C8E-D733116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A04-D074-471F-88B0-71601700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B2C-746B-4EA7-8C26-084BD44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2B1-4361-42D2-954F-7230742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747-2EF0-4FAA-8C5D-251D1614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260-70A1-44CA-8DED-E93890B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5E5-2D6E-4ECE-92D1-4E625D8C5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rbis\Desktop\Рисунок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332000" y="549360"/>
            <a:ext cx="7127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Технология развития социальной активности личности в практике дополнительного образовани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03640" y="3933720"/>
            <a:ext cx="5689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былат Олег Леонидович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ель  физической культуры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БОУ Весёловская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. Вес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село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ост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Irbis\Desktop\Рисунок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826920" y="620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фори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рем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971640" y="3213000"/>
            <a:ext cx="763272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обучающимся осознанно выбрать дальнейши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viboronline.ru/wp-content/uploads/2019/02/effects-of-living-in-the-technological-world.jpg"/>
          <p:cNvPicPr/>
          <p:nvPr/>
        </p:nvPicPr>
        <p:blipFill>
          <a:blip r:embed="rId2"/>
          <a:stretch/>
        </p:blipFill>
        <p:spPr>
          <a:xfrm>
            <a:off x="4206960" y="3357720"/>
            <a:ext cx="73332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Irbis\Desktop\Рисунок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826920" y="2421000"/>
            <a:ext cx="81378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результа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готовность и способность обучающихся к саморазвитию и личностному самоопределению, сформированность их мотивации к обучению  и целенаправленной  познавательной  деятельности, системы значимых социальных и межличностных отношений, ценностно – смысловых установок, отражающих  личностные и гражданские позиции  в деятельности, социальные умения и навыки, правосознание, способность ставить цели и строить жизненные планы, способность к осознанию российской идентичности в поликультурном социу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 результа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военные обучающимися в ходе  изучения учебного предмета умения, специфические для  данной предметной области, виды деятельности по получению нового знания в рамках учебного предмета, его преобразованию и применению в учебных, учебно – проектных и социально – проектных ситуациях, формирование  научного типа мышления, научных представлений  о ключевых теориях, типах и видах отношений, владение научной терминологией, ключевыми понятиями, методами и приём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своенные обучающимися межпредметные понятия и универсальные учебные действия, способность их использования в учебной, познавательной и социальной практике, самостоятельность планирования и осуществления  учебной деятельности и организации учебного сотрудничества с педагогами и сверстниками, построение индивидуальной образовательной траек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116000" y="40464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ГОС способ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фориентационному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4" descr="https://avatars.mds.yandex.net/get-pdb/1813909/7dfd6f78-4596-467a-989e-ef04b1e1aa40/s375"/>
          <p:cNvPicPr/>
          <p:nvPr/>
        </p:nvPicPr>
        <p:blipFill>
          <a:blip r:embed="rId2"/>
          <a:stretch/>
        </p:blipFill>
        <p:spPr>
          <a:xfrm>
            <a:off x="7093080" y="907920"/>
            <a:ext cx="863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Irbis\Desktop\Рисунок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s://avatars.mds.yandex.net/get-pdb/1807426/0c832a4c-1eb1-427a-95dd-fc6919a0546c/s375"/>
          <p:cNvPicPr/>
          <p:nvPr/>
        </p:nvPicPr>
        <p:blipFill>
          <a:blip r:embed="rId2"/>
          <a:stretch/>
        </p:blipFill>
        <p:spPr>
          <a:xfrm>
            <a:off x="258840" y="-11795040"/>
            <a:ext cx="3571920" cy="267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https://avatars.mds.yandex.net/get-pdb/1807426/0c832a4c-1eb1-427a-95dd-fc6919a0546c/s375"/>
          <p:cNvPicPr/>
          <p:nvPr/>
        </p:nvPicPr>
        <p:blipFill>
          <a:blip r:embed="rId3"/>
          <a:stretch/>
        </p:blipFill>
        <p:spPr>
          <a:xfrm>
            <a:off x="258840" y="-17465760"/>
            <a:ext cx="3571920" cy="267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https://avatars.mds.yandex.net/get-pdb/1807426/0c832a4c-1eb1-427a-95dd-fc6919a0546c/s375"/>
          <p:cNvPicPr/>
          <p:nvPr/>
        </p:nvPicPr>
        <p:blipFill>
          <a:blip r:embed="rId4"/>
          <a:stretch/>
        </p:blipFill>
        <p:spPr>
          <a:xfrm>
            <a:off x="258840" y="-18608760"/>
            <a:ext cx="3571920" cy="2676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6"/>
          <p:cNvSpPr/>
          <p:nvPr/>
        </p:nvSpPr>
        <p:spPr>
          <a:xfrm>
            <a:off x="1042920" y="115848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ртр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ременного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042920" y="3465720"/>
            <a:ext cx="74898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от цифровых технологий (предпочтение отдаётся онлайн-общению в виртуальном пространс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быть успешными, не прикладывая значительных усилий к учёбе, профессиональному стано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сть на потребление, индивидуа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как можно раньше всё попробовать и испытать (в моде — экстрим и жажда развлеч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установлении прямого контакта с людьми, погружённость в себя — как защита от проблем современн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Irbis\Desktop\Рисунок4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ttps://avatars.mds.yandex.net/get-pdb/1807426/0c832a4c-1eb1-427a-95dd-fc6919a0546c/s375"/>
          <p:cNvPicPr/>
          <p:nvPr/>
        </p:nvPicPr>
        <p:blipFill>
          <a:blip r:embed="rId2"/>
          <a:stretch/>
        </p:blipFill>
        <p:spPr>
          <a:xfrm>
            <a:off x="258840" y="-18608760"/>
            <a:ext cx="3571920" cy="2676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1042920" y="692280"/>
            <a:ext cx="38163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Профе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для поколения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900000" y="2690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ей поколения Z называют также «цифровыми людь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представители этого поколения будут заниматься инженерно-техническими вопросами, биомедициной, робототехникой и искус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s://im0-tub-ru.yandex.net/i?id=5fd867beff52d41899c6f21e13a150a9&amp;n=13"/>
          <p:cNvPicPr/>
          <p:nvPr/>
        </p:nvPicPr>
        <p:blipFill>
          <a:blip r:embed="rId3"/>
          <a:stretch/>
        </p:blipFill>
        <p:spPr>
          <a:xfrm>
            <a:off x="6227640" y="1052640"/>
            <a:ext cx="1311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Documents and Settings\Олег\Рабочий стол\01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C:\Users\Irbis\Documents\1319604.jpg"/>
          <p:cNvPicPr/>
          <p:nvPr/>
        </p:nvPicPr>
        <p:blipFill>
          <a:blip r:embed="rId2"/>
          <a:stretch/>
        </p:blipFill>
        <p:spPr>
          <a:xfrm>
            <a:off x="3511440" y="333360"/>
            <a:ext cx="5413320" cy="6048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42100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курсии </a:t>
            </a:r>
            <a:br>
              <a:rPr sz="36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тский город «Кидбург»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овский дельфинар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огательный зоопарк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терактивный музей наук «Лабораториум»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аусиная ферм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зей ж/д техники под открытым небом г. Ростов-на-Дон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на конюшню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 в г. Сочи - столицу олимпийских игр-2014г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в районную библиотек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л боевой Славы х.Казач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зей МБОУ Весёловская СОШ №1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овский государственный театр кукол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в Веселовский центр творчества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в г. Аксай, музей военной техники под открытым небо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г. Старочеркасск – музей-заповедник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зей птиц Донского края (выездная экспозиция Азовского музея краеведения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скурсия на предприятия п.Весёлый «Профессии наших родителей»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1116000" y="8325000"/>
            <a:ext cx="33796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2286000" y="2550960"/>
            <a:ext cx="4572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:\Documents and Settings\Олег\Рабочий стол\01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429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ализация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ых проектов</a:t>
            </a:r>
            <a:br>
              <a:rPr sz="4000"/>
            </a:br>
            <a:br>
              <a:rPr sz="4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1285920" y="1428480"/>
            <a:ext cx="1285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4857840" y="142884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и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добру на Д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стый посе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д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вети, 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уем всей сем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ключи себя в историю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оровом теле – здоровый 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ушка для 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357120" y="17859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ственский перезв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арок сол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рмите птиц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арок библи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-залог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еленый уг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м дерево (сбор макул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ИР (оформление клумбы на центральной аллее посел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в истории м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11:57:36Z</dcterms:created>
  <dc:creator>Пользователь</dc:creator>
  <dc:description/>
  <dc:language>en-US</dc:language>
  <cp:lastModifiedBy>Irbis</cp:lastModifiedBy>
  <dcterms:modified xsi:type="dcterms:W3CDTF">2020-01-07T22:21:26Z</dcterms:modified>
  <cp:revision>405</cp:revision>
  <dc:subject/>
  <dc:title>Слайд 1</dc:title>
</cp:coreProperties>
</file>