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4.jpeg" ContentType="image/jpeg"/>
  <Override PartName="/ppt/media/image22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3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457-C272-4C54-8E75-3AADDC31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AEFE-D0B5-4342-9A7E-A854077F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B255-FEEF-4B41-A97D-27E81728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F5D-A5A6-40FC-91A0-83A4BA09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661-8ADF-43DD-82F4-5DA0AE92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1FA-F4B5-4315-A7E5-BC3943AB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CC3-0937-4449-BA64-8C1C901D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85EA-C89C-4BFE-8EE5-ADA2D8B9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68EF-88E6-4CEC-A78B-68C76442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9B1-8CC3-4C59-AB28-EA4CA446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058-F614-4AB4-9864-1C548D8A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5BDF-581A-40FA-A11C-9A2C8004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3000-88EB-4DC1-9831-CF329BF20E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ма :</a:t>
            </a:r>
            <a:br>
              <a:rPr sz="4000"/>
            </a:b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«</a:t>
            </a:r>
            <a:r>
              <a:rPr b="1" i="1" lang="ru-RU" sz="4000" spc="-1" strike="noStrike">
                <a:solidFill>
                  <a:srgbClr val="00cc00"/>
                </a:solidFill>
                <a:latin typeface="Times New Roman"/>
              </a:rPr>
              <a:t>Здоровье - главное богатство человека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1"/>
          <p:cNvSpPr/>
          <p:nvPr/>
        </p:nvSpPr>
        <p:spPr>
          <a:xfrm>
            <a:off x="2411280" y="3715200"/>
            <a:ext cx="619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ви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«Идти вперед и не сдаваться!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1619280" y="480384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утиева Фатима Станиславовн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КОУ СОШ №2 им. А.Н. Кесае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Дигоры Дигорского района РСО-Ал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http://www.xxlbook.ru/imgh320055.png"/>
          <p:cNvPicPr/>
          <p:nvPr/>
        </p:nvPicPr>
        <p:blipFill>
          <a:blip r:embed="rId1"/>
          <a:stretch/>
        </p:blipFill>
        <p:spPr>
          <a:xfrm>
            <a:off x="1403280" y="981000"/>
            <a:ext cx="68407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684360" y="198360"/>
            <a:ext cx="813564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Чтобы сберечь зрение нужно выполнять  гимнастику для глаз,  а также соблюдать правила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читай лежа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клоняйся близко при чтении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грай с взрывоопасными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ами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отри долго телевизор,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грай долго в компьютерные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й гимнастику для глаз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3203640" y="1125360"/>
            <a:ext cx="2781360" cy="35528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3347280" y="5137920"/>
            <a:ext cx="363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006699"/>
                </a:solidFill>
                <a:latin typeface="Times New Roman"/>
              </a:rPr>
              <a:t>Закаливание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»</a:t>
            </a: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8" descr="42096257_0post71144384999"/>
          <p:cNvPicPr/>
          <p:nvPr/>
        </p:nvPicPr>
        <p:blipFill>
          <a:blip r:embed="rId2"/>
          <a:stretch/>
        </p:blipFill>
        <p:spPr>
          <a:xfrm>
            <a:off x="0" y="4149720"/>
            <a:ext cx="3247920" cy="2368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sunhome.ru/UsersGallery/journal/04200720222631.jpg"/>
          <p:cNvPicPr/>
          <p:nvPr/>
        </p:nvPicPr>
        <p:blipFill>
          <a:blip r:embed="rId3"/>
          <a:stretch/>
        </p:blipFill>
        <p:spPr>
          <a:xfrm>
            <a:off x="6948360" y="2349360"/>
            <a:ext cx="14288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http://static.ozone.ru/multimedia/books_covers/1004278389.jpg"/>
          <p:cNvPicPr/>
          <p:nvPr/>
        </p:nvPicPr>
        <p:blipFill>
          <a:blip r:embed="rId1"/>
          <a:stretch/>
        </p:blipFill>
        <p:spPr>
          <a:xfrm>
            <a:off x="1238400" y="1166760"/>
            <a:ext cx="66672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3780000" y="1052640"/>
            <a:ext cx="2676240" cy="30463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2989800" y="4851000"/>
            <a:ext cx="59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Times New Roman"/>
              </a:rPr>
              <a:t>«Чистота – залог здоровья»</a:t>
            </a:r>
            <a:r>
              <a:rPr b="0" lang="ru-RU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9" descr="i?id=544094214-63-72&amp;n=21"/>
          <p:cNvPicPr/>
          <p:nvPr/>
        </p:nvPicPr>
        <p:blipFill>
          <a:blip r:embed="rId2"/>
          <a:stretch/>
        </p:blipFill>
        <p:spPr>
          <a:xfrm>
            <a:off x="611280" y="4221000"/>
            <a:ext cx="19447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611280" y="330480"/>
            <a:ext cx="8208720" cy="61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ть руки перед едой, вода и мыло уничтожают микроб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 ухаживать за зубами, чистить зубы два раза в де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убную щетку менять раз в 3 -4 меся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реже одного раза в неделю мыться горячей водо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хаживать за ногтями и волосами, ногти необходимо один раз в неделю подстригать ножницами, волосы необходимо ежедневно расчесывать, не реже одного раза в неделю мыть волосы с шампун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ть в чистоте одежду и обувь, помещение, в котором живеш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жедневно делать влажную уборк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 время и после водных процедур мы используем средства личной гигиены. Важно помнить, что эти вещи должны быть у каждого сво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Г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 должны определить, какие предметы у каждого человека должны быть личными, а какими могут пользоваться все члены семь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http://goodposuda.ru/UserFiles/Image/img1347_23961.jpg"/>
          <p:cNvPicPr/>
          <p:nvPr/>
        </p:nvPicPr>
        <p:blipFill>
          <a:blip r:embed="rId1"/>
          <a:stretch/>
        </p:blipFill>
        <p:spPr>
          <a:xfrm>
            <a:off x="611280" y="2602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http://kosmetika.potrebitel.ru/1505/images/08402.jpg"/>
          <p:cNvPicPr/>
          <p:nvPr/>
        </p:nvPicPr>
        <p:blipFill>
          <a:blip r:embed="rId2"/>
          <a:stretch/>
        </p:blipFill>
        <p:spPr>
          <a:xfrm>
            <a:off x="4211640" y="620640"/>
            <a:ext cx="2857320" cy="2571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http://www.toptom.ru/images/big/78096-60x60.jpg"/>
          <p:cNvPicPr/>
          <p:nvPr/>
        </p:nvPicPr>
        <p:blipFill>
          <a:blip r:embed="rId3"/>
          <a:stretch/>
        </p:blipFill>
        <p:spPr>
          <a:xfrm>
            <a:off x="2556000" y="155736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http://blog.eda-server.ru/wp-content/uploads/2009/09/lojka.jpg"/>
          <p:cNvPicPr/>
          <p:nvPr/>
        </p:nvPicPr>
        <p:blipFill>
          <a:blip r:embed="rId4"/>
          <a:stretch/>
        </p:blipFill>
        <p:spPr>
          <a:xfrm>
            <a:off x="5219640" y="1628640"/>
            <a:ext cx="2737080" cy="2737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http://i.obozrevatel.ua/8/693281/387617_image_large.jpg"/>
          <p:cNvPicPr/>
          <p:nvPr/>
        </p:nvPicPr>
        <p:blipFill>
          <a:blip r:embed="rId5"/>
          <a:stretch/>
        </p:blipFill>
        <p:spPr>
          <a:xfrm>
            <a:off x="755640" y="4253040"/>
            <a:ext cx="2664000" cy="1776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http://fashiony.ru/pic_cos/6/29/m/8872.jpg"/>
          <p:cNvPicPr/>
          <p:nvPr/>
        </p:nvPicPr>
        <p:blipFill>
          <a:blip r:embed="rId6"/>
          <a:stretch/>
        </p:blipFill>
        <p:spPr>
          <a:xfrm>
            <a:off x="1763640" y="333360"/>
            <a:ext cx="2095560" cy="3219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1" descr="http://darudar.org/var/files/img/31/90/3190b96c0e47c8900796d6ad4aa0abc3_600.png"/>
          <p:cNvPicPr/>
          <p:nvPr/>
        </p:nvPicPr>
        <p:blipFill>
          <a:blip r:embed="rId7"/>
          <a:stretch/>
        </p:blipFill>
        <p:spPr>
          <a:xfrm>
            <a:off x="5148360" y="260280"/>
            <a:ext cx="2628720" cy="457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3" descr="http://www.toyway.ru/upload/resize_cache/iblock/ab4/350_1000_1/ab49a053a75a595a39a52cee94e5e927.jpg"/>
          <p:cNvPicPr/>
          <p:nvPr/>
        </p:nvPicPr>
        <p:blipFill>
          <a:blip r:embed="rId8"/>
          <a:stretch/>
        </p:blipFill>
        <p:spPr>
          <a:xfrm>
            <a:off x="971640" y="333360"/>
            <a:ext cx="3333600" cy="3324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5" descr="http://www.elson.ru/upload/112000/g111590.jpg"/>
          <p:cNvPicPr/>
          <p:nvPr/>
        </p:nvPicPr>
        <p:blipFill>
          <a:blip r:embed="rId9"/>
          <a:stretch/>
        </p:blipFill>
        <p:spPr>
          <a:xfrm>
            <a:off x="4140360" y="3800520"/>
            <a:ext cx="360036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987640" y="1125360"/>
            <a:ext cx="2760840" cy="337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2410560" y="4838040"/>
            <a:ext cx="520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99"/>
                </a:solidFill>
                <a:latin typeface="Times New Roman"/>
              </a:rPr>
              <a:t>«</a:t>
            </a: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Здоровый</a:t>
            </a:r>
            <a:r>
              <a:rPr b="1" lang="ru-RU" sz="3200" spc="-1" strike="noStrike">
                <a:solidFill>
                  <a:srgbClr val="ff6699"/>
                </a:solidFill>
                <a:latin typeface="Times New Roman"/>
              </a:rPr>
              <a:t> образ жизни!»</a:t>
            </a:r>
            <a:r>
              <a:rPr b="0" lang="ru-RU" sz="1800" spc="-1" strike="noStrike">
                <a:solidFill>
                  <a:srgbClr val="ff66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i?id=351256625-17-72&amp;n=21"/>
          <p:cNvPicPr/>
          <p:nvPr/>
        </p:nvPicPr>
        <p:blipFill>
          <a:blip r:embed="rId1"/>
          <a:stretch/>
        </p:blipFill>
        <p:spPr>
          <a:xfrm>
            <a:off x="539640" y="404640"/>
            <a:ext cx="227664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i?id=354541866-42-72&amp;n=21"/>
          <p:cNvPicPr/>
          <p:nvPr/>
        </p:nvPicPr>
        <p:blipFill>
          <a:blip r:embed="rId2"/>
          <a:stretch/>
        </p:blipFill>
        <p:spPr>
          <a:xfrm>
            <a:off x="7093080" y="692280"/>
            <a:ext cx="1923840" cy="1428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i?id=467932670-48-72&amp;n=21"/>
          <p:cNvPicPr/>
          <p:nvPr/>
        </p:nvPicPr>
        <p:blipFill>
          <a:blip r:embed="rId3"/>
          <a:stretch/>
        </p:blipFill>
        <p:spPr>
          <a:xfrm>
            <a:off x="539640" y="5013360"/>
            <a:ext cx="2257560" cy="142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i?id=175784956-45-72&amp;n=21"/>
          <p:cNvPicPr/>
          <p:nvPr/>
        </p:nvPicPr>
        <p:blipFill>
          <a:blip r:embed="rId4"/>
          <a:stretch/>
        </p:blipFill>
        <p:spPr>
          <a:xfrm>
            <a:off x="7164360" y="4941720"/>
            <a:ext cx="1800360" cy="173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http://www.tvorite.ru/uploads/posts/2011-03/thumbs/1300969600_0025.jpg"/>
          <p:cNvPicPr/>
          <p:nvPr/>
        </p:nvPicPr>
        <p:blipFill>
          <a:blip r:embed="rId5"/>
          <a:stretch/>
        </p:blipFill>
        <p:spPr>
          <a:xfrm>
            <a:off x="2905200" y="2266920"/>
            <a:ext cx="33336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392720" cy="19036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3217320" y="4190400"/>
            <a:ext cx="331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ff"/>
                </a:solidFill>
                <a:latin typeface="Times New Roman"/>
              </a:rPr>
              <a:t>«Режим дня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980360" y="691560"/>
            <a:ext cx="56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«Человек – часть природы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8" descr="original"/>
          <p:cNvPicPr/>
          <p:nvPr/>
        </p:nvPicPr>
        <p:blipFill>
          <a:blip r:embed="rId1"/>
          <a:srcRect l="0" t="11688" r="0" b="0"/>
          <a:stretch/>
        </p:blipFill>
        <p:spPr>
          <a:xfrm>
            <a:off x="1116000" y="1989000"/>
            <a:ext cx="3675240" cy="3710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280188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дъем: 7.0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жно пораньше встать, чтобы успеть заправить крова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рядка. 7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ё у нас в порядке, спасибо заряд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Гигиенические процедуры. 7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день прошёл на ура, нам нужна в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втрак: 7.3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кусна полезная еда и скажем каше -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орога от дома до школы 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шком пройдусь и воздухом свежим надышу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нятия 8.30 – 13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школе я поучусь и ума наберу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ct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уть домой. Обед  13.3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 болезней не боюсь, с супом луком я лечус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 algn="ct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тдых в 14.0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ежу, поиграю и мяч на улице погоня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 algn="ct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машнее задание в 15.3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ё я выучи и 12 получ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 algn="ct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мощь по дому 17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 algn="ct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м родным я помогу, чем смог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 algn="ct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жин в 19.00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ряд энергии нужен? Садись на уж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 algn="ct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вободное время 19.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читаю, поиграю ни кому я не меша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 algn="ct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игиенические процедуры. Сон в 20.30-21.0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бы силы восстановить нужно со сном дружи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276720" y="1197000"/>
            <a:ext cx="2685960" cy="3524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3134160" y="50846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Times New Roman"/>
              </a:rPr>
              <a:t>«Здоровое питани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-38772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000000"/>
                </a:solidFill>
                <a:latin typeface="Times New Roman"/>
              </a:rPr>
              <a:t>Здоровое питание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47640" y="5660640"/>
            <a:ext cx="6400800" cy="20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Полезная и вредная пища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&amp;Kcy;&amp;ucy;&amp;rcy;&amp;gcy;&amp;acy;&amp;ncy;&amp;scy;&amp;kcy;&amp;icy;&amp;iecy; &amp;ncy;&amp;acy;&amp;lcy;&amp;ocy;&amp;gcy;&amp;ocy;&amp;vcy;&amp;icy;&amp;kcy;&amp;icy; &amp;ncy;&amp;acy;&amp;shcy;&amp;lcy;&amp;icy; &amp;zcy;&amp;lcy;&amp;ocy;&amp;scy;&amp;tcy;&amp;ncy;&amp;ocy;&amp;gcy;&amp;ocy; &amp;ncy;&amp;iecy;&amp;pcy;&amp;lcy;&amp;acy;&amp;tcy;&amp;iecy;&amp;lcy;&amp;softcy;&amp;shchcy;&amp;icy;&amp;kcy;&amp;acy;. &amp;Ocy;&amp;ncy; &amp;zcy;&amp;acy;&amp;dcy;&amp;ocy;&amp;lcy;&amp;zhcy;&amp;acy;&amp;lcy; &amp;mcy;&amp;icy;&amp;lcy;&amp;lcy;&amp;icy;&amp;ocy;&amp;ncy;&amp;ycy;, &amp;ncy;&amp;acy;&amp;zhcy;&amp;icy;&amp;tcy;&amp;ycy;&amp;iecy; &amp;ncy;&amp;acy; &amp;tcy;&amp;ocy;&amp;rcy;&amp;gcy;&amp;ocy;&amp;vcy;&amp;lcy;&amp;iecy; &amp;fcy;&amp;rcy;&amp;ucy;&amp;kcy;&amp;tcy;&amp;acy;&amp;mcy;&amp;icy; - &amp;ncy;&amp;ocy;&amp;vcy;&amp;ocy;&amp;scy;&amp;tcy;&amp;softcy; &amp;ncy;&amp;acy; URA.ru"/>
          <p:cNvPicPr/>
          <p:nvPr/>
        </p:nvPicPr>
        <p:blipFill>
          <a:blip r:embed="rId1"/>
          <a:stretch/>
        </p:blipFill>
        <p:spPr>
          <a:xfrm>
            <a:off x="1403280" y="1341360"/>
            <a:ext cx="6658200" cy="41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авильное пита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Organization Chart 8"/>
          <p:cNvGrpSpPr/>
          <p:nvPr/>
        </p:nvGrpSpPr>
        <p:grpSpPr>
          <a:xfrm>
            <a:off x="468360" y="1844640"/>
            <a:ext cx="8208360" cy="2347200"/>
            <a:chOff x="468360" y="1844640"/>
            <a:chExt cx="8208360" cy="2347200"/>
          </a:xfrm>
        </p:grpSpPr>
        <p:cxnSp>
          <p:nvCxnSpPr>
            <p:cNvPr id="55" name="_s1028"/>
            <p:cNvCxnSpPr>
              <a:stCxn id="56" idx="0"/>
              <a:endCxn id="57" idx="2"/>
            </p:cNvCxnSpPr>
            <p:nvPr/>
          </p:nvCxnSpPr>
          <p:spPr>
            <a:xfrm flipV="1" rot="16200000">
              <a:off x="5774040" y="1581120"/>
              <a:ext cx="470160" cy="2873520"/>
            </a:xfrm>
            <a:prstGeom prst="bentConnector3">
              <a:avLst>
                <a:gd name="adj1" fmla="val 127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29"/>
            <p:cNvCxnSpPr>
              <a:stCxn id="59" idx="0"/>
              <a:endCxn id="57" idx="2"/>
            </p:cNvCxnSpPr>
            <p:nvPr/>
          </p:nvCxnSpPr>
          <p:spPr>
            <a:xfrm flipV="1">
              <a:off x="4572720" y="2783160"/>
              <a:ext cx="3600" cy="47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30"/>
            <p:cNvCxnSpPr>
              <a:stCxn id="61" idx="0"/>
              <a:endCxn id="57" idx="2"/>
            </p:cNvCxnSpPr>
            <p:nvPr/>
          </p:nvCxnSpPr>
          <p:spPr>
            <a:xfrm flipH="1" flipV="1" rot="5400000">
              <a:off x="2900880" y="1581480"/>
              <a:ext cx="470160" cy="2873520"/>
            </a:xfrm>
            <a:prstGeom prst="bentConnector3">
              <a:avLst>
                <a:gd name="adj1" fmla="val 127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" name="_s1031"/>
            <p:cNvSpPr/>
            <p:nvPr/>
          </p:nvSpPr>
          <p:spPr>
            <a:xfrm>
              <a:off x="3341160" y="1844640"/>
              <a:ext cx="2462400" cy="93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Пищеварение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1032"/>
            <p:cNvSpPr/>
            <p:nvPr/>
          </p:nvSpPr>
          <p:spPr>
            <a:xfrm>
              <a:off x="468360" y="3252960"/>
              <a:ext cx="2462400" cy="93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Белки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1033"/>
            <p:cNvSpPr/>
            <p:nvPr/>
          </p:nvSpPr>
          <p:spPr>
            <a:xfrm>
              <a:off x="3341160" y="3252960"/>
              <a:ext cx="2462400" cy="93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Углеводы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1034"/>
            <p:cNvSpPr/>
            <p:nvPr/>
          </p:nvSpPr>
          <p:spPr>
            <a:xfrm>
              <a:off x="6214320" y="3252960"/>
              <a:ext cx="2462400" cy="93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Жиры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Rectangle 16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69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628344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8"/>
          <p:cNvSpPr/>
          <p:nvPr/>
        </p:nvSpPr>
        <p:spPr>
          <a:xfrm>
            <a:off x="539640" y="4581360"/>
            <a:ext cx="2448000" cy="201636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9"/>
          <p:cNvSpPr/>
          <p:nvPr/>
        </p:nvSpPr>
        <p:spPr>
          <a:xfrm>
            <a:off x="6227640" y="4581360"/>
            <a:ext cx="2448000" cy="201636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3492360" y="4653000"/>
            <a:ext cx="2448000" cy="2016000"/>
          </a:xfrm>
          <a:prstGeom prst="rec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ню на день для школьни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67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автра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йцо, творог со сметаной; или молочную кашу. Хлеб с маслом и сыром, чай или кака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67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бе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п куриный, кусочек тушенного мяса с макаронами или картофелем.  Компот из сухофрук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67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лд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сок, фрук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67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жи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вощное рагу или рыбные блюда с  крупами. Ча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2583000" cy="28940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2266560" y="4797360"/>
            <a:ext cx="48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«Движение – это жизнь!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Фатима</cp:lastModifiedBy>
  <dcterms:modified xsi:type="dcterms:W3CDTF">2020-01-08T14:57:07Z</dcterms:modified>
  <cp:revision>27</cp:revision>
  <dc:subject/>
  <dc:title>Слайд 1</dc:title>
</cp:coreProperties>
</file>