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B16A-4394-49D0-A180-AC53741CF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0E8B-4D07-4EAF-9585-C181EE13FB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052-00AD-45AC-9317-7C9107FDA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6060-DD88-479E-9D79-7C48E4026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6D6-19C5-482F-85F8-D1B7AE0A7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8390-AC6B-4B9A-BAB5-F4CB8A24E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D967-6FAA-4A5A-80CA-B4DC63FD0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905-D6B6-450A-AA33-8578AEC45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956-A39E-4744-808E-25E6BB79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6E7-B1EA-4A27-8E86-E34CB4DB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B8B-06F4-4DD2-A260-9E1D1076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896-336B-41A3-A5E0-3E4740B8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4232-E432-4159-8E28-8123DFB0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62D6-DDB0-451B-AC5E-E50D9AFC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9DE-776D-41A4-8784-EDBD36C4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B468-3B32-4637-A75C-35A1EC9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7CCB-4A97-4293-9E4D-3C27839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761C-52BF-4AE6-93C4-E337BCD5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D58-0661-4351-8F23-D927A00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4BC-0722-45D4-B703-A5151091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F19E-5754-48CE-90D7-B5F082B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C12-04F2-466B-B305-8A04F24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6A87-0EC2-4684-801A-74CC086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0E2-A977-4E56-BB3E-AF9B5612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3651-2B67-4580-BA64-59D317EF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ED24-D464-4EA6-8144-9552E79F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12A3-C5A4-4E89-97B0-D40253FD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F1AB-EF0C-4286-9F46-FDC943D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1D07-2172-40F0-94B5-A0637EA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4850-1C15-4F74-AE7E-9C0C2BF1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4EA-3B85-45E1-8942-F1D138AD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1055-BA3F-485C-B998-CD6A0F03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616F-7AE5-42AA-99FE-7DDE80B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E8F1-CE4D-4F73-8537-7FAF4DB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FC75-7493-4F9F-83EB-9EB5E50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D46E-7F24-4995-A3AE-B025090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4372-0C5A-4A10-840E-84706C65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90AE-98AD-4607-9758-751EB0A7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9D6B-84F7-4C32-8619-9B3F20C3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24E3-DCF4-4ABB-B2FE-7806E28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F86C4-9C08-4C7A-A805-9D0E1533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2E6-1112-43BB-89E1-4581DDF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8395-43D4-4E33-B84D-B481112C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922F-7F53-480E-9E66-CFD643E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1715-DC3C-4788-9036-E8285DF6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5ADF-3E4F-46F2-8032-CCCDB0F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A325-57DC-4C47-8E9A-332CAFB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ABDBE-F54A-4015-8965-7B4DEE8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F858-D74E-4725-A14C-A2B87476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22BC-2878-425D-849B-2706F757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C7B2-C423-43D6-ABB0-4A86EBDA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DA068-A182-4C99-BEC9-10F87E9E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913-1CB2-4DCD-A362-71F21BA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7E839-8AFE-4AB6-97F6-9CC35351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EFA94-9176-4444-A5AE-8A42622D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733CE-5282-4B60-8B28-91DA8D5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45260-0CDE-4A00-B32D-A28C57C4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94E1C-C58C-4F5A-B9EA-C947E0DB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03468-2420-49F6-B799-ECF8E62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DD47A-0126-4413-8991-F7EB31F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E2949-75AD-496A-B9C5-B29BAD65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B6C9E-C509-4DCB-8F70-4526384F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D59C2-EE2F-4B68-BA88-21B22D38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57A-9A76-49E7-B3D1-DA405B63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59094-7CC8-4C95-B3F5-D069128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BCD76-33C6-4FF6-9D11-F754E29A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42A9D-8A73-4FE1-997F-01DB653E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039B4-633E-40A3-90C1-0909AC07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C966D-FD6D-46D1-8663-E942FA7F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1197C-16D9-466E-A565-02E8D2C6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6B2A5-A922-4E16-A1EF-C87090C4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E45C8-0B65-4217-9995-93E4647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581F4-9D68-42AA-B18B-88F2ABE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EA98F-911C-46EA-BD2C-5AF090F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66B-8BC3-4C6B-9A0E-94BED6B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E5BA3-54C2-42D6-A1EF-8D6B30A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111E3-F4F5-4C9C-975C-8DF4355E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EAEE2-C14A-479E-808D-46ED9A58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37D-055E-441C-8611-93C0B39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482-933F-472C-8B98-6A0AB47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174-3353-4670-B99B-5CE79110C6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421-623F-40D9-BFB8-64E0D871BF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87F0-F60B-4BF1-BD57-C5B7AC055B4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E865-B4AC-46AF-AAC4-719B7168C6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BF55-F43A-4229-B6A8-2243A514F0D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CEF5-07E1-4D1E-8184-C4C0C155390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708360" y="6237360"/>
            <a:ext cx="1584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090440" y="1206360"/>
            <a:ext cx="7626600" cy="30844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643280" y="4508640"/>
            <a:ext cx="4119840" cy="180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едагог Титов Денис Александрович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ОУ ДОД «Исилькульская станция юных техников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708360" y="6237360"/>
            <a:ext cx="15778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мск 2009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втомодельный круж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850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личество детей в группе-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раст воспитанников-11-15 л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руппа разновозрастная  с различным уровнем физического, умственного и интеллектуального разви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можность выполн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ктического задания -10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можность реш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обретательской задачи –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редня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ема занятия:                         «Сцепные свойства колеса»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71640" y="1699920"/>
            <a:ext cx="76327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907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-ый год обучения.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дел «Модели легковых и грузовых автомобилей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раздел «Колесо автомобиля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нятие средней степени слож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dfd0"/>
                </a:solidFill>
                <a:latin typeface="Constantia"/>
              </a:rPr>
              <a:t>Цель занятия:</a:t>
            </a:r>
            <a:r>
              <a:rPr b="0" lang="ru-RU" sz="3000" spc="-1" strike="noStrike">
                <a:solidFill>
                  <a:srgbClr val="85dfd0"/>
                </a:solidFill>
                <a:latin typeface="Constantia"/>
              </a:rPr>
              <a:t> </a:t>
            </a:r>
            <a:br>
              <a:rPr sz="3000"/>
            </a:br>
            <a:r>
              <a:rPr b="0" lang="ru-RU" sz="3300" spc="-1" strike="noStrike">
                <a:solidFill>
                  <a:srgbClr val="85dfd0"/>
                </a:solidFill>
                <a:latin typeface="Constantia"/>
              </a:rPr>
              <a:t>Развитие творческого мышления и исследовательских навыков воспитанников через  изучение сцепных свойств колеса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6056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сновные аспекты целеполага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7640" y="177300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знакомление воспитанников с различными материалами из которых может быть изготовлено колес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е творческого мышления детей при решении исследовательских задач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умений наблюдать и анализировать, выделять существенные признаки и на их основе делать выв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ние сознательности и ответствен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 занятие вошли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ие с помощью «мозгового штурма» материалов, из которых может быть изготовлено колес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бучение приему анализа полученной информ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бсуждение и сопоставление свойств материа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18920" y="692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4617b"/>
                </a:solidFill>
                <a:latin typeface="Calibri"/>
              </a:rPr>
              <a:t>Необходимые инструменты и материалы:</a:t>
            </a:r>
            <a:br>
              <a:rPr sz="3300"/>
            </a:b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6560" y="2071440"/>
            <a:ext cx="7674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асти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ревянный брус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елезная круглая болван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астиковое покрыт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250920" y="786600"/>
            <a:ext cx="81788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занятия используются 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е методы обучения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еседа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екция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тодика ТРИЗ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зговой штурм»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исследовательская работа и её  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ие                                   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шение исследовательской задач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50560" y="1773360"/>
            <a:ext cx="84978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«мозгового штурма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ллективное определение ряда материалов, наиболее подходящих для изготовления колё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уппа справилась с задачей с интересом, выбрав несколько вариантов :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дерев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ласти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рез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0:19:00Z</dcterms:created>
  <dc:creator>Admin</dc:creator>
  <dc:description/>
  <dc:language>en-US</dc:language>
  <cp:lastModifiedBy>SamLab.ws</cp:lastModifiedBy>
  <dcterms:modified xsi:type="dcterms:W3CDTF">2008-12-05T18:20:24Z</dcterms:modified>
  <cp:revision>20</cp:revision>
  <dc:subject/>
  <dc:title>Презентация проекта учебного занятия «_____» с применением ТРИЗ</dc:title>
</cp:coreProperties>
</file>