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10691813" cy="755967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87320" y="750960"/>
            <a:ext cx="531360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407F-A55F-49F7-BE83-A9CDBC4B990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87320" y="750960"/>
            <a:ext cx="5313600" cy="375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8BA7-49DA-4776-944F-6D7AD74F4F1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F90-BC12-4758-A585-A44C71CE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FBB-2966-48E0-979C-A5D1E7BA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7EB-C9C6-4E99-BE1D-88051FBF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A66-DD9F-4807-B36A-2275D51A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520-8B16-4DB1-85B9-D5C0D374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443-7B73-4D63-8EA4-79B84CF5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8C6-EBD4-4861-89E2-86F0E4FD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A93-767E-4AE8-8ECC-72F370F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B94-5AB3-4163-A6AC-E6D708D1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BA0-B256-43DC-AE75-B43B0A22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719-D095-4DC5-900B-38F4497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609-9888-4618-9C9F-22C81FB6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1F9F-66A9-4539-BCF0-50A223AA248F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41320" y="1001880"/>
            <a:ext cx="9009000" cy="627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50358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i="1" lang="en-US" sz="41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9" name="Picture 7" descr="5"/>
          <p:cNvPicPr/>
          <p:nvPr/>
        </p:nvPicPr>
        <p:blipFill>
          <a:blip r:embed="rId3"/>
          <a:stretch/>
        </p:blipFill>
        <p:spPr>
          <a:xfrm>
            <a:off x="3724200" y="2192400"/>
            <a:ext cx="3173400" cy="4589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TextBox 1"/>
          <p:cNvSpPr/>
          <p:nvPr/>
        </p:nvSpPr>
        <p:spPr>
          <a:xfrm>
            <a:off x="293760" y="525600"/>
            <a:ext cx="102726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Семинар-практикум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«Волшебный мир тряпичной куклы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4"/>
          <a:stretch/>
        </p:blipFill>
        <p:spPr>
          <a:xfrm rot="21001200">
            <a:off x="560520" y="2789280"/>
            <a:ext cx="2601720" cy="4030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Picture 4" descr="3"/>
          <p:cNvPicPr/>
          <p:nvPr/>
        </p:nvPicPr>
        <p:blipFill>
          <a:blip r:embed="rId5"/>
          <a:stretch/>
        </p:blipFill>
        <p:spPr>
          <a:xfrm rot="661800">
            <a:off x="7537320" y="3036960"/>
            <a:ext cx="2722680" cy="3786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250880" y="367920"/>
            <a:ext cx="6442200" cy="6545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кла — Веник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могала хозяйке "вымести сор из избы". Конечно, это был не материальный мусор, а сор, из-за которого происходили ссоры, разлад в доме. Изготавливалась она, как правило, из трав, соломы, лыка. Одежда куклы состояла из сарафанчика и платочка. По наряду куклы можно было определить место ее «рождения». Данная кукла бытовала в центральных и южных губер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"/>
          <p:cNvPicPr/>
          <p:nvPr/>
        </p:nvPicPr>
        <p:blipFill>
          <a:blip r:embed="rId1"/>
          <a:stretch/>
        </p:blipFill>
        <p:spPr>
          <a:xfrm>
            <a:off x="274680" y="422280"/>
            <a:ext cx="4086360" cy="6073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88920" y="4731840"/>
            <a:ext cx="9072720" cy="2303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6000"/>
          </a:bodyPr>
          <a:p>
            <a:pPr marL="37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Куклы -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Лихорадки.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венадцать куколок, спеленатые, как младенцы, скрепленные вместе. Их помещали за печкой, чтобы их никто не видел. Лихорадки спасали от болез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DSCN1712"/>
          <p:cNvPicPr/>
          <p:nvPr/>
        </p:nvPicPr>
        <p:blipFill>
          <a:blip r:embed="rId1"/>
          <a:stretch/>
        </p:blipFill>
        <p:spPr>
          <a:xfrm>
            <a:off x="1060560" y="284040"/>
            <a:ext cx="8929440" cy="4359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79440" y="287280"/>
            <a:ext cx="6110280" cy="55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кла — Кубы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 копеечкой в объемистом тельце-мешочке дарили на Рождество. Считалос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 она притягивает в дом богатство. В Кубышку складывали не только деньги, но и набивали ее душистыми травами. Помнешь -потрогаешь такую кукольную толстушку-травницу, и разольется по избе лесной - полевой аром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im3-tub-ru.yandex.net/i?id=327710108-11-72&amp;n=21"/>
          <p:cNvPicPr/>
          <p:nvPr/>
        </p:nvPicPr>
        <p:blipFill>
          <a:blip r:embed="rId1"/>
          <a:stretch/>
        </p:blipFill>
        <p:spPr>
          <a:xfrm>
            <a:off x="6346800" y="351000"/>
            <a:ext cx="4086360" cy="367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im6-tub-ru.yandex.net/i?id=210660925-10-72&amp;n=21"/>
          <p:cNvPicPr/>
          <p:nvPr/>
        </p:nvPicPr>
        <p:blipFill>
          <a:blip r:embed="rId2"/>
          <a:stretch/>
        </p:blipFill>
        <p:spPr>
          <a:xfrm>
            <a:off x="6561000" y="4138560"/>
            <a:ext cx="3500640" cy="314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>
            <a:off x="4672080" y="301680"/>
            <a:ext cx="631836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вадка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(или Куватк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дна из самых простых обережных кукол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е делали накануне рождения ребенка (за две недели максимум) и вывешивали в избе, чтобы отвлекать внимание злых духов от роженицы и младе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зже кукол стали укладывать к колыбельки. Кувадки и защищали новорожденных, и служили им первыми игруш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im7-tub-ru.yandex.net/i?id=568774199-32-72&amp;n=21"/>
          <p:cNvPicPr/>
          <p:nvPr/>
        </p:nvPicPr>
        <p:blipFill>
          <a:blip r:embed="rId1"/>
          <a:stretch/>
        </p:blipFill>
        <p:spPr>
          <a:xfrm>
            <a:off x="345960" y="279360"/>
            <a:ext cx="39196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im4-tub-ru.yandex.net/i?id=229599212-57-72&amp;n=21"/>
          <p:cNvPicPr/>
          <p:nvPr/>
        </p:nvPicPr>
        <p:blipFill>
          <a:blip r:embed="rId2"/>
          <a:stretch/>
        </p:blipFill>
        <p:spPr>
          <a:xfrm>
            <a:off x="846000" y="3708360"/>
            <a:ext cx="2857680" cy="348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488880" y="368280"/>
            <a:ext cx="60008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кла — Бессониц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назначалась для детей, страдающих расстройствами сна, ее укладывали в кроватку не спящего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и изготовлении обязательным считался пригово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«Сонница -Бессоница, не играй с моим дитятком, а играй с этой куколкой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://im7-tub-ru.yandex.net/i?id=628363474-19-72&amp;n=21"/>
          <p:cNvPicPr/>
          <p:nvPr/>
        </p:nvPicPr>
        <p:blipFill>
          <a:blip r:embed="rId1"/>
          <a:stretch/>
        </p:blipFill>
        <p:spPr>
          <a:xfrm>
            <a:off x="6489720" y="299880"/>
            <a:ext cx="3857760" cy="317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im5-tub-ru.yandex.net/i?id=456361815-32-72&amp;n=21"/>
          <p:cNvPicPr/>
          <p:nvPr/>
        </p:nvPicPr>
        <p:blipFill>
          <a:blip r:embed="rId2"/>
          <a:stretch/>
        </p:blipFill>
        <p:spPr>
          <a:xfrm>
            <a:off x="6989760" y="3637080"/>
            <a:ext cx="2867040" cy="359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3917880" y="351000"/>
            <a:ext cx="634680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кла — Кормилка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браз замужней женщины, символ благочестия и достатка. Этой куколке приделывали объемную тряпичную грудь – чтобы детки всегда были сытыми и здоров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на «согревала» местечко в колыбельке до рождения ребенка. После рождения висела над изголовьем, как оберег от порчи и с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im4-tub-ru.yandex.net/i?id=619592944-31-72&amp;n=21"/>
          <p:cNvPicPr/>
          <p:nvPr/>
        </p:nvPicPr>
        <p:blipFill>
          <a:blip r:embed="rId1"/>
          <a:stretch/>
        </p:blipFill>
        <p:spPr>
          <a:xfrm>
            <a:off x="345960" y="279360"/>
            <a:ext cx="2786040" cy="298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im0-tub-ru.yandex.net/i?id=262728817-13-72&amp;n=21"/>
          <p:cNvPicPr/>
          <p:nvPr/>
        </p:nvPicPr>
        <p:blipFill>
          <a:blip r:embed="rId2"/>
          <a:stretch/>
        </p:blipFill>
        <p:spPr>
          <a:xfrm>
            <a:off x="274680" y="5495760"/>
            <a:ext cx="2922480" cy="206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im5-tub-ru.yandex.net/i?id=304816390-56-72&amp;n=21"/>
          <p:cNvPicPr/>
          <p:nvPr/>
        </p:nvPicPr>
        <p:blipFill>
          <a:blip r:embed="rId3"/>
          <a:stretch/>
        </p:blipFill>
        <p:spPr>
          <a:xfrm>
            <a:off x="560520" y="3351240"/>
            <a:ext cx="2786040" cy="200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1880" y="207720"/>
            <a:ext cx="9624960" cy="957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0000"/>
                </a:solidFill>
                <a:latin typeface="Arial"/>
              </a:rPr>
              <a:t>Обрядовые кукл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3760" y="1080720"/>
            <a:ext cx="10020240" cy="6033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то достаточно распространенная категория народной игрушки. Такие куклы, выполненные из различных материалов, достаточно несложные по технологии, связаны с передачей ребенку  нравственных, символических и мифологических знаний. Обрядовые куклы в своем роде очень уникальны, так как содержат символические знания предыдущих поколений. Они были созданы людьми для обрядовых, культовых и магических целей. Они существуют у большинства народов мира и используются как в языческой, так и в христианской религии. Применяются для различных магических риту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4240" y="4336920"/>
            <a:ext cx="9490320" cy="285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 народов России куклы использовались в различных обрядах и праздниках народного календаря. Куклы во многом были связан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севозможными обрядами во время проведения празд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DSCN1187"/>
          <p:cNvPicPr/>
          <p:nvPr/>
        </p:nvPicPr>
        <p:blipFill>
          <a:blip r:embed="rId1"/>
          <a:stretch/>
        </p:blipFill>
        <p:spPr>
          <a:xfrm>
            <a:off x="3914640" y="279360"/>
            <a:ext cx="2835360" cy="3787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8" name="Picture 9" descr="DSCN1828"/>
          <p:cNvPicPr/>
          <p:nvPr/>
        </p:nvPicPr>
        <p:blipFill>
          <a:blip r:embed="rId2"/>
          <a:stretch/>
        </p:blipFill>
        <p:spPr>
          <a:xfrm>
            <a:off x="7283520" y="287280"/>
            <a:ext cx="2833560" cy="37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9" name="Picture 10" descr="DSCN1761"/>
          <p:cNvPicPr/>
          <p:nvPr/>
        </p:nvPicPr>
        <p:blipFill>
          <a:blip r:embed="rId3"/>
          <a:stretch/>
        </p:blipFill>
        <p:spPr>
          <a:xfrm>
            <a:off x="547560" y="287280"/>
            <a:ext cx="2873520" cy="37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4989600" y="636480"/>
            <a:ext cx="5346720" cy="43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кол - Капусто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стерили барышни на выданье и выставляли в окнах, сигнализируя о готовности к браку- мол, пора засылать сватов. Плюс, Капусткам полагалось притягивать к дому самых завидных жених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im2-tub-ru.yandex.net/i?id=243700148-06-72&amp;n=21"/>
          <p:cNvPicPr/>
          <p:nvPr/>
        </p:nvPicPr>
        <p:blipFill>
          <a:blip r:embed="rId1"/>
          <a:stretch/>
        </p:blipFill>
        <p:spPr>
          <a:xfrm>
            <a:off x="274680" y="708120"/>
            <a:ext cx="4487760" cy="457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4680" y="604800"/>
            <a:ext cx="5500800" cy="6510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marL="370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кла - Стриг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ыла связана с богатым урожаем. Стригушки делали из соломы, лыка, отходов льнопроизводства. Иногда ее одевали, но иногда ее украшали цветными шерстяными нитками. Соломенные куклы, сделанные из первого «именного» снопа, считались священ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7"/>
          <p:cNvPicPr/>
          <p:nvPr/>
        </p:nvPicPr>
        <p:blipFill>
          <a:blip r:embed="rId1"/>
          <a:stretch/>
        </p:blipFill>
        <p:spPr>
          <a:xfrm>
            <a:off x="6060960" y="993600"/>
            <a:ext cx="4324320" cy="5478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87280"/>
            <a:ext cx="10693440" cy="87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0000"/>
                </a:solidFill>
                <a:latin typeface="Arial"/>
              </a:rPr>
              <a:t>Почему у народной куклы нет лиц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680" y="1279080"/>
            <a:ext cx="10215360" cy="5931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Традиционная тряпичная кукла безли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Лицо, как правило, не обозначалось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оставалось белым. Кукла без лиц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считалась предметом неодушевленным, недоступным дл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вселения в него злых, недобрых сил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а значит, и безвредным для ребен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Она должна была принести ему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благополучие, здоровье, радост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Это было чудо: из нескольких тряпочек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без рук, без ног, без обозначенног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лица передавался характер кукл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Кукла была многолика, она могл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смеяться и плака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SCN1735"/>
          <p:cNvPicPr/>
          <p:nvPr/>
        </p:nvPicPr>
        <p:blipFill>
          <a:blip r:embed="rId1"/>
          <a:stretch/>
        </p:blipFill>
        <p:spPr>
          <a:xfrm>
            <a:off x="6985080" y="1494000"/>
            <a:ext cx="3504960" cy="5144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4703760" y="138240"/>
            <a:ext cx="5715000" cy="67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кла – Коля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зготавливалась для славянского праздника зимнего солнцеворота. Празднование Коляды своим весельем выражало победу добрых начал над силами зла. Эта кукла – символ солнца и добрых отношений в семь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Она представляла собой женщину одетую во все новое и нарядное. Кукла Коляда изготавливается из спила дерева. В мешочках подвешенных к поясу, находятся хлеб и сол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Arial"/>
              </a:rPr>
              <a:t>За пояс заткнут веник, которым Коляда отгоняет нечистую силу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im5-tub-ru.yandex.net/i?id=356543040-33-72&amp;n=21"/>
          <p:cNvPicPr/>
          <p:nvPr/>
        </p:nvPicPr>
        <p:blipFill>
          <a:blip r:embed="rId1"/>
          <a:stretch/>
        </p:blipFill>
        <p:spPr>
          <a:xfrm>
            <a:off x="774720" y="208080"/>
            <a:ext cx="2938320" cy="335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im2-tub-ru.yandex.net/i?id=392743637-39-72&amp;n=21"/>
          <p:cNvPicPr/>
          <p:nvPr/>
        </p:nvPicPr>
        <p:blipFill>
          <a:blip r:embed="rId2"/>
          <a:stretch/>
        </p:blipFill>
        <p:spPr>
          <a:xfrm>
            <a:off x="368280" y="3637080"/>
            <a:ext cx="401796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6680" y="287280"/>
            <a:ext cx="5989680" cy="6827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 рождественскими обрядами была связана необычная кукла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"Коза"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полнялась данная кукла на крестообразной основе, а лицо, рога и борода были сделаны из лыка. "Коза" была наряжена в красивое платье и имела на себе обрядовые предметы: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колокольчики, бусы, серьги, колечки и мешочки с травами.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анная кукла использовалась в обрядах колядования</a:t>
            </a:r>
            <a:r>
              <a:rPr b="0" lang="ru-RU" sz="37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"/>
          <p:cNvPicPr/>
          <p:nvPr/>
        </p:nvPicPr>
        <p:blipFill>
          <a:blip r:embed="rId1"/>
          <a:stretch/>
        </p:blipFill>
        <p:spPr>
          <a:xfrm>
            <a:off x="209520" y="604800"/>
            <a:ext cx="4651560" cy="595476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89280" y="1160280"/>
            <a:ext cx="6103800" cy="5397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Крещенские дни делали куклу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рестец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ставили её у ведра с водой, обязательно освящённой. Считалось, что в эти дни вода была свя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укла была выполнена на крестообразной основе, её украшали тесёмочками и ленточк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3"/>
          <p:cNvPicPr/>
          <p:nvPr/>
        </p:nvPicPr>
        <p:blipFill>
          <a:blip r:embed="rId1"/>
          <a:stretch/>
        </p:blipFill>
        <p:spPr>
          <a:xfrm>
            <a:off x="461880" y="565200"/>
            <a:ext cx="4253040" cy="5931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79080" y="367920"/>
            <a:ext cx="5396040" cy="6746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чень необычными бы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расноликие Пасхальные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кл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которых делали к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рбному воскресению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обязательно из красного лоскута. Их дарили на счастье, радость, она могла присутствовать на пасхальном столе вместе с пасхальными дарами, а затем эти куклы отдавали паломник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на следующий год таких кукол делали новы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6"/>
          <p:cNvPicPr/>
          <p:nvPr/>
        </p:nvPicPr>
        <p:blipFill>
          <a:blip r:embed="rId1"/>
          <a:stretch/>
        </p:blipFill>
        <p:spPr>
          <a:xfrm>
            <a:off x="5915160" y="565200"/>
            <a:ext cx="4435200" cy="5754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93400" y="525240"/>
            <a:ext cx="5195880" cy="6748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378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Домашняя Масл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масленичную не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акую куклу вывеши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 окно. Это было знаком того, что теща ждала зятя и дочь в гости на блины.  Чаще всего  таких кукол изготавливали из соломы и лыка. Лицо обтягивали льняной тканью и одевали в традиционный на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8"/>
          <p:cNvPicPr/>
          <p:nvPr/>
        </p:nvPicPr>
        <p:blipFill>
          <a:blip r:embed="rId1"/>
          <a:stretch/>
        </p:blipFill>
        <p:spPr>
          <a:xfrm>
            <a:off x="5584680" y="708120"/>
            <a:ext cx="4822920" cy="6216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60880" y="208080"/>
            <a:ext cx="5632560" cy="698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праздник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вана Куп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лали на крестообра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снове куклу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Купавку»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ряжали в жен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дежды (рубаху, сараф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яс). На руки Куп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ешали ленточки –зав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вичьи желания, потом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правляли плыть по р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Ленточки, плывущие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ке, забирали с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счастья и невзг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4"/>
          <p:cNvPicPr/>
          <p:nvPr/>
        </p:nvPicPr>
        <p:blipFill>
          <a:blip r:embed="rId1"/>
          <a:stretch/>
        </p:blipFill>
        <p:spPr>
          <a:xfrm>
            <a:off x="417600" y="636480"/>
            <a:ext cx="4545000" cy="5843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275080" y="604800"/>
            <a:ext cx="5214600" cy="6113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Десятиручка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укла, предназначенная молодухе (девушке, недавно вышедшей замуж). Такую куклу часто дарили невесте на свадьбу, чтобы она всё успевала, и всё у неё в семье ладилось. Традиционно эту куклу делали из травы, соломы, лыка и красиво оформл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345960" y="493560"/>
            <a:ext cx="4722840" cy="65026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3399"/>
                </a:solidFill>
                <a:latin typeface="Arial"/>
              </a:rPr>
              <a:t>Выставка кукол</a:t>
            </a:r>
            <a:br>
              <a:rPr sz="46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открытие выставки 001"/>
          <p:cNvPicPr/>
          <p:nvPr/>
        </p:nvPicPr>
        <p:blipFill>
          <a:blip r:embed="rId1"/>
          <a:stretch/>
        </p:blipFill>
        <p:spPr>
          <a:xfrm>
            <a:off x="1060560" y="1173240"/>
            <a:ext cx="8643960" cy="6111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открытие выставки 002"/>
          <p:cNvPicPr/>
          <p:nvPr/>
        </p:nvPicPr>
        <p:blipFill>
          <a:blip r:embed="rId1"/>
          <a:stretch/>
        </p:blipFill>
        <p:spPr>
          <a:xfrm>
            <a:off x="1060560" y="507960"/>
            <a:ext cx="8972280" cy="6345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открытие выставки 003"/>
          <p:cNvPicPr/>
          <p:nvPr/>
        </p:nvPicPr>
        <p:blipFill>
          <a:blip r:embed="rId1"/>
          <a:stretch/>
        </p:blipFill>
        <p:spPr>
          <a:xfrm>
            <a:off x="988920" y="636480"/>
            <a:ext cx="8944200" cy="6324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560" y="-360"/>
            <a:ext cx="962352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0000"/>
                </a:solidFill>
                <a:latin typeface="Arial"/>
              </a:rPr>
              <a:t>Куклы - оберег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001880"/>
            <a:ext cx="10693440" cy="363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глубокой древности у кукол было другое предназначение, она была человеку защитой от болезней, несчастий, злых духов. Кукла берегла человека, ее так и называли: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ерег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ерегин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 Как правило, самыми охранными были куклы, выполненные без иглы и ножниц. Ткань старались при изготовлении кукол не резать, а р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иногда кукол так и называли —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"рванки"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DSCN1710"/>
          <p:cNvPicPr/>
          <p:nvPr/>
        </p:nvPicPr>
        <p:blipFill>
          <a:blip r:embed="rId1"/>
          <a:stretch/>
        </p:blipFill>
        <p:spPr>
          <a:xfrm>
            <a:off x="8061480" y="4732200"/>
            <a:ext cx="2082600" cy="2829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9" name="Picture 9" descr="DSCN1754"/>
          <p:cNvPicPr/>
          <p:nvPr/>
        </p:nvPicPr>
        <p:blipFill>
          <a:blip r:embed="rId2"/>
          <a:stretch/>
        </p:blipFill>
        <p:spPr>
          <a:xfrm>
            <a:off x="3494160" y="4732200"/>
            <a:ext cx="3740040" cy="2829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Picture 11" descr="DSCN1709"/>
          <p:cNvPicPr/>
          <p:nvPr/>
        </p:nvPicPr>
        <p:blipFill>
          <a:blip r:embed="rId3"/>
          <a:stretch/>
        </p:blipFill>
        <p:spPr>
          <a:xfrm>
            <a:off x="693720" y="4732200"/>
            <a:ext cx="1879560" cy="2829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открытие выставки 004"/>
          <p:cNvPicPr/>
          <p:nvPr/>
        </p:nvPicPr>
        <p:blipFill>
          <a:blip r:embed="rId1"/>
          <a:stretch/>
        </p:blipFill>
        <p:spPr>
          <a:xfrm>
            <a:off x="846000" y="422280"/>
            <a:ext cx="9147240" cy="6469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открытие выставки 005"/>
          <p:cNvPicPr/>
          <p:nvPr/>
        </p:nvPicPr>
        <p:blipFill>
          <a:blip r:embed="rId1"/>
          <a:stretch/>
        </p:blipFill>
        <p:spPr>
          <a:xfrm>
            <a:off x="2495520" y="195120"/>
            <a:ext cx="5702400" cy="7170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открытие выставки 006"/>
          <p:cNvPicPr/>
          <p:nvPr/>
        </p:nvPicPr>
        <p:blipFill>
          <a:blip r:embed="rId1"/>
          <a:stretch/>
        </p:blipFill>
        <p:spPr>
          <a:xfrm>
            <a:off x="2495520" y="195120"/>
            <a:ext cx="5702400" cy="7170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открытие выставки 007"/>
          <p:cNvPicPr/>
          <p:nvPr/>
        </p:nvPicPr>
        <p:blipFill>
          <a:blip r:embed="rId1"/>
          <a:stretch/>
        </p:blipFill>
        <p:spPr>
          <a:xfrm>
            <a:off x="2495520" y="195120"/>
            <a:ext cx="5702400" cy="7170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открытие выставки 031"/>
          <p:cNvPicPr/>
          <p:nvPr/>
        </p:nvPicPr>
        <p:blipFill>
          <a:blip r:embed="rId1"/>
          <a:stretch/>
        </p:blipFill>
        <p:spPr>
          <a:xfrm>
            <a:off x="2495520" y="195120"/>
            <a:ext cx="5702400" cy="7170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открытие выставки 033"/>
          <p:cNvPicPr/>
          <p:nvPr/>
        </p:nvPicPr>
        <p:blipFill>
          <a:blip r:embed="rId1"/>
          <a:stretch/>
        </p:blipFill>
        <p:spPr>
          <a:xfrm>
            <a:off x="2495520" y="195120"/>
            <a:ext cx="5702400" cy="7170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открытие выставки 044"/>
          <p:cNvPicPr/>
          <p:nvPr/>
        </p:nvPicPr>
        <p:blipFill>
          <a:blip r:embed="rId1"/>
          <a:stretch/>
        </p:blipFill>
        <p:spPr>
          <a:xfrm>
            <a:off x="2495520" y="195120"/>
            <a:ext cx="5702400" cy="7170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открытие выставки 035"/>
          <p:cNvPicPr/>
          <p:nvPr/>
        </p:nvPicPr>
        <p:blipFill>
          <a:blip r:embed="rId1"/>
          <a:stretch/>
        </p:blipFill>
        <p:spPr>
          <a:xfrm>
            <a:off x="804960" y="351000"/>
            <a:ext cx="9394560" cy="6645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открытие выставки 034"/>
          <p:cNvPicPr/>
          <p:nvPr/>
        </p:nvPicPr>
        <p:blipFill>
          <a:blip r:embed="rId1"/>
          <a:stretch/>
        </p:blipFill>
        <p:spPr>
          <a:xfrm>
            <a:off x="2495520" y="195120"/>
            <a:ext cx="5702400" cy="7170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295200" y="287280"/>
            <a:ext cx="101044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Мастер Класс —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«Хозяюшка – Благополучница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rukukla.ru/file/0001/6510.jpg"/>
          <p:cNvPicPr/>
          <p:nvPr/>
        </p:nvPicPr>
        <p:blipFill>
          <a:blip r:embed="rId1"/>
          <a:stretch/>
        </p:blipFill>
        <p:spPr>
          <a:xfrm>
            <a:off x="1488960" y="2130480"/>
            <a:ext cx="7786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09520" y="367920"/>
            <a:ext cx="10190160" cy="5000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Ещё до рождения ребёнка делали куколку и укладывали в колыбельку, чтобы кукла "обогрела" её для будущего малыша. Когда малыш появлялся на свет, кукла и тогда не расставалась с ним. Кукла отвлекала на себя злые духи, оберегая ребёночка. Тряпичную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уклу - Берегиню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деланную своими руками, мать дарила дочери перед свадьбой, благословляя её на замужество. Обереги давали сыну, который отправлялся на службу в армию, мужу — в дорогу. В крестьянских семьях кукол было много, их не разбрасывали, ими дорожили, их берег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рестьяне считали, что чем больше кукол, тем больше в семье сча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DSCN1842"/>
          <p:cNvPicPr/>
          <p:nvPr/>
        </p:nvPicPr>
        <p:blipFill>
          <a:blip r:embed="rId1"/>
          <a:stretch/>
        </p:blipFill>
        <p:spPr>
          <a:xfrm>
            <a:off x="3703680" y="4281480"/>
            <a:ext cx="4357800" cy="3075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www.rukukla.ru/file/0001/250/6494.jpg"/>
          <p:cNvPicPr/>
          <p:nvPr/>
        </p:nvPicPr>
        <p:blipFill>
          <a:blip r:embed="rId1"/>
          <a:stretch/>
        </p:blipFill>
        <p:spPr>
          <a:xfrm>
            <a:off x="2652840" y="208080"/>
            <a:ext cx="5657760" cy="45021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461880" y="5051520"/>
            <a:ext cx="951552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Arial"/>
              </a:rPr>
              <a:t>По поверью куколка, внутри которой спрятана монетка, приносит в дом удачу и достаток, бережет домашний очаг, хранит семью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182520" y="-158760"/>
            <a:ext cx="3556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60360" y="9360"/>
            <a:ext cx="35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417600" y="422280"/>
            <a:ext cx="9955080" cy="64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ЛЯ ИЗГОТОВЛЕНИЯ КУКЛЫ НУЖ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ЛЯ ГОЛОВЫ: КВАДРАТ БЕЛОЙ ТКАНИ 10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x10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; ДЛЯ ТУЛОВИЩА – ЮБКИ: КВАДРАТ ЦВЕТНОЙ ТКАНИ 20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x20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ЛЯ РУК: ПРЯМОУГОЛЬНИК 10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x20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АТА-СИНТЕПОН/ЛЮБОЙ НАПОЛН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ЛЯ ГОЛОВЫ И ТУЛОВИЩ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НЕТКА С ЦИФРОЙ 5 (5 КОПЕЕК, 5 РУБЛ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ОСЫНКА ИЗ КВАДРАТА 15 С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ЛОСКА ТКАНИ – ПОВОЙНИ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УБОЧЕК НИТО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ОЖН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182520" y="-158760"/>
            <a:ext cx="3556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www.rukukla.ru/file/0001/6486.jpg"/>
          <p:cNvPicPr/>
          <p:nvPr/>
        </p:nvPicPr>
        <p:blipFill>
          <a:blip r:embed="rId1"/>
          <a:stretch/>
        </p:blipFill>
        <p:spPr>
          <a:xfrm>
            <a:off x="560520" y="708120"/>
            <a:ext cx="9721800" cy="6099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www.rukukla.ru/file/0001/6487.jpg"/>
          <p:cNvPicPr/>
          <p:nvPr/>
        </p:nvPicPr>
        <p:blipFill>
          <a:blip r:embed="rId1"/>
          <a:stretch/>
        </p:blipFill>
        <p:spPr>
          <a:xfrm>
            <a:off x="1554120" y="422280"/>
            <a:ext cx="8118360" cy="51451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631800" y="6067440"/>
            <a:ext cx="9685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колько раз по диагонали складываем квадрат для тела-юб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www.rukukla.ru/file/0001/6488.jpg"/>
          <p:cNvPicPr/>
          <p:nvPr/>
        </p:nvPicPr>
        <p:blipFill>
          <a:blip r:embed="rId1"/>
          <a:stretch/>
        </p:blipFill>
        <p:spPr>
          <a:xfrm>
            <a:off x="1389240" y="388800"/>
            <a:ext cx="8100720" cy="50356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488880" y="5996160"/>
            <a:ext cx="9853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езаем уголки, таким образом получаем круг диаметром 20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www.rukukla.ru/file/0001/6489.jpg"/>
          <p:cNvPicPr/>
          <p:nvPr/>
        </p:nvPicPr>
        <p:blipFill>
          <a:blip r:embed="rId1"/>
          <a:stretch/>
        </p:blipFill>
        <p:spPr>
          <a:xfrm>
            <a:off x="631800" y="779400"/>
            <a:ext cx="9455040" cy="5867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www.rukukla.ru/file/0001/6490.jpg"/>
          <p:cNvPicPr/>
          <p:nvPr/>
        </p:nvPicPr>
        <p:blipFill>
          <a:blip r:embed="rId1"/>
          <a:stretch/>
        </p:blipFill>
        <p:spPr>
          <a:xfrm>
            <a:off x="345960" y="708120"/>
            <a:ext cx="10090440" cy="58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rukukla.ru/file/0001/6491.jpg"/>
          <p:cNvPicPr/>
          <p:nvPr/>
        </p:nvPicPr>
        <p:blipFill>
          <a:blip r:embed="rId1"/>
          <a:stretch/>
        </p:blipFill>
        <p:spPr>
          <a:xfrm>
            <a:off x="461880" y="235080"/>
            <a:ext cx="6456600" cy="3116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www.rukukla.ru/file/0001/6492.jpg"/>
          <p:cNvPicPr/>
          <p:nvPr/>
        </p:nvPicPr>
        <p:blipFill>
          <a:blip r:embed="rId2"/>
          <a:stretch/>
        </p:blipFill>
        <p:spPr>
          <a:xfrm>
            <a:off x="3560760" y="2779560"/>
            <a:ext cx="6864480" cy="441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www.rukukla.ru/file/0001/6493.jpg"/>
          <p:cNvPicPr/>
          <p:nvPr/>
        </p:nvPicPr>
        <p:blipFill>
          <a:blip r:embed="rId1"/>
          <a:stretch/>
        </p:blipFill>
        <p:spPr>
          <a:xfrm>
            <a:off x="1203480" y="293760"/>
            <a:ext cx="8435880" cy="6923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www.rukukla.ru/file/0001/6494.jpg"/>
          <p:cNvPicPr/>
          <p:nvPr/>
        </p:nvPicPr>
        <p:blipFill>
          <a:blip r:embed="rId1"/>
          <a:stretch/>
        </p:blipFill>
        <p:spPr>
          <a:xfrm>
            <a:off x="378000" y="368280"/>
            <a:ext cx="4251240" cy="326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rukukla.ru/file/0001/6495.jpg"/>
          <p:cNvPicPr/>
          <p:nvPr/>
        </p:nvPicPr>
        <p:blipFill>
          <a:blip r:embed="rId2"/>
          <a:stretch/>
        </p:blipFill>
        <p:spPr>
          <a:xfrm>
            <a:off x="5989680" y="368280"/>
            <a:ext cx="4286160" cy="3322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rukukla.ru/file/0001/6496.jpg"/>
          <p:cNvPicPr/>
          <p:nvPr/>
        </p:nvPicPr>
        <p:blipFill>
          <a:blip r:embed="rId3"/>
          <a:stretch/>
        </p:blipFill>
        <p:spPr>
          <a:xfrm>
            <a:off x="2703600" y="3780000"/>
            <a:ext cx="421632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88520" y="368280"/>
            <a:ext cx="7643880" cy="648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Пеленашка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— древнейш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укла - обере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ленашка находилась в люльке до крещения ребёнка (при крещении младенец приобретал статус человека). Эту куклу хранили в семье вместе с крестильной рубаш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укла была легка в изготовлен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ля неё использовались куски ношеной, чаще домотканой одеж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еленатая кукла могла быть использована детьми в играх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lenash"/>
          <p:cNvPicPr/>
          <p:nvPr/>
        </p:nvPicPr>
        <p:blipFill>
          <a:blip r:embed="rId1"/>
          <a:stretch/>
        </p:blipFill>
        <p:spPr>
          <a:xfrm>
            <a:off x="8561520" y="3780000"/>
            <a:ext cx="1892160" cy="3606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5" name="Picture 5" descr="DSCN1742"/>
          <p:cNvPicPr/>
          <p:nvPr/>
        </p:nvPicPr>
        <p:blipFill>
          <a:blip r:embed="rId2"/>
          <a:stretch/>
        </p:blipFill>
        <p:spPr>
          <a:xfrm>
            <a:off x="8061480" y="279360"/>
            <a:ext cx="2455560" cy="3179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www.rukukla.ru/file/0001/6510.jpg"/>
          <p:cNvPicPr/>
          <p:nvPr/>
        </p:nvPicPr>
        <p:blipFill>
          <a:blip r:embed="rId1"/>
          <a:stretch/>
        </p:blipFill>
        <p:spPr>
          <a:xfrm>
            <a:off x="345960" y="208080"/>
            <a:ext cx="10004400" cy="68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06720" y="302760"/>
            <a:ext cx="4608360" cy="957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укла –   «Колокольч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Объект 5" descr=""/>
          <p:cNvPicPr/>
          <p:nvPr/>
        </p:nvPicPr>
        <p:blipFill>
          <a:blip r:embed="rId1"/>
          <a:stretch/>
        </p:blipFill>
        <p:spPr>
          <a:xfrm>
            <a:off x="5707080" y="1476360"/>
            <a:ext cx="4986360" cy="6083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6" descr=""/>
          <p:cNvPicPr/>
          <p:nvPr/>
        </p:nvPicPr>
        <p:blipFill>
          <a:blip r:embed="rId2"/>
          <a:stretch/>
        </p:blipFill>
        <p:spPr>
          <a:xfrm>
            <a:off x="0" y="992160"/>
            <a:ext cx="570384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60640" y="1136520"/>
            <a:ext cx="4132440" cy="417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  <a:ea typeface="Aharoni"/>
              </a:rPr>
              <a:t>Спасибо за  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Black"/>
                <a:ea typeface="Aharoni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64040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989240" y="208080"/>
            <a:ext cx="6000840" cy="73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Широкое распростра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Севере России имела кукла —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Берестушка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укла была изготовлена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ересты, свёрнутой в трубоч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нутрь вкладывал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литва (или заговор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то был сильный обере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 правило, эту кук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лала для ребён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арила ему родная бабушка (поэтому её иногда называ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Бабушкина кукла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"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209520" y="208080"/>
            <a:ext cx="4632480" cy="7176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03040" y="287280"/>
            <a:ext cx="7358400" cy="7066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Важным моментом в жизни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является свадьба. На этот случа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существовала специальная обрядо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кукла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«Парочка»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,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иногда такую кук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зывали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«Неразлучники»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.</a:t>
            </a: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У женской и мужской фигуры общая рук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символ крепкого брачного сою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Свадебную «Парочку» изготавливали из трех красных лоскутов одного размера. Куклу дарили молодым на свадьбе, закрепленную на полотен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Когда рождался в молодой семье первый ребенок, полотенцем начинали пользоваться, а куклу давали ребен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или хранили всю жизнь как оберег сем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и брак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7"/>
          <p:cNvPicPr/>
          <p:nvPr/>
        </p:nvPicPr>
        <p:blipFill>
          <a:blip r:embed="rId1"/>
          <a:stretch/>
        </p:blipFill>
        <p:spPr>
          <a:xfrm>
            <a:off x="7489800" y="684360"/>
            <a:ext cx="3079800" cy="302400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70" name="Picture 5" descr="Svadebnaya"/>
          <p:cNvPicPr/>
          <p:nvPr/>
        </p:nvPicPr>
        <p:blipFill>
          <a:blip r:embed="rId2"/>
          <a:stretch/>
        </p:blipFill>
        <p:spPr>
          <a:xfrm>
            <a:off x="7489800" y="4097160"/>
            <a:ext cx="3103560" cy="3113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989240" y="525240"/>
            <a:ext cx="6072120" cy="6748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Зернушка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— кукла, кото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имволизировала достаток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оме, была своего 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берегом семьи. Иногда 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зывают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«Зерновка»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«Крупеничка»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елали э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уклу после сбора урож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основе этой куклы - мешо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полненный зерном. Также э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уклу могла делать женщ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тобы у неё были де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а кукла символизировал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остаток, благополучие в семь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Бытовала в районах, 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0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ыращивали злаковые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кукла3"/>
          <p:cNvPicPr/>
          <p:nvPr/>
        </p:nvPicPr>
        <p:blipFill>
          <a:blip r:embed="rId1"/>
          <a:stretch/>
        </p:blipFill>
        <p:spPr>
          <a:xfrm>
            <a:off x="703440" y="3995640"/>
            <a:ext cx="2900160" cy="3457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3" name="Picture 8" descr="DSCN1785"/>
          <p:cNvPicPr/>
          <p:nvPr/>
        </p:nvPicPr>
        <p:blipFill>
          <a:blip r:embed="rId2"/>
          <a:stretch/>
        </p:blipFill>
        <p:spPr>
          <a:xfrm>
            <a:off x="203040" y="493560"/>
            <a:ext cx="4718160" cy="3305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09160" y="368280"/>
            <a:ext cx="7280280" cy="650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южных губерниях России существовала кукла - оберег жилища, называемая 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"День и Ночь"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она относится к двуликим или парным куклам). Как правило, её делали под Новый год. Она была изготовлена из тканей темных и светлых тонов. Светлая ткань символизировала день, а темная ткань - ночь. Рано утром, ежедневно её поворачивали светлой стороной (на день), а вечером - тем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на ночь). Говорили: «День прошел, и слава Богу, пусть так же пройдет и ноч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9"/>
          <p:cNvPicPr/>
          <p:nvPr/>
        </p:nvPicPr>
        <p:blipFill>
          <a:blip r:embed="rId1"/>
          <a:stretch/>
        </p:blipFill>
        <p:spPr>
          <a:xfrm>
            <a:off x="7535880" y="351000"/>
            <a:ext cx="2954160" cy="285732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76" name="Picture 6" descr="8"/>
          <p:cNvPicPr/>
          <p:nvPr/>
        </p:nvPicPr>
        <p:blipFill>
          <a:blip r:embed="rId2"/>
          <a:stretch/>
        </p:blipFill>
        <p:spPr>
          <a:xfrm>
            <a:off x="7561440" y="3781440"/>
            <a:ext cx="2928600" cy="3174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9:31:29Z</dcterms:created>
  <dc:creator>Вера</dc:creator>
  <dc:description/>
  <dc:language>en-US</dc:language>
  <cp:lastModifiedBy>Катя</cp:lastModifiedBy>
  <cp:lastPrinted>2012-10-21T11:49:06Z</cp:lastPrinted>
  <dcterms:modified xsi:type="dcterms:W3CDTF">2020-01-08T07:52:10Z</dcterms:modified>
  <cp:revision>67</cp:revision>
  <dc:subject/>
  <dc:title>Слайд 1</dc:title>
</cp:coreProperties>
</file>