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21.png" ContentType="image/png"/>
  <Override PartName="/ppt/media/image1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3.jpeg" ContentType="image/jpeg"/>
  <Override PartName="/ppt/media/image2.wmf" ContentType="image/x-wmf"/>
  <Override PartName="/ppt/media/image3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6BC-CE45-494F-A0D3-2679E433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BE6-9B75-4BCF-B0DF-922D9941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56B-B73F-4AB3-AE75-85BCBB40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E49-C834-4C22-B0AB-9C7C1E1F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967-BFD7-475E-A49D-6F48709A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2F2-FE60-4AD7-9E89-73DEAFB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4BB-30E9-4457-AB1A-7EE5D45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981-6A78-4F99-B915-AE0FCC64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1AB-F038-41F1-BFE1-D72D12ED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37E-8383-494E-805F-215AC06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AE0-E31C-4BF8-A563-960B6A2B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44C-EB02-44FA-AA40-11BDC68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82C9-FC87-4B72-861A-14F2881085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arxists.org/archive/vygotsky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едагогическая копилка приёмов педтех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: учитель английского язы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ва Ирина Андр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Светлогр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СОШ №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j0370140"/>
          <p:cNvPicPr/>
          <p:nvPr/>
        </p:nvPicPr>
        <p:blipFill>
          <a:blip r:embed="rId1"/>
          <a:stretch/>
        </p:blipFill>
        <p:spPr>
          <a:xfrm>
            <a:off x="3708360" y="191628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000" y="191592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244944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10920" y="400500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3280" y="41493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 rot="570600">
            <a:off x="2842920" y="206064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3348000" y="234936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276720" y="2565360"/>
            <a:ext cx="287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900000" y="3213000"/>
            <a:ext cx="1214640" cy="216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1979640" y="285264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1979640" y="28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90000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900000" y="292428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358800">
            <a:off x="2771280" y="2707920"/>
            <a:ext cx="8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024560" y="33051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WordArt 22"/>
          <p:cNvSpPr txBox="1"/>
          <p:nvPr/>
        </p:nvSpPr>
        <p:spPr>
          <a:xfrm rot="5400000">
            <a:off x="7295040" y="2648520"/>
            <a:ext cx="909720" cy="59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3" name="AutoShape 23"/>
          <p:cNvSpPr/>
          <p:nvPr/>
        </p:nvSpPr>
        <p:spPr>
          <a:xfrm>
            <a:off x="971640" y="5373720"/>
            <a:ext cx="1274760" cy="5032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971640" y="53737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2050920" y="53737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1116000" y="5589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1476360" y="5589720"/>
            <a:ext cx="287280" cy="7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rc 31"/>
          <p:cNvSpPr/>
          <p:nvPr/>
        </p:nvSpPr>
        <p:spPr>
          <a:xfrm>
            <a:off x="1020600" y="4797360"/>
            <a:ext cx="1222560" cy="577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33"/>
          <p:cNvSpPr txBox="1"/>
          <p:nvPr/>
        </p:nvSpPr>
        <p:spPr>
          <a:xfrm rot="5400000">
            <a:off x="2349360" y="4427280"/>
            <a:ext cx="865080" cy="59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2411280" y="436572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H="1">
            <a:off x="2411280" y="4365720"/>
            <a:ext cx="648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36"/>
          <p:cNvSpPr txBox="1"/>
          <p:nvPr/>
        </p:nvSpPr>
        <p:spPr>
          <a:xfrm rot="5400000">
            <a:off x="3310560" y="5266440"/>
            <a:ext cx="86544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6156360" y="4653000"/>
            <a:ext cx="91440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0"/>
          <p:cNvSpPr/>
          <p:nvPr/>
        </p:nvSpPr>
        <p:spPr>
          <a:xfrm>
            <a:off x="709308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615636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6156360" y="49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43"/>
          <p:cNvSpPr/>
          <p:nvPr/>
        </p:nvSpPr>
        <p:spPr>
          <a:xfrm>
            <a:off x="5867280" y="4941720"/>
            <a:ext cx="151308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4"/>
          <p:cNvSpPr/>
          <p:nvPr/>
        </p:nvSpPr>
        <p:spPr>
          <a:xfrm>
            <a:off x="6300720" y="4869000"/>
            <a:ext cx="576360" cy="2156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46"/>
          <p:cNvSpPr txBox="1"/>
          <p:nvPr/>
        </p:nvSpPr>
        <p:spPr>
          <a:xfrm rot="5400000">
            <a:off x="7378920" y="530136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500800" y="2157480"/>
            <a:ext cx="2104920" cy="1628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51840" y="2054160"/>
            <a:ext cx="129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179800" y="2441520"/>
            <a:ext cx="1105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576560" y="234324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089080" cy="1873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7667640" y="4818240"/>
            <a:ext cx="14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9574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076720" y="1886040"/>
            <a:ext cx="451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p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n english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very nice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Лексически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9185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2 : Good mor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1 : Have you a banana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2 : Yes, I have. Her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1 : Thank you very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1 : Good mor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2 : Not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1 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 you a gra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2 : Sorry, but I haven`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1 : Good b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2 : Good by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6804000" y="2997360"/>
            <a:ext cx="2171880" cy="1446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5219640" y="4797360"/>
            <a:ext cx="1766880" cy="187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147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Грамматически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826920" y="2205000"/>
            <a:ext cx="50508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1476360" y="2205000"/>
            <a:ext cx="50328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2124000" y="2205000"/>
            <a:ext cx="50328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2843280" y="2205000"/>
            <a:ext cx="50472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3564000" y="2205000"/>
            <a:ext cx="50328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755640" y="3213000"/>
            <a:ext cx="5032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1476360" y="3213000"/>
            <a:ext cx="5032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195640" y="3213000"/>
            <a:ext cx="5032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2843280" y="3213000"/>
            <a:ext cx="50472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3492360" y="3213000"/>
            <a:ext cx="505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WordArt 23"/>
          <p:cNvSpPr txBox="1"/>
          <p:nvPr/>
        </p:nvSpPr>
        <p:spPr>
          <a:xfrm>
            <a:off x="971640" y="3213000"/>
            <a:ext cx="14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25"/>
          <p:cNvSpPr txBox="1"/>
          <p:nvPr/>
        </p:nvSpPr>
        <p:spPr>
          <a:xfrm>
            <a:off x="1619280" y="3213000"/>
            <a:ext cx="14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26"/>
          <p:cNvSpPr txBox="1"/>
          <p:nvPr/>
        </p:nvSpPr>
        <p:spPr>
          <a:xfrm>
            <a:off x="2340000" y="3213000"/>
            <a:ext cx="237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27"/>
          <p:cNvSpPr txBox="1"/>
          <p:nvPr/>
        </p:nvSpPr>
        <p:spPr>
          <a:xfrm>
            <a:off x="2987640" y="3213000"/>
            <a:ext cx="2383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28"/>
          <p:cNvSpPr txBox="1"/>
          <p:nvPr/>
        </p:nvSpPr>
        <p:spPr>
          <a:xfrm>
            <a:off x="3564000" y="3213000"/>
            <a:ext cx="237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Tree"/>
          <p:cNvSpPr/>
          <p:nvPr/>
        </p:nvSpPr>
        <p:spPr>
          <a:xfrm>
            <a:off x="5508720" y="2060640"/>
            <a:ext cx="27352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70"/>
          <p:cNvSpPr/>
          <p:nvPr/>
        </p:nvSpPr>
        <p:spPr>
          <a:xfrm>
            <a:off x="5003640" y="4365720"/>
            <a:ext cx="720720" cy="57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71"/>
          <p:cNvSpPr/>
          <p:nvPr/>
        </p:nvSpPr>
        <p:spPr>
          <a:xfrm>
            <a:off x="6227640" y="4365720"/>
            <a:ext cx="720720" cy="57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72"/>
          <p:cNvSpPr/>
          <p:nvPr/>
        </p:nvSpPr>
        <p:spPr>
          <a:xfrm>
            <a:off x="7451640" y="4365720"/>
            <a:ext cx="720720" cy="576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3"/>
          <p:cNvSpPr/>
          <p:nvPr/>
        </p:nvSpPr>
        <p:spPr>
          <a:xfrm>
            <a:off x="4932360" y="5229360"/>
            <a:ext cx="71928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4"/>
          <p:cNvSpPr/>
          <p:nvPr/>
        </p:nvSpPr>
        <p:spPr>
          <a:xfrm>
            <a:off x="6156360" y="5229360"/>
            <a:ext cx="720720" cy="647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75"/>
          <p:cNvSpPr/>
          <p:nvPr/>
        </p:nvSpPr>
        <p:spPr>
          <a:xfrm>
            <a:off x="7380360" y="5229360"/>
            <a:ext cx="7207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76"/>
          <p:cNvSpPr/>
          <p:nvPr/>
        </p:nvSpPr>
        <p:spPr>
          <a:xfrm>
            <a:off x="6588000" y="2205000"/>
            <a:ext cx="289080" cy="287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77"/>
          <p:cNvSpPr/>
          <p:nvPr/>
        </p:nvSpPr>
        <p:spPr>
          <a:xfrm>
            <a:off x="7093080" y="2565360"/>
            <a:ext cx="3585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78"/>
          <p:cNvSpPr/>
          <p:nvPr/>
        </p:nvSpPr>
        <p:spPr>
          <a:xfrm>
            <a:off x="6443640" y="2781360"/>
            <a:ext cx="289080" cy="28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9"/>
          <p:cNvSpPr/>
          <p:nvPr/>
        </p:nvSpPr>
        <p:spPr>
          <a:xfrm>
            <a:off x="5796000" y="3500280"/>
            <a:ext cx="360360" cy="358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0"/>
          <p:cNvSpPr/>
          <p:nvPr/>
        </p:nvSpPr>
        <p:spPr>
          <a:xfrm>
            <a:off x="6443640" y="3213000"/>
            <a:ext cx="289080" cy="360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81"/>
          <p:cNvSpPr/>
          <p:nvPr/>
        </p:nvSpPr>
        <p:spPr>
          <a:xfrm>
            <a:off x="7020000" y="3284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82"/>
          <p:cNvSpPr/>
          <p:nvPr/>
        </p:nvSpPr>
        <p:spPr>
          <a:xfrm>
            <a:off x="7524720" y="3429000"/>
            <a:ext cx="360360" cy="36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Грамматически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9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2376360" cy="136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j0149627"/>
          <p:cNvPicPr/>
          <p:nvPr/>
        </p:nvPicPr>
        <p:blipFill>
          <a:blip r:embed="rId2"/>
          <a:stretch/>
        </p:blipFill>
        <p:spPr>
          <a:xfrm>
            <a:off x="1547640" y="4292640"/>
            <a:ext cx="2232360" cy="14414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16"/>
          <p:cNvSpPr txBox="1"/>
          <p:nvPr/>
        </p:nvSpPr>
        <p:spPr>
          <a:xfrm>
            <a:off x="755640" y="2421000"/>
            <a:ext cx="14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Litebulb"/>
          <p:cNvSpPr/>
          <p:nvPr/>
        </p:nvSpPr>
        <p:spPr>
          <a:xfrm>
            <a:off x="2916360" y="2565360"/>
            <a:ext cx="649080" cy="792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WordArt 18"/>
          <p:cNvSpPr txBox="1"/>
          <p:nvPr/>
        </p:nvSpPr>
        <p:spPr>
          <a:xfrm>
            <a:off x="4284720" y="4724280"/>
            <a:ext cx="123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24"/>
          <p:cNvSpPr txBox="1"/>
          <p:nvPr/>
        </p:nvSpPr>
        <p:spPr>
          <a:xfrm>
            <a:off x="7667640" y="263700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WordArt 30"/>
          <p:cNvSpPr txBox="1"/>
          <p:nvPr/>
        </p:nvSpPr>
        <p:spPr>
          <a:xfrm>
            <a:off x="4211640" y="2708280"/>
            <a:ext cx="123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31" descr=""/>
          <p:cNvPicPr/>
          <p:nvPr/>
        </p:nvPicPr>
        <p:blipFill>
          <a:blip r:embed="rId3"/>
          <a:stretch/>
        </p:blipFill>
        <p:spPr>
          <a:xfrm>
            <a:off x="5292720" y="4292640"/>
            <a:ext cx="1374840" cy="1441440"/>
          </a:xfrm>
          <a:prstGeom prst="rect">
            <a:avLst/>
          </a:prstGeom>
          <a:ln w="0">
            <a:noFill/>
          </a:ln>
        </p:spPr>
      </p:pic>
      <p:sp>
        <p:nvSpPr>
          <p:cNvPr id="185" name="WordArt 37"/>
          <p:cNvSpPr txBox="1"/>
          <p:nvPr/>
        </p:nvSpPr>
        <p:spPr>
          <a:xfrm>
            <a:off x="7667640" y="4508640"/>
            <a:ext cx="72072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611280" y="3716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2987640" y="3716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4067280" y="3716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1"/>
          <p:cNvSpPr/>
          <p:nvPr/>
        </p:nvSpPr>
        <p:spPr>
          <a:xfrm>
            <a:off x="5724360" y="3716280"/>
            <a:ext cx="360360" cy="3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7596360" y="3716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3"/>
          <p:cNvSpPr/>
          <p:nvPr/>
        </p:nvSpPr>
        <p:spPr>
          <a:xfrm>
            <a:off x="2484360" y="6093000"/>
            <a:ext cx="3589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4"/>
          <p:cNvSpPr/>
          <p:nvPr/>
        </p:nvSpPr>
        <p:spPr>
          <a:xfrm>
            <a:off x="4211640" y="6093000"/>
            <a:ext cx="3589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5"/>
          <p:cNvSpPr/>
          <p:nvPr/>
        </p:nvSpPr>
        <p:spPr>
          <a:xfrm>
            <a:off x="5940360" y="6093000"/>
            <a:ext cx="3589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7885080" y="6093000"/>
            <a:ext cx="3589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Орфографически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abc"/>
          <p:cNvPicPr/>
          <p:nvPr/>
        </p:nvPicPr>
        <p:blipFill>
          <a:blip r:embed="rId1"/>
          <a:stretch/>
        </p:blipFill>
        <p:spPr>
          <a:xfrm>
            <a:off x="1042920" y="1773360"/>
            <a:ext cx="432108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2320560" y="1914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402000" y="186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33728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386000" y="244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465640" y="244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329280" y="244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337280" y="244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1457640" y="316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465640" y="316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328920" y="301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4336920" y="308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1385640" y="366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320920" y="366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328920" y="3736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4336920" y="3594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1385640" y="424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2394000" y="424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3328920" y="4313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4265640" y="4313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1312920" y="4818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2249280" y="4818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3328920" y="4818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4265640" y="4818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1385640" y="5394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2320920" y="5394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3328920" y="5394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4"/>
          <p:cNvSpPr/>
          <p:nvPr/>
        </p:nvSpPr>
        <p:spPr>
          <a:xfrm>
            <a:off x="4120920" y="5394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5919840" y="1959120"/>
            <a:ext cx="2851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, 1, 13, 9, 12,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, 15, 3, 20, 15,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, 9, 20, 20, 5,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K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, 21, 16, 16,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u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1" dur="1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5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Орфографически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2484360" y="4653000"/>
            <a:ext cx="1292400" cy="1344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950760" y="19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826920" y="1773360"/>
            <a:ext cx="2232360" cy="12016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Pers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809640" y="3160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324000" y="3284640"/>
            <a:ext cx="2087280" cy="273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830520" y="3398760"/>
            <a:ext cx="91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j0300203"/>
          <p:cNvPicPr/>
          <p:nvPr/>
        </p:nvPicPr>
        <p:blipFill>
          <a:blip r:embed="rId3"/>
          <a:stretch/>
        </p:blipFill>
        <p:spPr>
          <a:xfrm>
            <a:off x="5435640" y="1557360"/>
            <a:ext cx="2808360" cy="2139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0"/>
          <p:cNvSpPr/>
          <p:nvPr/>
        </p:nvSpPr>
        <p:spPr>
          <a:xfrm>
            <a:off x="5994000" y="272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5201640" y="2513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WordArt 26"/>
          <p:cNvSpPr txBox="1"/>
          <p:nvPr/>
        </p:nvSpPr>
        <p:spPr>
          <a:xfrm rot="5400000">
            <a:off x="6567840" y="3593160"/>
            <a:ext cx="25704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u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 rot="5400000">
            <a:off x="5652360" y="3717000"/>
            <a:ext cx="2872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WordArt 28"/>
          <p:cNvSpPr txBox="1"/>
          <p:nvPr/>
        </p:nvSpPr>
        <p:spPr>
          <a:xfrm rot="5400000">
            <a:off x="5220000" y="314064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WordArt 29"/>
          <p:cNvSpPr txBox="1"/>
          <p:nvPr/>
        </p:nvSpPr>
        <p:spPr>
          <a:xfrm rot="5400000">
            <a:off x="7415280" y="3609000"/>
            <a:ext cx="432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q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WordArt 30"/>
          <p:cNvSpPr txBox="1"/>
          <p:nvPr/>
        </p:nvSpPr>
        <p:spPr>
          <a:xfrm rot="5400000">
            <a:off x="8058240" y="2824200"/>
            <a:ext cx="3729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s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31"/>
          <p:cNvSpPr txBox="1"/>
          <p:nvPr/>
        </p:nvSpPr>
        <p:spPr>
          <a:xfrm rot="5400000">
            <a:off x="7359120" y="2657160"/>
            <a:ext cx="257040" cy="35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e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6300720" y="5808600"/>
            <a:ext cx="18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Языковы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173480" cy="39686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4932360" y="2054160"/>
            <a:ext cx="527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What is he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playing volley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playing foo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swi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ru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Языковые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3781440" cy="2374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55640" y="2133720"/>
            <a:ext cx="280836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55640" y="2133720"/>
            <a:ext cx="28728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203640" y="2133720"/>
            <a:ext cx="3380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3203640" y="4149720"/>
            <a:ext cx="36036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755640" y="4221000"/>
            <a:ext cx="28908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1619280" y="2924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2627280" y="2708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2627280" y="3716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258920" y="2708280"/>
            <a:ext cx="288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258920" y="3716280"/>
            <a:ext cx="288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1025280" y="4767120"/>
            <a:ext cx="545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 there  in the corner of the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in the  middle of the room?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Ролевая иг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пределению Л.С. Выготского: "Игра - пространство внутренней социализации ребенка, средство усвоения социальных установок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4897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Игры на ауд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t is a domestic animal. It likes fish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t is a wild animal. It likes bana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t is very big and gr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s animal likes grass. It is a domestic animal. It gives us mil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1728720" cy="1439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2016360" cy="1766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"/>
          <p:cNvPicPr/>
          <p:nvPr/>
        </p:nvPicPr>
        <p:blipFill>
          <a:blip r:embed="rId3"/>
          <a:stretch/>
        </p:blipFill>
        <p:spPr>
          <a:xfrm>
            <a:off x="6948360" y="2924280"/>
            <a:ext cx="1756080" cy="1463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j0149627"/>
          <p:cNvPicPr/>
          <p:nvPr/>
        </p:nvPicPr>
        <p:blipFill>
          <a:blip r:embed="rId4"/>
          <a:stretch/>
        </p:blipFill>
        <p:spPr>
          <a:xfrm>
            <a:off x="1547640" y="4797360"/>
            <a:ext cx="2232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Литература используемых ресурс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йсбург М.Л. Использование учебно-речевых ситуаций при обучении устной речи на иностранном языке. – Обнинск: Титул,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нал «Иностранные языки в школе» № 3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ёнова Т.В., Семёнова М.В. Ролевые игры в обучении иностранным языкам.// Иностранные языки в школе. – 2005. - №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нин М.Ф. – «Обучающие игры на уроке английского языка» (М., «Просвещение», 198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imgfotki.yandex.ru/get/3208/stimulus17.1/0_5dfe_846a8f19_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marxists.org/archive/vygo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Ролевая иг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воеобразный учебный прием, при котором учащийся должен свободно говорить в рамках заданных обстоятельств, выступая в роли одного из участников иноязычного общ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Формула приё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ановка проблемы перед учащимся  и необходимость ее решения посредством ролевой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900000" y="4581360"/>
            <a:ext cx="5759640" cy="711360"/>
            <a:chOff x="900000" y="4581360"/>
            <a:chExt cx="5759640" cy="711360"/>
          </a:xfrm>
        </p:grpSpPr>
        <p:sp>
          <p:nvSpPr>
            <p:cNvPr id="50" name="AutoShape 5"/>
            <p:cNvSpPr/>
            <p:nvPr/>
          </p:nvSpPr>
          <p:spPr>
            <a:xfrm>
              <a:off x="900000" y="4581360"/>
              <a:ext cx="575964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2932560" y="4581360"/>
              <a:ext cx="800640" cy="71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3836520" y="4581360"/>
              <a:ext cx="677520" cy="711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4174920" y="4581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3836520" y="5025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4174920" y="4581360"/>
              <a:ext cx="72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3836520" y="4866120"/>
              <a:ext cx="676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Oval 12"/>
          <p:cNvSpPr/>
          <p:nvPr/>
        </p:nvSpPr>
        <p:spPr>
          <a:xfrm>
            <a:off x="971640" y="4581360"/>
            <a:ext cx="720720" cy="719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2"/>
          <p:cNvSpPr/>
          <p:nvPr/>
        </p:nvSpPr>
        <p:spPr>
          <a:xfrm flipV="1">
            <a:off x="1403280" y="436572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3"/>
          <p:cNvSpPr/>
          <p:nvPr/>
        </p:nvSpPr>
        <p:spPr>
          <a:xfrm flipH="1" flipV="1">
            <a:off x="971640" y="4365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4"/>
          <p:cNvSpPr/>
          <p:nvPr/>
        </p:nvSpPr>
        <p:spPr>
          <a:xfrm flipH="1">
            <a:off x="1908000" y="4508640"/>
            <a:ext cx="43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2340000" y="450864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6"/>
          <p:cNvSpPr/>
          <p:nvPr/>
        </p:nvSpPr>
        <p:spPr>
          <a:xfrm>
            <a:off x="2050920" y="4724280"/>
            <a:ext cx="576360" cy="2890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ять категорий роле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ожденные                      возраст и пол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писанные                    национальность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ретенные                 професси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енные                      круг действий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ональные            функция об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 flipV="1">
            <a:off x="3635280" y="2133000"/>
            <a:ext cx="1224000" cy="215640"/>
          </a:xfrm>
          <a:prstGeom prst="rightArrow">
            <a:avLst>
              <a:gd name="adj1" fmla="val 50000"/>
              <a:gd name="adj2" fmla="val 1419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3635280" y="2708280"/>
            <a:ext cx="1224000" cy="216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3635280" y="3213000"/>
            <a:ext cx="1224000" cy="216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3635280" y="3716280"/>
            <a:ext cx="1224000" cy="217440"/>
          </a:xfrm>
          <a:prstGeom prst="rightArrow">
            <a:avLst>
              <a:gd name="adj1" fmla="val 50000"/>
              <a:gd name="adj2" fmla="val 1407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3851280" y="429264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2814480" y="4581360"/>
            <a:ext cx="30848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Игры способствуют выполнению следующих методических зада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185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я психологической готовности детей к речевому общ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ость многократного повторения языкового материа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нировки учащихся в выборе нужного речевого варианта, что является подготовкой к ситуативной спонтанной речи вооб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я заинтересованности учащихся в изучении иностранного я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реимущества использования ролевой игры в классе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левая игра, тренирует у учащихся умение говорить в любой ситуации на любую те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левая игра ставит учащихся в ситуации в которых им требуется использовать и развивать такие языковые формы, которые необходимы как смазочный материал в работе социальных взаимоотно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левая игра обладает целой гаммой технолог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Функции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Organization Chart 11"/>
          <p:cNvGrpSpPr/>
          <p:nvPr/>
        </p:nvGrpSpPr>
        <p:grpSpPr>
          <a:xfrm>
            <a:off x="395280" y="2598840"/>
            <a:ext cx="8454240" cy="1143000"/>
            <a:chOff x="395280" y="2598840"/>
            <a:chExt cx="8454240" cy="114300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 rot="16200000">
              <a:off x="5977800" y="1701720"/>
              <a:ext cx="229320" cy="293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79" idx="2"/>
            </p:cNvCxnSpPr>
            <p:nvPr/>
          </p:nvCxnSpPr>
          <p:spPr>
            <a:xfrm flipH="1" flipV="1" rot="5400000">
              <a:off x="4509000" y="3168720"/>
              <a:ext cx="22932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030"/>
            <p:cNvCxnSpPr>
              <a:stCxn id="83" idx="0"/>
              <a:endCxn id="79" idx="2"/>
            </p:cNvCxnSpPr>
            <p:nvPr/>
          </p:nvCxnSpPr>
          <p:spPr>
            <a:xfrm flipH="1" flipV="1" rot="5400000">
              <a:off x="3039840" y="1699560"/>
              <a:ext cx="229320" cy="2941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1031"/>
            <p:cNvSpPr/>
            <p:nvPr/>
          </p:nvSpPr>
          <p:spPr>
            <a:xfrm>
              <a:off x="3545280" y="2598840"/>
              <a:ext cx="21564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звлекатель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_s1032"/>
            <p:cNvSpPr/>
            <p:nvPr/>
          </p:nvSpPr>
          <p:spPr>
            <a:xfrm>
              <a:off x="395280" y="3284640"/>
              <a:ext cx="25779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оммуникатив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_s1033"/>
            <p:cNvSpPr/>
            <p:nvPr/>
          </p:nvSpPr>
          <p:spPr>
            <a:xfrm>
              <a:off x="3332880" y="3284640"/>
              <a:ext cx="25783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иагностическ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6271200" y="3284640"/>
              <a:ext cx="25783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гротерапевтическ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Line 19"/>
          <p:cNvSpPr/>
          <p:nvPr/>
        </p:nvSpPr>
        <p:spPr>
          <a:xfrm>
            <a:off x="759636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169236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1"/>
          <p:cNvSpPr/>
          <p:nvPr/>
        </p:nvSpPr>
        <p:spPr>
          <a:xfrm>
            <a:off x="6732720" y="4221000"/>
            <a:ext cx="1944720" cy="503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2"/>
          <p:cNvSpPr/>
          <p:nvPr/>
        </p:nvSpPr>
        <p:spPr>
          <a:xfrm>
            <a:off x="611280" y="4221000"/>
            <a:ext cx="2232000" cy="503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5"/>
          <p:cNvSpPr/>
          <p:nvPr/>
        </p:nvSpPr>
        <p:spPr>
          <a:xfrm>
            <a:off x="4572000" y="3789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26"/>
          <p:cNvSpPr/>
          <p:nvPr/>
        </p:nvSpPr>
        <p:spPr>
          <a:xfrm>
            <a:off x="3708360" y="4797360"/>
            <a:ext cx="177804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стет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омпьютерные програм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В гостях у Кролика Робби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Дракоша и занимательный английский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Профессор Хиггинс" английский без акц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"R up"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"Round up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Talk to 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j0300520"/>
          <p:cNvPicPr/>
          <p:nvPr/>
        </p:nvPicPr>
        <p:blipFill>
          <a:blip r:embed="rId1"/>
          <a:stretch/>
        </p:blipFill>
        <p:spPr>
          <a:xfrm>
            <a:off x="4932360" y="2133720"/>
            <a:ext cx="374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атегории иг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ксические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мматические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етические игры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фографические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е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на ауд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4897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БОУ СОШ 4</cp:lastModifiedBy>
  <dcterms:modified xsi:type="dcterms:W3CDTF">2020-01-08T13:01:11Z</dcterms:modified>
  <cp:revision>28</cp:revision>
  <dc:subject/>
  <dc:title>PowerPoint Presentation</dc:title>
</cp:coreProperties>
</file>