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12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9.png" ContentType="image/png"/>
  <Override PartName="/ppt/media/image13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A4E-F61C-478D-87D1-766301DB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972-C99D-4995-8AC8-7246BA5E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7C7-9CD9-4B87-A241-6C51629F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C8A-A2D4-489B-BA6D-B375DBAA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A3AA-3023-4BFB-8CD6-C8D9F072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8B51-8361-4E61-B7B0-7DC837F6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133A-159E-4487-AA4C-3215BB34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A438-06FC-4BBA-9106-BC4F54EA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8426-EDFE-465B-927B-056136A7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A450-2A7B-4BAF-AD00-305EBF46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A929-4B3C-4840-B6D2-42F87893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E09-91B1-442E-956C-2F8E13FE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D68F-E8B7-4E89-BA9C-CEAFD83C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2E60-A42A-4FC2-BCB0-69A41D39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B908-8CAD-4C4F-8BB8-417B047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18AE-F7A3-4C8D-A088-DD3374B0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42A7-362B-43A9-888D-0F92D5D5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19F8-DAF1-4F29-B732-4116EC58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8D7A-6012-4A5F-A453-AFCDD478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B633-43E7-44EA-9F0C-789A1448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FBE0-F18A-4352-A1A7-BDF23280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0F79-EF01-4386-B471-255B57E5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637-7F6C-4831-A450-284374CB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F8D05-F9B1-4A48-9972-CB46BB32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13B7-048C-4003-B70E-EF25B12B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EBED-7FC4-4114-BDF5-6ABA4D97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946C-DDB5-49D1-B06C-EE0B385F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0A95-5215-4DA0-A2F8-FEBAF8BD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6C60-1628-463E-88FD-6D0AADE7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04AA-C235-486C-9EA2-BC6FD9EE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023FD-04FF-41C5-A53E-CA464276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0CCC9-6F77-4355-A235-8D9FD132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C41C9-911D-4088-8B2F-F4D5A626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B3D-A23C-4FC0-8B4E-E635082D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4DCC7-6FC4-4C87-917C-314EDED8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CF9A-F664-4033-A2C1-74DBCAD9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A8B5F-5936-48C3-9DAE-D2C1D54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DAF1-45EE-44DE-A9C5-BEDF461D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FEB8-6E2A-4291-B66D-646A618B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E266B-F6F1-43C3-95D3-573CCEA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01FC-AD87-4B74-91F5-3F074741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04F3-5632-45AD-A5A7-D7F77B08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B6F6C-CCC3-4F3A-93F1-E16E729F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852FD-C7FE-41EC-B87A-53525726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90A-CE07-44EF-86C1-B4A1868C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F67EE-1B9F-4079-B85F-76F79249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1C11-31F1-42F4-B854-1518EEA9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5BAA8-CE91-47CD-8D4F-6914AE04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EF46E-DC28-4FC0-AD7D-14D076A3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E48CF-3B15-4B7D-A712-778991A0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245A7-7366-4737-B91B-B0612823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8E84C-A526-4D84-84CE-CC83AC72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57E70-BC73-433A-8B78-14E0040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D3401-8786-48EA-A66A-6EF798E0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D7831-4651-4862-82DA-E04D3476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979-7374-4282-96A6-4812DC7B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F448-FDF1-48FF-AB02-F0AF430C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C8C-E38D-4657-812C-3388DE89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D89-612D-429F-81CA-655D7A58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CC4-F86A-4D63-BB61-CBE30FC9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0080-7D75-4E08-A5E4-47FF09A9A6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5164-CE2F-4B1C-BC43-9811DEEA65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AA78-A55C-4206-8A06-A266391BA7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0D9B-F1B0-41C5-A889-52D38CD25886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5E4A-0EC2-44DA-B81C-F858F77274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МАТЕМАТИКА</a:t>
            </a:r>
            <a:br>
              <a:rPr sz="4800"/>
            </a:b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1 КЛАСС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РЕШЕНИЕ ЗАДАЧ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600" y="4572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МАМУКАЕВА МАРИНА БОРИСОВНА,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  <a:ea typeface="Tunga"/>
              </a:rPr>
              <a:t>УЧИТЕЛЬ НАЧАЛЬНЫХ КЛАССОВ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МКОУ СОШ №2 ИМ. А.Н. КЕСАЕВА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Г. ДИГОРЫ ДИГОРСКОГО РАЙОНА РСО-АЛАН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3231"/>
                </a:solidFill>
                <a:latin typeface="Franklin Gothic Medium"/>
              </a:rPr>
              <a:t>РЕШИ ЗАДАЧИ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8" name="Picture 20" descr="ребено1-"/>
          <p:cNvPicPr/>
          <p:nvPr/>
        </p:nvPicPr>
        <p:blipFill>
          <a:blip r:embed="rId1"/>
          <a:stretch/>
        </p:blipFill>
        <p:spPr>
          <a:xfrm>
            <a:off x="4419720" y="2133720"/>
            <a:ext cx="1969920" cy="332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BD05092_"/>
          <p:cNvPicPr/>
          <p:nvPr/>
        </p:nvPicPr>
        <p:blipFill>
          <a:blip r:embed="rId2"/>
          <a:stretch/>
        </p:blipFill>
        <p:spPr>
          <a:xfrm>
            <a:off x="2438280" y="2057400"/>
            <a:ext cx="2184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4516d"/>
                </a:solidFill>
                <a:latin typeface="Franklin Gothic Medium"/>
              </a:rPr>
              <a:t>ЗАДАЧА 1</a:t>
            </a:r>
            <a:endParaRPr b="0" lang="en-US" sz="49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1" name="Picture 2" descr="C:\Documents and Settings\Владелец\Рабочий стол\с диска С\анимац, презент из Интернета\анимац картинки\f76.gif"/>
          <p:cNvPicPr/>
          <p:nvPr/>
        </p:nvPicPr>
        <p:blipFill>
          <a:blip r:embed="rId1"/>
          <a:stretch/>
        </p:blipFill>
        <p:spPr>
          <a:xfrm>
            <a:off x="6095880" y="304920"/>
            <a:ext cx="1000080" cy="13017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7"/>
          <p:cNvSpPr/>
          <p:nvPr/>
        </p:nvSpPr>
        <p:spPr>
          <a:xfrm>
            <a:off x="1447920" y="1523880"/>
            <a:ext cx="6705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рда полила 7 цветков, а Кай – на 4 мень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олько цветов полил Ка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0013"/>
          <p:cNvPicPr/>
          <p:nvPr/>
        </p:nvPicPr>
        <p:blipFill>
          <a:blip r:embed="rId2"/>
          <a:stretch/>
        </p:blipFill>
        <p:spPr>
          <a:xfrm>
            <a:off x="4267080" y="4648320"/>
            <a:ext cx="2484720" cy="1955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0013"/>
          <p:cNvPicPr/>
          <p:nvPr/>
        </p:nvPicPr>
        <p:blipFill>
          <a:blip r:embed="rId3"/>
          <a:stretch/>
        </p:blipFill>
        <p:spPr>
          <a:xfrm>
            <a:off x="2133720" y="4648320"/>
            <a:ext cx="2484360" cy="1955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0013"/>
          <p:cNvPicPr/>
          <p:nvPr/>
        </p:nvPicPr>
        <p:blipFill>
          <a:blip r:embed="rId4"/>
          <a:stretch/>
        </p:blipFill>
        <p:spPr>
          <a:xfrm>
            <a:off x="3200400" y="3429000"/>
            <a:ext cx="2484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a4b05"/>
                </a:solidFill>
                <a:latin typeface="Franklin Gothic Medium"/>
              </a:rPr>
              <a:t>ЗАДАЧА 2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7" name="Picture 76" descr="Пин"/>
          <p:cNvPicPr/>
          <p:nvPr/>
        </p:nvPicPr>
        <p:blipFill>
          <a:blip r:embed="rId1"/>
          <a:stretch/>
        </p:blipFill>
        <p:spPr>
          <a:xfrm>
            <a:off x="1523880" y="609480"/>
            <a:ext cx="1714680" cy="2116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2" descr="копатыч"/>
          <p:cNvPicPr/>
          <p:nvPr/>
        </p:nvPicPr>
        <p:blipFill>
          <a:blip r:embed="rId2"/>
          <a:stretch/>
        </p:blipFill>
        <p:spPr>
          <a:xfrm>
            <a:off x="5486400" y="3962520"/>
            <a:ext cx="1981080" cy="22492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1523880" y="1828800"/>
            <a:ext cx="65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ин принё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0    шариков, а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патыч надул ещё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ариков. Скольк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ариков ста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b5c5f"/>
                </a:solidFill>
                <a:latin typeface="Franklin Gothic Medium"/>
              </a:rPr>
              <a:t>ЗАДАЧА 3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1" name="Picture 12" descr="Картинка 21 из 978"/>
          <p:cNvPicPr/>
          <p:nvPr/>
        </p:nvPicPr>
        <p:blipFill>
          <a:blip r:embed="rId1"/>
          <a:stretch/>
        </p:blipFill>
        <p:spPr>
          <a:xfrm>
            <a:off x="3287880" y="1995480"/>
            <a:ext cx="2590560" cy="179064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1523880" y="13716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ьвёнок знает 3 песенки, а черепаха – 9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сколько больше песен  знает черепах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1" descr="1a6fd84ff4be"/>
          <p:cNvPicPr/>
          <p:nvPr/>
        </p:nvPicPr>
        <p:blipFill>
          <a:blip r:embed="rId2"/>
          <a:stretch/>
        </p:blipFill>
        <p:spPr>
          <a:xfrm>
            <a:off x="5715000" y="304920"/>
            <a:ext cx="17654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Franklin Gothic Medium"/>
              </a:rPr>
              <a:t>ЗАДАЧА 4</a:t>
            </a:r>
            <a:endParaRPr b="0" lang="en-US" sz="7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5" name="Picture 11" descr="мишка"/>
          <p:cNvPicPr/>
          <p:nvPr/>
        </p:nvPicPr>
        <p:blipFill>
          <a:blip r:embed="rId1"/>
          <a:stretch/>
        </p:blipFill>
        <p:spPr>
          <a:xfrm>
            <a:off x="3581280" y="3657600"/>
            <a:ext cx="1976400" cy="24382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1523880" y="160020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мка поймал 8 рыбок, а мама на 7 больше.  Сколько рыбок поймала ма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C:\старое\Documents and Settings\С похмела\Мои документы\Мои рисунки\Гифы\77.gif"/>
          <p:cNvPicPr/>
          <p:nvPr/>
        </p:nvPicPr>
        <p:blipFill>
          <a:blip r:embed="rId2"/>
          <a:stretch/>
        </p:blipFill>
        <p:spPr>
          <a:xfrm>
            <a:off x="5715000" y="4800600"/>
            <a:ext cx="1676520" cy="1238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старое\Documents and Settings\С похмела\Мои документы\Мои рисунки\Гифы\77.gif"/>
          <p:cNvPicPr/>
          <p:nvPr/>
        </p:nvPicPr>
        <p:blipFill>
          <a:blip r:embed="rId3"/>
          <a:stretch/>
        </p:blipFill>
        <p:spPr>
          <a:xfrm>
            <a:off x="2057400" y="4952880"/>
            <a:ext cx="1447920" cy="1068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D:\старое\Documents and Settings\Ирина\Мои документы\Мои рисунки\Гифы\чс.gif"/>
          <p:cNvPicPr/>
          <p:nvPr/>
        </p:nvPicPr>
        <p:blipFill>
          <a:blip r:embed="rId4"/>
          <a:stretch/>
        </p:blipFill>
        <p:spPr>
          <a:xfrm flipH="1">
            <a:off x="6171840" y="2895480"/>
            <a:ext cx="1398600" cy="2362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D:\старое\Documents and Settings\Ирина\Мои документы\Мои рисунки\Гифы\чс.gif"/>
          <p:cNvPicPr/>
          <p:nvPr/>
        </p:nvPicPr>
        <p:blipFill>
          <a:blip r:embed="rId5"/>
          <a:stretch/>
        </p:blipFill>
        <p:spPr>
          <a:xfrm flipH="1">
            <a:off x="1371240" y="0"/>
            <a:ext cx="13064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c536f"/>
                </a:solidFill>
                <a:latin typeface="Franklin Gothic Medium"/>
              </a:rPr>
              <a:t>ЗАДАЧА 5</a:t>
            </a:r>
            <a:endParaRPr b="0" lang="en-US" sz="7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Picture 6" descr="а18"/>
          <p:cNvPicPr/>
          <p:nvPr/>
        </p:nvPicPr>
        <p:blipFill>
          <a:blip r:embed="rId1"/>
          <a:srcRect l="71250" t="25183" r="16146" b="37007"/>
          <a:stretch/>
        </p:blipFill>
        <p:spPr>
          <a:xfrm rot="20607600">
            <a:off x="2895480" y="3504960"/>
            <a:ext cx="1459080" cy="291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акарл"/>
          <p:cNvPicPr/>
          <p:nvPr/>
        </p:nvPicPr>
        <p:blipFill>
          <a:blip r:embed="rId2"/>
          <a:stretch/>
        </p:blipFill>
        <p:spPr>
          <a:xfrm rot="1199400">
            <a:off x="4654080" y="3718080"/>
            <a:ext cx="2156040" cy="26431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7"/>
          <p:cNvSpPr/>
          <p:nvPr/>
        </p:nvSpPr>
        <p:spPr>
          <a:xfrm>
            <a:off x="1600200" y="152388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лыш съел 3 плюшки, а Карлсон – 9. Сколько всего плюшек они съе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23231"/>
                </a:solidFill>
                <a:latin typeface="Franklin Gothic Medium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твет: 3 цветка полил Кай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твет: 15 шариков стало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твет: на 6 песен больше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твет: 15 рыбок поймала мама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твет: всего 12 плюшек съели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7" name="Picture 2" descr="C:\Documents and Settings\Владелец\Рабочий стол\с диска С\анимац, презент из Интернета\анимац картинки\f76.gif"/>
          <p:cNvPicPr/>
          <p:nvPr/>
        </p:nvPicPr>
        <p:blipFill>
          <a:blip r:embed="rId1"/>
          <a:stretch/>
        </p:blipFill>
        <p:spPr>
          <a:xfrm>
            <a:off x="1295280" y="1295280"/>
            <a:ext cx="644760" cy="838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2" descr="копатыч"/>
          <p:cNvPicPr/>
          <p:nvPr/>
        </p:nvPicPr>
        <p:blipFill>
          <a:blip r:embed="rId2"/>
          <a:stretch/>
        </p:blipFill>
        <p:spPr>
          <a:xfrm>
            <a:off x="6705720" y="2057400"/>
            <a:ext cx="703080" cy="798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1a6fd84ff4be"/>
          <p:cNvPicPr/>
          <p:nvPr/>
        </p:nvPicPr>
        <p:blipFill>
          <a:blip r:embed="rId3"/>
          <a:stretch/>
        </p:blipFill>
        <p:spPr>
          <a:xfrm>
            <a:off x="990720" y="2743200"/>
            <a:ext cx="1307880" cy="684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старое\Documents and Settings\С похмела\Мои документы\Мои рисунки\Гифы\77.gif"/>
          <p:cNvPicPr/>
          <p:nvPr/>
        </p:nvPicPr>
        <p:blipFill>
          <a:blip r:embed="rId4"/>
          <a:stretch/>
        </p:blipFill>
        <p:spPr>
          <a:xfrm>
            <a:off x="7010280" y="3200400"/>
            <a:ext cx="1143000" cy="84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акарл"/>
          <p:cNvPicPr/>
          <p:nvPr/>
        </p:nvPicPr>
        <p:blipFill>
          <a:blip r:embed="rId5"/>
          <a:stretch/>
        </p:blipFill>
        <p:spPr>
          <a:xfrm rot="1199400">
            <a:off x="6468840" y="3994200"/>
            <a:ext cx="80460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WordArt 3" descr=""/>
          <p:cNvPicPr/>
          <p:nvPr/>
        </p:nvPicPr>
        <p:blipFill>
          <a:blip r:embed="rId1"/>
          <a:stretch/>
        </p:blipFill>
        <p:spPr>
          <a:xfrm>
            <a:off x="987480" y="1773360"/>
            <a:ext cx="70959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атима</dc:creator>
  <dc:description/>
  <dc:language>en-US</dc:language>
  <cp:lastModifiedBy>Фатима</cp:lastModifiedBy>
  <dcterms:modified xsi:type="dcterms:W3CDTF">2020-01-08T17:21:42Z</dcterms:modified>
  <cp:revision>13</cp:revision>
  <dc:subject/>
  <dc:title>Реши задачи</dc:title>
</cp:coreProperties>
</file>