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95E3-AF66-4B70-BB66-48220D3EC4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C98C-7C88-41BB-8F36-9ABFB1F0AC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AACC-BEAB-4470-A0FC-9D43A327FF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2A6B-A859-4A7D-A40C-EB54ADD81A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703A-940A-49DB-A59D-9F190D5664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BECF-73C9-4B02-9FBF-17B351498A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DD01-A6C0-4D40-B945-BDFBBF7B79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1F59-5B7A-4BF2-BE07-D01880F36D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0CF2-68B5-4787-BC33-C78CD2697C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3A2A-91AE-411D-B140-82F38E1E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D83B-5E85-4905-8E5A-82681145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3D5F-CDFF-458A-8779-700A8C88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F4AD-4239-4157-81D4-814D1BAE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C42F-E7D6-4FEC-8A14-DC746D95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D431-FE93-42F5-B91B-F6DFCFF8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3C5E-A41E-480B-B234-2ED7FFF3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5AF5-2714-4FAC-8B13-1D9A7A4F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E88C-B5DA-4CF1-8557-CB57B3E0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347C-AC50-4FF2-BFFD-10EA8273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C67E-E88B-483F-9B7E-C7BCEC94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3D40-2436-4C6E-9A22-1402347A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8A4F-41BF-4C94-A18A-C2A9F1BF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F952-3FDA-44AE-9D49-54B8BCA6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3FFC-5E46-45EE-9A7D-05EA36CC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BC48-C807-458F-A50B-6E376737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A4A2-2121-4065-849C-76D43B95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D2290F-4F0F-4103-A4BA-9AA33D94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56F8D-3E7C-4512-9BBB-3FC49A4C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02A6B-745B-4E6A-8D08-79596F51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9C66D-07CA-4DA4-9435-82D90152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90C6E5-77D0-4323-B80D-58152CBE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BE5D-7E90-4128-965C-8E704493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C8819-2523-4E50-AD5D-EB93DA22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5540E-CE37-46EF-9301-DAE30649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C4EC7F-9E83-4072-8BBF-FD956859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23619A-FBF1-4C12-B4B7-234221B6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FA5E3-7C5E-4445-9DB0-44506C23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A1F5F-1E4D-4940-81CA-6F52FD0C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1FF4D-03E3-4C82-94D5-021DCA0D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0D5B4-A4B4-4037-B205-E7EB1DD9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5146D-255C-4175-8DFC-B48C355C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BA333-3CB2-4383-AAC6-D226D388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F83E-FEAD-4A62-BDBD-C35CC4BC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26ECB-056D-4CA1-821C-1C50D5CC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84F87-00DD-4A51-B102-C9298F42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6BCF7-9A57-4605-B7CD-BDCB2649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DF45C-89EE-469B-980A-9B000C7D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EADBB-F054-46D5-8EC1-C5E78C36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C52AF-2433-4408-8BBD-62806370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B2B67-8F4C-4C31-B891-A693B29A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40BC4-0762-4D78-8EE1-75A198F4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D21DC-E4C5-494E-B78F-A4B62C8B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0E8199-6F25-4948-86A4-373BD4FF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3363-FC72-425B-A8B7-CE6AAF47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D9A004-90EC-4238-B314-8DD4FCE9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A6B31B-EC68-48A9-9B71-66BCCB08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8CB737-66DA-45AC-A417-AC9042AA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01BA0-720E-4F46-BB27-EA087B1A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81E0BE-8637-4A07-A3B1-F4577EE5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BD2C9E-B9BD-4F0F-94F8-7A1A33F6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61A2E2-F288-4DCC-BB84-4B849D97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3BDA17-D15F-433B-BD07-4E4ED168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EF6B26-E8B4-4403-AC6D-0A28948E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0AB1E2-DE51-4D88-AFE9-67D2B8A5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F6B2-0AB8-4271-AF02-F63A707A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AA25F4-B571-4B99-9F0D-B68465EA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717EDF-366C-4D0C-86EA-29B380BD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8FC3AB-099D-4A2E-85D5-023C8BC0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AD9926-5DCF-44F1-9D86-958292D7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FCF681-B03A-4FDF-AF0D-C02229F2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36BBD5-EDA5-454C-8F18-6E573F86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989948-48DA-434E-8F2C-8AA6BD6E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EFB740-D049-47AB-AB86-7F3242CE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FF9CE6-033C-42A8-A361-2ABA5A97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F4109D-3DE6-42B2-B516-0026B606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3D17-8DCE-4BA5-9DF3-48E4DF9C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881074-D13D-4F9F-BF0F-7DE6F346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7D4B77-CED8-47DA-8681-41C34F7E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08409E-5879-4D22-8D34-B537C903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B616F0-F0A4-44B3-9866-4E83128D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01CF65-8E9A-48F7-BA4B-EA3C3398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A6805F-0A54-4334-8974-2C5D111B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DBD173-AC2A-4E83-9F45-6130F2A9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29C854-D0EC-4313-846F-B8EC8580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806891-63A1-40A6-9A2C-84DFE045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7EC625-81F6-4333-A2B9-D1756FEB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AC2A-7747-4FF1-B0FC-42780CEB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FE83E3-5EB1-4442-9390-0BCC58BD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6FB52D-6967-4165-B28A-A6C2835D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1138E2-0D9F-4D2D-8E39-493E954C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15A38D-D4A7-40F8-AEAD-3EAA79DA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14180F-6669-4402-9E45-E9983EB3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DE8E-278F-4DA7-8B59-3BCD30D5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0F15-9F3B-408D-BC86-6EFCC9036E7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D74F-0803-4C27-AC9E-F1D0CBA8000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D7F4-07A5-44ED-A94A-30BDFB49299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BEE1-4899-4C15-AF34-7EC1EF6870A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E12C-6DC5-43D7-91DA-246D1E0A541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D9A2-DBBF-404D-93E4-134F60684F3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B216-87BB-4EDE-A6BF-DA2C59600A1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499680"/>
            <a:ext cx="61722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РОДИТЕЛЬСКОЕ СОБРАНИЕ 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Рисунок 5" descr="Рисунок8.png"/>
          <p:cNvPicPr/>
          <p:nvPr/>
        </p:nvPicPr>
        <p:blipFill>
          <a:blip r:embed="rId1"/>
          <a:stretch/>
        </p:blipFill>
        <p:spPr>
          <a:xfrm>
            <a:off x="2297160" y="2786040"/>
            <a:ext cx="6846840" cy="3643200"/>
          </a:xfrm>
          <a:prstGeom prst="rect">
            <a:avLst/>
          </a:prstGeom>
          <a:ln w="0">
            <a:noFill/>
          </a:ln>
        </p:spPr>
      </p:pic>
      <p:pic>
        <p:nvPicPr>
          <p:cNvPr id="361" name="13. А. ПЕТРОВ - ТАНЕЦ ВОСПОМИНАНИЙ .mp3" descr=""/>
          <p:cNvPicPr/>
          <p:nvPr/>
        </p:nvPicPr>
        <p:blipFill>
          <a:blip r:embed="rId2"/>
          <a:stretch/>
        </p:blipFill>
        <p:spPr>
          <a:xfrm>
            <a:off x="814392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675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D:\My private\Презентации. Шаблоны 2\оформление презентаций\рамочки\94-3.jp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D:\My private\картинки\Звонок\звонок.png"/>
          <p:cNvPicPr/>
          <p:nvPr/>
        </p:nvPicPr>
        <p:blipFill>
          <a:blip r:embed="rId2"/>
          <a:stretch/>
        </p:blipFill>
        <p:spPr>
          <a:xfrm>
            <a:off x="500040" y="7142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D:\My private\картинки\ШКОЛА. 1 СЕНТЯБРЯ (АНИМАЦИИ и КАРТИНКИ)\БОЛЬШОЕ СПАСИБО.gif"/>
          <p:cNvPicPr/>
          <p:nvPr/>
        </p:nvPicPr>
        <p:blipFill>
          <a:blip r:embed="rId3"/>
          <a:stretch/>
        </p:blipFill>
        <p:spPr>
          <a:xfrm>
            <a:off x="2143080" y="1143000"/>
            <a:ext cx="5405400" cy="3857760"/>
          </a:xfrm>
          <a:prstGeom prst="rect">
            <a:avLst/>
          </a:prstGeom>
          <a:ln w="0">
            <a:noFill/>
          </a:ln>
        </p:spPr>
      </p:pic>
      <p:pic>
        <p:nvPicPr>
          <p:cNvPr id="382" name="TextBox 4" descr=""/>
          <p:cNvPicPr/>
          <p:nvPr/>
        </p:nvPicPr>
        <p:blipFill>
          <a:blip r:embed="rId4"/>
          <a:stretch/>
        </p:blipFill>
        <p:spPr>
          <a:xfrm>
            <a:off x="1359000" y="4780080"/>
            <a:ext cx="6499080" cy="693720"/>
          </a:xfrm>
          <a:prstGeom prst="rect">
            <a:avLst/>
          </a:prstGeom>
          <a:ln w="0">
            <a:noFill/>
          </a:ln>
        </p:spPr>
      </p:pic>
      <p:pic>
        <p:nvPicPr>
          <p:cNvPr id="383" name="03 - Поль Мориа - Мужчина и женщина.mp3" descr=""/>
          <p:cNvPicPr/>
          <p:nvPr/>
        </p:nvPicPr>
        <p:blipFill>
          <a:blip r:embed="rId5"/>
          <a:stretch/>
        </p:blipFill>
        <p:spPr>
          <a:xfrm>
            <a:off x="850104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2399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ПЛАН СОБРА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4280"/>
            <a:ext cx="804384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ыступление детей по проектной деятельн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О помощи родителей при работе над   проекто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Темы, изучаемые во 2-ой четверти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3 класс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неклассные мероприят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Беседа по ТБ на период зимних      каникул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азно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чёркиваю, что проект подразумевает самостоятельную деятельность ученика. Задача родителя - знать суть этой проектной деятельности, её этапов, требований к процессу и результату, чтобы быть готовым помочь ребёнку, если он обратится к вам за помощью. И напомнаю, что родители играют роль информации наравне с таковыми - как книги, фильмы, интернет и другие источни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ТЕМЫ, ИЗУЧАЕМЫЕ ВО 2 ЧЕТВЕРТИ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00040" y="78552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b0f0"/>
                </a:solidFill>
                <a:uFillTx/>
                <a:latin typeface="Century Schoolbook"/>
              </a:rPr>
              <a:t>Русский язык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став слов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рфограммы корня: безударные гласные, непроизносимые  согласные, удвоенные согласны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мя существительно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b0f0"/>
                </a:solidFill>
                <a:uFillTx/>
                <a:latin typeface="Century Schoolbook"/>
              </a:rPr>
              <a:t>МАТЕМАТИК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79280" y="1071360"/>
            <a:ext cx="89647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       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Темы, изучаемые во 2 четверт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Таблица умножения и деле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шение задач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лощад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b0f0"/>
                </a:solidFill>
                <a:uFillTx/>
                <a:latin typeface="Century Schoolbook"/>
              </a:rPr>
              <a:t>ЧТЕНИЕ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28760" y="35676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Темы, изучаемые во 2 четверт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тихи А.С. Пушкин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«Зимний вечер», «Зимнее утро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Басни И.А. Крылов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«Ворона и Лисица», «Мартышка и очки», «Обезьяна и зеркало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тихи М.Ю. Лермонтов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«Утёс», «Осень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ссказы Л.Н. Толстог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«Прыжок», «Акула», «Лев и собачка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b0f0"/>
                </a:solidFill>
                <a:uFillTx/>
                <a:latin typeface="Century Schoolbook"/>
              </a:rPr>
              <a:t>ОКРУЖАЮЩИЙ МИР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999720"/>
            <a:ext cx="7924680" cy="682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Раздел 2. Эта удивительная природ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храна раст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то что ест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множение и развитие животны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храна животны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царстве гриб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еликий круговорот жизн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ект «Красная книга РТ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Раздел 3. Мы и наше здоровь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рганизм челове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рганы чувст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дёжная защита организм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ект «Школа кулинаров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Рисунок 6" descr="daln_vost.jpg"/>
          <p:cNvPicPr/>
          <p:nvPr/>
        </p:nvPicPr>
        <p:blipFill>
          <a:blip r:embed="rId1"/>
          <a:stretch/>
        </p:blipFill>
        <p:spPr>
          <a:xfrm>
            <a:off x="6588000" y="189000"/>
            <a:ext cx="2032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Уважаемые родители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коро наступят зимние каникулы!</a:t>
            </a:r>
            <a:br>
              <a:rPr sz="20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ы всегда заняты своими делами и заботами, всегда испытываете нехватку времени. И все –таки… Несмотря на свои заботы, не забывайте о тех, кто нуждается в вашей помощи, совете – это наши дети. Бывает, что беда на дороге происходит из – за бесконтрольности родителей, их беспечности. Вот почему, обращаясь сегодня к вам, родители, я хочу чтобы вы регулярно повторяли детям правила ТБ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_AntiqueTradyTtlB&amp;W"/>
              </a:rPr>
              <a:t>ГРАФИК ШКОЛЬНЫХ КАНИКУЛ</a:t>
            </a:r>
            <a:r>
              <a:rPr b="1" lang="ru-RU" sz="2800" spc="-1" strike="noStrike">
                <a:solidFill>
                  <a:srgbClr val="898989"/>
                </a:solidFill>
                <a:latin typeface="a_AntiqueTradyTtlB&amp;W"/>
              </a:rPr>
              <a:t>  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_AntiqueTradyTtlB&amp;W"/>
              </a:rPr>
              <a:t>В 2019-2020 УЧЕБНОМ ГОДУ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395280" y="1600200"/>
          <a:ext cx="7529400" cy="2835360"/>
        </p:xfrm>
        <a:graphic>
          <a:graphicData uri="http://schemas.openxmlformats.org/drawingml/2006/table">
            <a:tbl>
              <a:tblPr/>
              <a:tblGrid>
                <a:gridCol w="3795840"/>
                <a:gridCol w="373356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Зимние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.12.2013 – 13.01.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2d050"/>
                          </a:solidFill>
                          <a:latin typeface="Times New Roman"/>
                          <a:ea typeface="Times New Roman"/>
                        </a:rPr>
                        <a:t>Весенние 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03.2014 – 31.03.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02:43:47Z</dcterms:created>
  <dc:creator>Магер Т.В.</dc:creator>
  <dc:description/>
  <dc:language>en-US</dc:language>
  <cp:lastModifiedBy>Tatyana Mager</cp:lastModifiedBy>
  <dcterms:modified xsi:type="dcterms:W3CDTF">2020-01-08T15:50:47Z</dcterms:modified>
  <cp:revision>103</cp:revision>
  <dc:subject/>
  <dc:title>График школьных каникул   в 2010-2011 учебном году</dc:title>
</cp:coreProperties>
</file>