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50A-C41E-47E9-AB1D-628DF746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9D2-1CA7-4574-9991-248CCD77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EFF-7BD2-45F5-9AED-C75D789D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E04-A70E-46BB-9E52-38DE7065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BE40-8963-4418-9201-D04E24FB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D326-1B29-411E-BFDA-FDBE40BB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53A-6675-4F88-AA67-0431A84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9693-E58C-4210-A7D9-E878239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FD39-D9A0-45F0-B01A-1C65D723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5ED-CFC0-454D-BA26-7D1EAE7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26D-0439-4151-BE32-5E48FD1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94F-2400-451A-A8E4-88C8D79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E2FB-966D-4AE9-8502-2214430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88D6-A40D-4895-8B02-A238532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320F-16CD-4C91-B4A9-014639A5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2F5-3423-43CA-992E-3229DF5A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1FAB-A253-4B01-BB1B-85610191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6FE1-7505-474D-8AD2-9C125564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E12C-792D-4F01-93AD-9AD94C48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D797-F4A4-48CB-9314-403486CE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372E-6DC0-43B7-97C3-610260F2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6040-0705-4140-BA45-3A36BF71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D68-C806-406A-B710-09AB417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2767-64E9-4676-96AA-2687D59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C01D-6FDD-4A17-A830-2E7A6D1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CB4E-A906-41E0-BDC8-9A7F5615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BAD6-1B32-4805-A2BA-89D4312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477F-BFB9-47B1-A7ED-B54EF7BE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D62C-08DA-48AB-960F-ECC6DD42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2635-A786-4CBE-83E4-55E87A2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729-00E9-40F6-BB63-397DB1DE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0D5-C142-4874-B4C9-1AAE4BC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2AF-7983-4AA0-B99B-E053F495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ABC-2B43-4770-870C-EDAB5D7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519-E725-4AFC-B1AB-B2E3669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C6A-498A-47BF-84BC-D4914FE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D9FD-396D-456D-8DA7-54BDCF8558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BA96-E374-449C-B38B-5EAC5BA86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43D3-946A-4239-AFB0-10C069FD71B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CA87-F4F2-4BD9-B8C7-DA0F7EB96C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190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ТЕХНОЛОГИЯ ДЕЯТЕЛЬНОСТНОГО МЕТОДА НА УРОКАХ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H:\Documents and Settings\Aida\Рабочий стол\текстуры и фоны, клипарты\новеньки картинки\graph equation ha.gif"/>
          <p:cNvPicPr/>
          <p:nvPr/>
        </p:nvPicPr>
        <p:blipFill>
          <a:blip r:embed="rId2"/>
          <a:stretch/>
        </p:blipFill>
        <p:spPr>
          <a:xfrm>
            <a:off x="639720" y="360360"/>
            <a:ext cx="1719360" cy="157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H:\Documents and Settings\Aida\Рабочий стол\текстуры и фоны, клипарты\новеньки картинки\office hilighter roll a hc.gif"/>
          <p:cNvPicPr/>
          <p:nvPr/>
        </p:nvPicPr>
        <p:blipFill>
          <a:blip r:embed="rId3"/>
          <a:stretch/>
        </p:blipFill>
        <p:spPr>
          <a:xfrm>
            <a:off x="500040" y="492912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1809720" y="5157720"/>
            <a:ext cx="679464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</a:rPr>
              <a:t>Подготовила Иванова Наталья Льв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Arial"/>
              </a:rPr>
              <a:t>учитель МБОУ «Ситне-Щелкановская СОШ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3492360" y="620640"/>
            <a:ext cx="489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ая цель образования -     это не знания, а действи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 Спенс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A00B-B8FA-41CB-AC4B-65262A3482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48B1-57D8-4A0B-9D91-254CF0609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67640" y="4941720"/>
            <a:ext cx="1328760" cy="1725840"/>
          </a:xfrm>
          <a:prstGeom prst="rect">
            <a:avLst/>
          </a:prstGeom>
          <a:ln w="0">
            <a:noFill/>
          </a:ln>
        </p:spPr>
      </p:pic>
      <p:sp>
        <p:nvSpPr>
          <p:cNvPr id="225" name="Line 33"/>
          <p:cNvSpPr/>
          <p:nvPr/>
        </p:nvSpPr>
        <p:spPr>
          <a:xfrm>
            <a:off x="2482920" y="9716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4"/>
          <p:cNvSpPr/>
          <p:nvPr/>
        </p:nvSpPr>
        <p:spPr>
          <a:xfrm>
            <a:off x="2479680" y="500040"/>
            <a:ext cx="1604880" cy="349200"/>
          </a:xfrm>
          <a:custGeom>
            <a:avLst/>
            <a:gdLst/>
            <a:ahLst/>
            <a:rect l="l" t="t" r="r" b="b"/>
            <a:pathLst>
              <a:path w="2527" h="550">
                <a:moveTo>
                  <a:pt x="13" y="524"/>
                </a:moveTo>
                <a:cubicBezTo>
                  <a:pt x="51" y="411"/>
                  <a:pt x="0" y="550"/>
                  <a:pt x="58" y="434"/>
                </a:cubicBezTo>
                <a:cubicBezTo>
                  <a:pt x="65" y="420"/>
                  <a:pt x="63" y="401"/>
                  <a:pt x="73" y="389"/>
                </a:cubicBezTo>
                <a:cubicBezTo>
                  <a:pt x="84" y="375"/>
                  <a:pt x="103" y="369"/>
                  <a:pt x="118" y="359"/>
                </a:cubicBezTo>
                <a:cubicBezTo>
                  <a:pt x="144" y="280"/>
                  <a:pt x="120" y="323"/>
                  <a:pt x="223" y="254"/>
                </a:cubicBezTo>
                <a:cubicBezTo>
                  <a:pt x="330" y="182"/>
                  <a:pt x="368" y="161"/>
                  <a:pt x="493" y="119"/>
                </a:cubicBezTo>
                <a:cubicBezTo>
                  <a:pt x="523" y="109"/>
                  <a:pt x="552" y="92"/>
                  <a:pt x="583" y="89"/>
                </a:cubicBezTo>
                <a:cubicBezTo>
                  <a:pt x="648" y="82"/>
                  <a:pt x="727" y="77"/>
                  <a:pt x="793" y="59"/>
                </a:cubicBezTo>
                <a:cubicBezTo>
                  <a:pt x="824" y="51"/>
                  <a:pt x="883" y="29"/>
                  <a:pt x="883" y="29"/>
                </a:cubicBezTo>
                <a:cubicBezTo>
                  <a:pt x="1113" y="35"/>
                  <a:pt x="1351" y="0"/>
                  <a:pt x="1573" y="74"/>
                </a:cubicBezTo>
                <a:cubicBezTo>
                  <a:pt x="1657" y="102"/>
                  <a:pt x="1743" y="126"/>
                  <a:pt x="1828" y="149"/>
                </a:cubicBezTo>
                <a:cubicBezTo>
                  <a:pt x="1868" y="160"/>
                  <a:pt x="1948" y="179"/>
                  <a:pt x="1948" y="179"/>
                </a:cubicBezTo>
                <a:cubicBezTo>
                  <a:pt x="1999" y="213"/>
                  <a:pt x="2038" y="224"/>
                  <a:pt x="2098" y="239"/>
                </a:cubicBezTo>
                <a:cubicBezTo>
                  <a:pt x="2113" y="249"/>
                  <a:pt x="2127" y="262"/>
                  <a:pt x="2143" y="269"/>
                </a:cubicBezTo>
                <a:cubicBezTo>
                  <a:pt x="2172" y="282"/>
                  <a:pt x="2233" y="299"/>
                  <a:pt x="2233" y="299"/>
                </a:cubicBezTo>
                <a:cubicBezTo>
                  <a:pt x="2288" y="382"/>
                  <a:pt x="2231" y="316"/>
                  <a:pt x="2308" y="359"/>
                </a:cubicBezTo>
                <a:cubicBezTo>
                  <a:pt x="2463" y="445"/>
                  <a:pt x="2341" y="400"/>
                  <a:pt x="2443" y="434"/>
                </a:cubicBezTo>
                <a:cubicBezTo>
                  <a:pt x="2453" y="449"/>
                  <a:pt x="2459" y="468"/>
                  <a:pt x="2473" y="479"/>
                </a:cubicBezTo>
                <a:cubicBezTo>
                  <a:pt x="2527" y="523"/>
                  <a:pt x="2518" y="462"/>
                  <a:pt x="2518" y="5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3168720" y="9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2139840" y="1206360"/>
            <a:ext cx="22860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ая работа №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 flipH="1">
            <a:off x="2482560" y="1560600"/>
            <a:ext cx="6858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168720" y="1560600"/>
            <a:ext cx="6858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8"/>
          <p:cNvSpPr/>
          <p:nvPr/>
        </p:nvSpPr>
        <p:spPr>
          <a:xfrm>
            <a:off x="1797120" y="1914480"/>
            <a:ext cx="6858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7"/>
          <p:cNvSpPr/>
          <p:nvPr/>
        </p:nvSpPr>
        <p:spPr>
          <a:xfrm>
            <a:off x="3740040" y="1914480"/>
            <a:ext cx="6858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6"/>
          <p:cNvSpPr/>
          <p:nvPr/>
        </p:nvSpPr>
        <p:spPr>
          <a:xfrm>
            <a:off x="2139840" y="249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4083120" y="249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1568520" y="2736720"/>
            <a:ext cx="12571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лон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3282840" y="2736720"/>
            <a:ext cx="17146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щу ошибку и выясняю её пр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2139840" y="30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419724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1339920" y="3324240"/>
            <a:ext cx="14857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ы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3740040" y="3559320"/>
            <a:ext cx="10288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над ошиб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2025720" y="391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4173480" y="412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1316160" y="4232160"/>
            <a:ext cx="1485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верка по образ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3602160" y="435276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лон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287960" y="4702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030480" y="5056200"/>
            <a:ext cx="2400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ая работа №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4287960" y="574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3716280" y="598320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лон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flipV="1">
            <a:off x="2801880" y="7635960"/>
            <a:ext cx="11430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687760" y="6686640"/>
            <a:ext cx="14857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задач на 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 flipH="1">
            <a:off x="3830760" y="633240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1887480" y="4702320"/>
            <a:ext cx="914400" cy="17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3373560" y="7280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3373560" y="798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2573280" y="822312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2573280" y="8223120"/>
            <a:ext cx="1752480" cy="428760"/>
          </a:xfrm>
          <a:custGeom>
            <a:avLst/>
            <a:gdLst/>
            <a:ahLst/>
            <a:rect l="l" t="t" r="r" b="b"/>
            <a:pathLst>
              <a:path w="2760" h="675">
                <a:moveTo>
                  <a:pt x="0" y="15"/>
                </a:moveTo>
                <a:cubicBezTo>
                  <a:pt x="20" y="45"/>
                  <a:pt x="40" y="75"/>
                  <a:pt x="60" y="105"/>
                </a:cubicBezTo>
                <a:cubicBezTo>
                  <a:pt x="78" y="131"/>
                  <a:pt x="80" y="165"/>
                  <a:pt x="90" y="195"/>
                </a:cubicBezTo>
                <a:cubicBezTo>
                  <a:pt x="95" y="210"/>
                  <a:pt x="96" y="227"/>
                  <a:pt x="105" y="240"/>
                </a:cubicBezTo>
                <a:cubicBezTo>
                  <a:pt x="175" y="345"/>
                  <a:pt x="135" y="310"/>
                  <a:pt x="210" y="360"/>
                </a:cubicBezTo>
                <a:cubicBezTo>
                  <a:pt x="296" y="489"/>
                  <a:pt x="181" y="337"/>
                  <a:pt x="285" y="420"/>
                </a:cubicBezTo>
                <a:cubicBezTo>
                  <a:pt x="299" y="431"/>
                  <a:pt x="300" y="455"/>
                  <a:pt x="315" y="465"/>
                </a:cubicBezTo>
                <a:cubicBezTo>
                  <a:pt x="355" y="490"/>
                  <a:pt x="411" y="484"/>
                  <a:pt x="450" y="510"/>
                </a:cubicBezTo>
                <a:cubicBezTo>
                  <a:pt x="554" y="579"/>
                  <a:pt x="793" y="614"/>
                  <a:pt x="915" y="630"/>
                </a:cubicBezTo>
                <a:cubicBezTo>
                  <a:pt x="945" y="634"/>
                  <a:pt x="975" y="642"/>
                  <a:pt x="1005" y="645"/>
                </a:cubicBezTo>
                <a:cubicBezTo>
                  <a:pt x="1110" y="657"/>
                  <a:pt x="1320" y="675"/>
                  <a:pt x="1320" y="675"/>
                </a:cubicBezTo>
                <a:cubicBezTo>
                  <a:pt x="1460" y="670"/>
                  <a:pt x="1600" y="668"/>
                  <a:pt x="1740" y="660"/>
                </a:cubicBezTo>
                <a:cubicBezTo>
                  <a:pt x="1849" y="653"/>
                  <a:pt x="1962" y="615"/>
                  <a:pt x="2070" y="600"/>
                </a:cubicBezTo>
                <a:cubicBezTo>
                  <a:pt x="2159" y="570"/>
                  <a:pt x="2231" y="553"/>
                  <a:pt x="2325" y="540"/>
                </a:cubicBezTo>
                <a:cubicBezTo>
                  <a:pt x="2404" y="514"/>
                  <a:pt x="2357" y="534"/>
                  <a:pt x="2460" y="465"/>
                </a:cubicBezTo>
                <a:cubicBezTo>
                  <a:pt x="2475" y="455"/>
                  <a:pt x="2505" y="435"/>
                  <a:pt x="2505" y="435"/>
                </a:cubicBezTo>
                <a:cubicBezTo>
                  <a:pt x="2515" y="420"/>
                  <a:pt x="2521" y="401"/>
                  <a:pt x="2535" y="390"/>
                </a:cubicBezTo>
                <a:cubicBezTo>
                  <a:pt x="2547" y="380"/>
                  <a:pt x="2569" y="386"/>
                  <a:pt x="2580" y="375"/>
                </a:cubicBezTo>
                <a:cubicBezTo>
                  <a:pt x="2591" y="364"/>
                  <a:pt x="2585" y="342"/>
                  <a:pt x="2595" y="330"/>
                </a:cubicBezTo>
                <a:cubicBezTo>
                  <a:pt x="2606" y="316"/>
                  <a:pt x="2625" y="310"/>
                  <a:pt x="2640" y="300"/>
                </a:cubicBezTo>
                <a:cubicBezTo>
                  <a:pt x="2726" y="171"/>
                  <a:pt x="2623" y="334"/>
                  <a:pt x="2685" y="210"/>
                </a:cubicBezTo>
                <a:cubicBezTo>
                  <a:pt x="2718" y="144"/>
                  <a:pt x="2760" y="77"/>
                  <a:pt x="27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3971880" y="-305280"/>
            <a:ext cx="12002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3937320" y="182160"/>
            <a:ext cx="126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0"/>
          <p:cNvSpPr/>
          <p:nvPr/>
        </p:nvSpPr>
        <p:spPr>
          <a:xfrm>
            <a:off x="1016640" y="822240"/>
            <a:ext cx="711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838-1A9C-4297-8E71-8DEEE3CF0B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D003-BAE8-432F-8AFF-3D2A2B9FE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4869000"/>
            <a:ext cx="13287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B8C-937E-4E30-A98B-570E8D57A8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0A83-E9F3-4AAA-958D-712AD9C65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F31-0289-4565-94FA-26D4A8B47D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FA1-D34B-4D45-8D7E-B0774F029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79280" y="5132520"/>
            <a:ext cx="13287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нятие и сущность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8C1F-4E94-45F5-8A5F-073233C359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39F-7C7B-4185-B6D3-3A4D7142F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1042920" y="1341360"/>
            <a:ext cx="7632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широком значении термин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«универсальные учебные действи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ение учить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т. е. способность субъекта к саморазвитию и самосовершенствованию путем сознательного и активного присвоения нового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лее узком  значении этот термин можно определить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окупность способов действ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ащегося (а также связанных с ними навыков учебной работы), обеспечивающих самостоятельное усвоение новых знаний, формирование умений, включая организацию эт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хема 1" descr=""/>
          <p:cNvPicPr/>
          <p:nvPr/>
        </p:nvPicPr>
        <p:blipFill>
          <a:blip r:embed="rId1"/>
          <a:stretch/>
        </p:blipFill>
        <p:spPr>
          <a:xfrm>
            <a:off x="1127160" y="1932120"/>
            <a:ext cx="7310520" cy="4651200"/>
          </a:xfrm>
          <a:prstGeom prst="rect">
            <a:avLst/>
          </a:prstGeom>
          <a:ln w="0">
            <a:noFill/>
          </a:ln>
        </p:spPr>
      </p:pic>
      <p:sp>
        <p:nvSpPr>
          <p:cNvPr id="278" name="Скругленный прямоугольник 2"/>
          <p:cNvSpPr/>
          <p:nvPr/>
        </p:nvSpPr>
        <p:spPr>
          <a:xfrm>
            <a:off x="201600" y="841320"/>
            <a:ext cx="8713800" cy="11527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f6924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cc"/>
                </a:solidFill>
                <a:latin typeface="Calibri"/>
              </a:rPr>
              <a:t>Виды универсальн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cc"/>
                </a:solidFill>
                <a:latin typeface="Calibri"/>
              </a:rPr>
              <a:t>учебных действ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886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BEDB-ADAF-4748-9706-D8A4C0ECB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5" descr=""/>
          <p:cNvPicPr/>
          <p:nvPr/>
        </p:nvPicPr>
        <p:blipFill>
          <a:blip r:embed="rId1"/>
          <a:stretch/>
        </p:blipFill>
        <p:spPr>
          <a:xfrm>
            <a:off x="838080" y="1125360"/>
            <a:ext cx="69739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63CF-F21A-4BE6-8401-8FB3121B37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C59-B0B9-4ABF-8A95-A6C5DC0C3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7815240" y="5019840"/>
            <a:ext cx="1328760" cy="1725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36880" cy="4526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1116000" y="620640"/>
            <a:ext cx="6985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3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Японская пословица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5364000" y="1413000"/>
            <a:ext cx="302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0B8-EE58-4E66-AA24-46FDF01938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E9F-6353-47FC-8776-55801218C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1"/>
          <a:stretch/>
        </p:blipFill>
        <p:spPr>
          <a:xfrm>
            <a:off x="7524720" y="4941720"/>
            <a:ext cx="1328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ФГОС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560" y="2738520"/>
            <a:ext cx="81010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Стандарт выдвигает три группы требов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ебовани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i="1" lang="ru-RU" sz="2200" spc="-1" strike="noStrike">
                <a:solidFill>
                  <a:srgbClr val="376092"/>
                </a:solidFill>
                <a:latin typeface="Calibri"/>
              </a:rPr>
              <a:t>результатам освоения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основной образовательной программы основного общего образов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•    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ебования к </a:t>
            </a:r>
            <a:r>
              <a:rPr b="1" i="1" lang="ru-RU" sz="2200" spc="-1" strike="noStrike">
                <a:solidFill>
                  <a:srgbClr val="376092"/>
                </a:solidFill>
                <a:latin typeface="Calibri"/>
              </a:rPr>
              <a:t>структур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ой образовательной программы основного общего образов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•       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ебования к </a:t>
            </a:r>
            <a:r>
              <a:rPr b="1" i="1" lang="ru-RU" sz="2200" spc="-1" strike="noStrike">
                <a:solidFill>
                  <a:srgbClr val="376092"/>
                </a:solidFill>
                <a:latin typeface="Calibri"/>
              </a:rPr>
              <a:t>условиям реализаци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ой образовательной программы основного обще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F56-A19E-4C62-B0F3-300B3887A3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52F-1C3C-4CFC-81DD-188DA84AD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995640" y="113832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titul_1.jpg"/>
          <p:cNvPicPr/>
          <p:nvPr/>
        </p:nvPicPr>
        <p:blipFill>
          <a:blip r:embed="rId1"/>
          <a:stretch/>
        </p:blipFill>
        <p:spPr>
          <a:xfrm>
            <a:off x="108000" y="87480"/>
            <a:ext cx="34621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A968-8E11-4149-8F53-D103880C43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D2A-3CAD-40CC-AD14-3742C10EB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36960" y="360720"/>
            <a:ext cx="8396280" cy="8938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ы перехода на ФГ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900000" y="1700280"/>
            <a:ext cx="78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03280"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Изменение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метода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(с объяснительного на деятельност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03280"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Изменение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оценки результатов обучения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Times New Roman"/>
              </a:rPr>
              <a:t>(оценка не только предметных ЗУН, но и, прежде всего, метапредметных и личностных результа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03280"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03280">
              <a:lnSpc>
                <a:spcPct val="100000"/>
              </a:lnSpc>
              <a:buClr>
                <a:srgbClr val="376092"/>
              </a:buClr>
              <a:buFont typeface="Calibri"/>
              <a:buChar char="•"/>
              <a:tabLst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Если ты умеешь действовать, то ты умеешь мыслить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69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собенности урока при реализации  ФГОС О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54061"/>
                </a:solidFill>
                <a:latin typeface="Times New Roman"/>
                <a:ea typeface="Calibri"/>
              </a:rPr>
              <a:t>«Нужно, чтобы дети, по возможности, учились самостоятельно, а учитель руководил этим самостоятельным процессом и давал для него материал» -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Calibri"/>
              </a:rPr>
              <a:t>слова К.Д. Ушинского отражают суть урока современного типа,  в основе которого заложен принцип системно -деятельностного подх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Calibri"/>
              </a:rPr>
              <a:t>……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Calibri"/>
              </a:rPr>
              <a:t>.Учитель призван осуществлять скрытое             управление процессом обучения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Calibri"/>
              </a:rPr>
              <a:t>быть вдохновителем уча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3A38-CD6D-4A50-8085-C92B27BFD19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E7B-169D-4C23-A8D8-E98DA7D45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097000"/>
            <a:ext cx="9144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52600" indent="-552600" algn="ctr">
              <a:spcAft>
                <a:spcPts val="1287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spcAft>
                <a:spcPts val="1287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здание и организация условий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spcAft>
                <a:spcPts val="1287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инициирующих детское действ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644364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240000" y="396864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108000" y="3933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24000" y="189000"/>
            <a:ext cx="8656560" cy="6951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19280" y="3537000"/>
            <a:ext cx="774036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108000" y="981000"/>
            <a:ext cx="8604360" cy="1224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ой результат – развитие лич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основе  универсальных 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УЧЕНИК ДОЛЖЕН  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вить цель и добиваться е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остоятельно добывать и применять зн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ть план своих действий и самостоятельно оценивать их последств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вать вопрос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 выражать свои мысл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ботиться о других, быть нравственным челове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хранять и укреплять своё здоровь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72F-D93A-4481-8484-4C595CD9856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041-D6CF-46AE-8CD2-1495B5C71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3760" y="44280"/>
            <a:ext cx="9012240" cy="66135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"/>
          <p:cNvSpPr/>
          <p:nvPr/>
        </p:nvSpPr>
        <p:spPr>
          <a:xfrm>
            <a:off x="7093080" y="6351480"/>
            <a:ext cx="16556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7848720" y="5013360"/>
            <a:ext cx="13287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Типы уро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89D-93B6-497C-8967-CB42E3C5E6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DD50-DC7D-405A-BD6A-8AD0C5B45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740720" y="5113440"/>
            <a:ext cx="1328760" cy="17254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5"/>
          <p:cNvSpPr/>
          <p:nvPr/>
        </p:nvSpPr>
        <p:spPr>
          <a:xfrm>
            <a:off x="826920" y="1916280"/>
            <a:ext cx="7705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1.  Уроки открытия нового знания (ОН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2. Уроки рефлексии (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3. Уроки общеметодологической        направ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a1b1a"/>
              </a:buClr>
              <a:buFont typeface="Times New Roman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Уроки развивающего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181" name="Rectangle 5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9"/>
          <p:cNvSpPr/>
          <p:nvPr/>
        </p:nvSpPr>
        <p:spPr>
          <a:xfrm>
            <a:off x="787320" y="2471760"/>
            <a:ext cx="3141720" cy="3432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1311120" y="2125800"/>
            <a:ext cx="1944720" cy="1807920"/>
          </a:xfrm>
          <a:prstGeom prst="ellipse">
            <a:avLst/>
          </a:prstGeom>
          <a:solidFill>
            <a:srgbClr val="a3e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3075120" y="2489040"/>
            <a:ext cx="11736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2357280" y="5000760"/>
            <a:ext cx="57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2098800" y="2548080"/>
            <a:ext cx="37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2433600" y="254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773440" y="2548080"/>
            <a:ext cx="37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18"/>
          <p:cNvSpPr/>
          <p:nvPr/>
        </p:nvSpPr>
        <p:spPr>
          <a:xfrm flipV="1">
            <a:off x="3214800" y="1713960"/>
            <a:ext cx="631800" cy="85860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858600"/>
              <a:gd name="textAreaBottom" fmla="*/ 858600 h 858600"/>
            </a:gdLst>
            <a:ahLst/>
            <a:rect l="textAreaLeft" t="textAreaTop" r="textAreaRight" b="textAreaBottom"/>
            <a:pathLst>
              <a:path fill="none" w="18212" h="21600">
                <a:moveTo>
                  <a:pt x="-1" y="0"/>
                </a:moveTo>
                <a:cubicBezTo>
                  <a:pt x="7377" y="0"/>
                  <a:pt x="14245" y="3765"/>
                  <a:pt x="18212" y="9986"/>
                </a:cubicBezTo>
              </a:path>
              <a:path stroke="0" w="18212" h="21600">
                <a:moveTo>
                  <a:pt x="-1" y="0"/>
                </a:moveTo>
                <a:cubicBezTo>
                  <a:pt x="7377" y="0"/>
                  <a:pt x="14245" y="3765"/>
                  <a:pt x="18212" y="998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1730520" y="2193840"/>
            <a:ext cx="599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2048040" y="2193840"/>
            <a:ext cx="598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040200" y="2214720"/>
            <a:ext cx="603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2714760" y="2244600"/>
            <a:ext cx="6001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1565280" y="5241960"/>
            <a:ext cx="603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1214280" y="5000760"/>
            <a:ext cx="57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1785960" y="5000760"/>
            <a:ext cx="587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 rot="5400000">
            <a:off x="1609920" y="4604400"/>
            <a:ext cx="264960" cy="1057320"/>
          </a:xfrm>
          <a:custGeom>
            <a:avLst/>
            <a:gdLst>
              <a:gd name="textAreaLeft" fmla="*/ 0 w 264960"/>
              <a:gd name="textAreaRight" fmla="*/ 95760 w 264960"/>
              <a:gd name="textAreaTop" fmla="*/ 27360 h 1057320"/>
              <a:gd name="textAreaBottom" fmla="*/ 102996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 flipH="1">
            <a:off x="1250640" y="2857680"/>
            <a:ext cx="477720" cy="209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758960" y="254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 flipH="1" flipV="1">
            <a:off x="1774440" y="2522520"/>
            <a:ext cx="1173240" cy="24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2459160" y="4943520"/>
            <a:ext cx="603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428920" y="2214720"/>
            <a:ext cx="5983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1073160" y="2362320"/>
            <a:ext cx="600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1368360" y="2793960"/>
            <a:ext cx="600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1270080" y="2733840"/>
            <a:ext cx="1206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1758960" y="2406600"/>
            <a:ext cx="0" cy="7048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1378080" y="2784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17"/>
          <p:cNvSpPr/>
          <p:nvPr/>
        </p:nvSpPr>
        <p:spPr>
          <a:xfrm flipH="1" rot="16200000">
            <a:off x="960840" y="2031840"/>
            <a:ext cx="650880" cy="816120"/>
          </a:xfrm>
          <a:custGeom>
            <a:avLst/>
            <a:gdLst>
              <a:gd name="textAreaLeft" fmla="*/ 360 w 650880"/>
              <a:gd name="textAreaRight" fmla="*/ 651600 w 65088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fill="none" w="18212" h="21600">
                <a:moveTo>
                  <a:pt x="-1" y="0"/>
                </a:moveTo>
                <a:cubicBezTo>
                  <a:pt x="7377" y="0"/>
                  <a:pt x="14245" y="3765"/>
                  <a:pt x="18212" y="9986"/>
                </a:cubicBezTo>
              </a:path>
              <a:path stroke="0" w="18212" h="21600">
                <a:moveTo>
                  <a:pt x="-1" y="0"/>
                </a:moveTo>
                <a:cubicBezTo>
                  <a:pt x="7377" y="0"/>
                  <a:pt x="14245" y="3765"/>
                  <a:pt x="18212" y="998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9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0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1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4)  Построение проекта выхода из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2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4)  Построение проекта выхода из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5)  Реализация построенного проек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3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4)  Построение проекта выхода из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5)  Реализация построенного проек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6)  Первичное закрепление с проговариванием во внешней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4)  Построение проекта выхода из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5)  Реализация построенного проек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6)  Первичное закрепление с проговариванием во внешней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7)  Самостоятельная работа с самопроверкой по эталон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4)  Построение проекта выхода из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5)  Реализация построенного проек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6)  Первичное закрепление с проговариванием во внешней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7)  Самостоятельная работа с самопроверкой по эталон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8)  Включение в систему знаний и повторе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7"/>
          <p:cNvSpPr/>
          <p:nvPr/>
        </p:nvSpPr>
        <p:spPr>
          <a:xfrm>
            <a:off x="4356000" y="1771560"/>
            <a:ext cx="4033800" cy="445932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3)  Выявление места и причины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4)  Построение проекта выхода из затрудн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5)  Реализация построенного проек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6)  Первичное закрепление с проговариванием во внешней реч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7)  Самостоятельная работа с самопроверкой по эталон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8)  Включение в систему знаний и повторе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9)  Рефлексия учебной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2"/>
          <p:cNvSpPr/>
          <p:nvPr/>
        </p:nvSpPr>
        <p:spPr>
          <a:xfrm>
            <a:off x="1857240" y="642960"/>
            <a:ext cx="55008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00000"/>
                </a:solidFill>
                <a:latin typeface="Arial"/>
              </a:rPr>
              <a:t>Технология деятельност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00000"/>
                </a:solidFill>
                <a:latin typeface="Arial"/>
              </a:rPr>
              <a:t>«Школа 2000...» (ТДМ)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-41400" y="5226120"/>
            <a:ext cx="13287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7:12:42Z</dcterms:created>
  <dc:creator>Линия</dc:creator>
  <dc:description/>
  <dc:language>en-US</dc:language>
  <cp:lastModifiedBy>Пользователь Windows</cp:lastModifiedBy>
  <dcterms:modified xsi:type="dcterms:W3CDTF">2020-01-07T21:44:50Z</dcterms:modified>
  <cp:revision>29</cp:revision>
  <dc:subject/>
  <dc:title>ВВЕДЕНИЕ ФГОС ООО НА УРОКАХ МАТЕМАТИКИ В 5 КЛАССЕ</dc:title>
</cp:coreProperties>
</file>