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7BE0-D595-44AC-8236-9F881E741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7B85-CF3A-4742-9FED-78787D1F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92A0-6631-4FF7-9C6D-8AC3C487E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53A2-145A-42FF-A74F-282BFB2D7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484B-91BB-4AF5-A848-3382EEF1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1674-3232-4475-8C99-0945B6128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04E8-AA80-4E25-B28D-996FC7C3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2D45-D153-476D-A143-99F744C5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21FB-E140-45ED-A4CF-C4172A4D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613A-9CA5-4B2A-B4F1-F990F71B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85D1-B936-43CF-8D08-FEBAFA74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59E5-8DE0-4410-81D1-AFB58736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C421-69DF-4E6A-BE1F-66EC0DB77C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428760"/>
            <a:ext cx="7772400" cy="27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ЕСТ по теме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« Решение задач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2 клас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AutoShape 4">
            <a:hlinkClick r:id="" action="ppaction://hlinkshowjump?jump=nextslide"/>
          </p:cNvPr>
          <p:cNvSpPr/>
          <p:nvPr/>
        </p:nvSpPr>
        <p:spPr>
          <a:xfrm>
            <a:off x="8317080" y="6021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http://www.kostyor.ru/deti/img/klad.jpg"/>
          <p:cNvPicPr/>
          <p:nvPr/>
        </p:nvPicPr>
        <p:blipFill>
          <a:blip r:embed="rId2"/>
          <a:stretch/>
        </p:blipFill>
        <p:spPr>
          <a:xfrm>
            <a:off x="357120" y="3705120"/>
            <a:ext cx="2381400" cy="31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8"/>
          <p:cNvSpPr/>
          <p:nvPr/>
        </p:nvSpPr>
        <p:spPr>
          <a:xfrm>
            <a:off x="974160" y="3284640"/>
            <a:ext cx="11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 лод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1071720" y="4429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 лод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1074240" y="5500800"/>
            <a:ext cx="11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 лод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1002600" y="2214720"/>
            <a:ext cx="11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 лод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324000" y="260280"/>
            <a:ext cx="83516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Задача № 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На пристани 17 лодок. Из них 9 больших, остальные – маленькие. Сколько на пристани маленьких лодок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8"/>
          <p:cNvSpPr/>
          <p:nvPr/>
        </p:nvSpPr>
        <p:spPr>
          <a:xfrm>
            <a:off x="979560" y="436572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4 огур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1123200" y="321300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 огур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1195560" y="544500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4 огур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1125720" y="2205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4 огурц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324000" y="260280"/>
            <a:ext cx="8351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Задача №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Сколько огурцов собрали с двух грядок, если с одной собрали 14 огурцов, а с другой – 1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676520" y="114300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Правильных ответов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6">
            <a:hlinkClick r:id="" action="ppaction://hlinkshowjump?jump=endshow"/>
          </p:cNvPr>
          <p:cNvSpPr/>
          <p:nvPr/>
        </p:nvSpPr>
        <p:spPr>
          <a:xfrm>
            <a:off x="457200" y="419112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7">
            <a:hlinkClick r:id="" action="ppaction://hlinkshowjump?jump=firstslide"/>
          </p:cNvPr>
          <p:cNvSpPr/>
          <p:nvPr/>
        </p:nvSpPr>
        <p:spPr>
          <a:xfrm>
            <a:off x="7467480" y="419112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начал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685800" y="533520"/>
            <a:ext cx="76201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Задача №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Бабушка испекла 15 пирожков с мясом, а с капустой на 8 пирожков меньше. Сколько пирожков с капустой испекла бабушк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7"/>
          <p:cNvSpPr/>
          <p:nvPr/>
        </p:nvSpPr>
        <p:spPr>
          <a:xfrm>
            <a:off x="1406880" y="227664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2 пирож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8"/>
          <p:cNvSpPr/>
          <p:nvPr/>
        </p:nvSpPr>
        <p:spPr>
          <a:xfrm>
            <a:off x="1258200" y="3213000"/>
            <a:ext cx="16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 пирож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9"/>
          <p:cNvSpPr/>
          <p:nvPr/>
        </p:nvSpPr>
        <p:spPr>
          <a:xfrm>
            <a:off x="1331280" y="4292640"/>
            <a:ext cx="16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 пирож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20"/>
          <p:cNvSpPr/>
          <p:nvPr/>
        </p:nvSpPr>
        <p:spPr>
          <a:xfrm>
            <a:off x="1258920" y="530064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0 пирож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8"/>
          <p:cNvSpPr/>
          <p:nvPr/>
        </p:nvSpPr>
        <p:spPr>
          <a:xfrm>
            <a:off x="324000" y="260280"/>
            <a:ext cx="83516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Задача №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На одной ветке 7 ягод смородины, а на другой 9. На сколько ягод на одной ветке больше, чем на второй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1408320" y="227664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3 ягоды больш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1263960" y="321300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2 ягоды больш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1335960" y="4340160"/>
            <a:ext cx="26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16 ягод больш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1262880" y="5348160"/>
            <a:ext cx="26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14 ягод больш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8"/>
          <p:cNvSpPr/>
          <p:nvPr/>
        </p:nvSpPr>
        <p:spPr>
          <a:xfrm>
            <a:off x="1411560" y="2276640"/>
            <a:ext cx="118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3 пти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1267200" y="3259080"/>
            <a:ext cx="118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4 пти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1340280" y="4292640"/>
            <a:ext cx="118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5 пти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1267560" y="530064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 птиц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324000" y="260280"/>
            <a:ext cx="8351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Задача №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На кормушке сидело 8 синиц и 6 воробьёв. Сколько птиц сидело на кормушк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9"/>
          <p:cNvSpPr/>
          <p:nvPr/>
        </p:nvSpPr>
        <p:spPr>
          <a:xfrm>
            <a:off x="1269360" y="2349360"/>
            <a:ext cx="22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1 сантимет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1346040" y="429264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 сантимет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1393200" y="5300640"/>
            <a:ext cx="22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2 сантимет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1272960" y="325908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 сантимет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324000" y="260280"/>
            <a:ext cx="8351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Задача №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Первый отрезок 4 см, второй на 7 см больше. Какой длины второй отрезок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8"/>
          <p:cNvSpPr/>
          <p:nvPr/>
        </p:nvSpPr>
        <p:spPr>
          <a:xfrm>
            <a:off x="1481760" y="544500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7 -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1483920" y="330984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7 – 9 -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1526040" y="431784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7 +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1410480" y="22766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7 + 9 +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324000" y="260280"/>
            <a:ext cx="83516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Задача №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На одной полке 17 книг, а на другой – 9. на сколько больше книг на первой полке, чем на второй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Выбери правильное реш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8"/>
          <p:cNvSpPr/>
          <p:nvPr/>
        </p:nvSpPr>
        <p:spPr>
          <a:xfrm>
            <a:off x="1442520" y="4365720"/>
            <a:ext cx="49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олько пассажиров в двух вагонах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1479960" y="3213000"/>
            <a:ext cx="674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сколько пассажиров больше во втором вагон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м в первом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1481400" y="5445000"/>
            <a:ext cx="677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сколько пассажиров меньше во втором вагон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м в первом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1401120" y="2276640"/>
            <a:ext cx="53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олько пассажиров во втором вагон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324000" y="260280"/>
            <a:ext cx="8351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Задача №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В одном вагоне 20 пассажиров, а в другом на 6 меньш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Какой вопрос задачи, если она решается так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20 - 6 +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8"/>
          <p:cNvSpPr/>
          <p:nvPr/>
        </p:nvSpPr>
        <p:spPr>
          <a:xfrm>
            <a:off x="1336680" y="5445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- 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1481040" y="321300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+ 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1552320" y="4365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- 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1407960" y="227664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+ 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324000" y="260280"/>
            <a:ext cx="83516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Задача № 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В парке а берёз и в лип. На сколько больше там берёз, чем лип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Выбери правильное реш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8"/>
          <p:cNvSpPr/>
          <p:nvPr/>
        </p:nvSpPr>
        <p:spPr>
          <a:xfrm>
            <a:off x="1194480" y="227664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 – с гвозд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1485720" y="4365720"/>
            <a:ext cx="25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+ (с – 7) гвозд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1554840" y="54450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– 7 гвозд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1412640" y="3284640"/>
            <a:ext cx="25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 + (7 – с) гвозд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324000" y="260280"/>
            <a:ext cx="8351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Задача №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В одной вазе 7 гвоздик, а в другой на с гвоздик меньше. Сколько гвоздик во второй ваз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0T11:12:03Z</dcterms:created>
  <dc:creator>Андрей</dc:creator>
  <dc:description/>
  <dc:language>en-US</dc:language>
  <cp:lastModifiedBy>1</cp:lastModifiedBy>
  <dcterms:modified xsi:type="dcterms:W3CDTF">2016-03-07T07:18:55Z</dcterms:modified>
  <cp:revision>41</cp:revision>
  <dc:subject/>
  <dc:title>Заголовок</dc:title>
</cp:coreProperties>
</file>