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EA8-64D3-4B27-A911-A005FBC3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1B2-89D6-4216-A267-9CD5B69D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A45-C8B2-46C9-ACDF-AECDE40A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988-C0C3-47A6-9291-7D5EC88B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FEE-FE15-4359-BBE2-1FA60F6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7D8-27D4-48D5-9F3C-1B84E046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46A-2163-45E4-87F9-2198CDDB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CAA-D72A-4FEE-B32E-EE466035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C86-09B1-4EF2-905E-8D786BC5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B88-2E11-4175-A929-F8BD940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1A2-A835-4EE1-9A77-E7B17CF9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3A6-48F8-43B4-82B3-B5B2A44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EE8F-4861-4C2F-A72B-CCD506C03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095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ЕЛИКО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ЕЧЕСТВЕННО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ВЯЩАЕТСЯ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84360" y="0"/>
            <a:ext cx="469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227240" y="0"/>
            <a:ext cx="668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630360"/>
            <a:ext cx="914400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54000"/>
            <a:ext cx="83534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аласпилс» музыка: А. Тимошенко, Э. Кузинер, слова: Я. Голяков 1972г. Исполняет: ВИА "Поющие гитар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24000" y="-15840"/>
            <a:ext cx="8496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5:52:13Z</dcterms:created>
  <dc:creator>ALENA</dc:creator>
  <dc:description/>
  <dc:language>en-US</dc:language>
  <cp:lastModifiedBy>ALENA</cp:lastModifiedBy>
  <dcterms:modified xsi:type="dcterms:W3CDTF">2020-01-08T09:51:14Z</dcterms:modified>
  <cp:revision>5</cp:revision>
  <dc:subject/>
  <dc:title> ВЕЛИКОЙ ОТЕЧЕСТВЕННОЙ ПОСВЯЩАЕТСЯ…</dc:title>
</cp:coreProperties>
</file>