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3D1-D765-4B64-85A6-31B8525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DF2-E4E4-475C-90B3-E6796C4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4A0-10AE-495A-8646-150F1F22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C42-4BDC-40B3-A65A-2464D5B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371E-6621-4E36-987E-862A3574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F85-795A-4775-8200-DD386D1B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45D-38DD-4814-BC0F-5F03413D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727-6FA9-4979-B582-22922EA8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02BF-8211-464D-960E-8C35A1DD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3D02-D384-49A1-9B34-351D50B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1685-4C91-41C8-B819-16E0B76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185-0BF9-4DB7-B133-07868A57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1CC-F6F6-425B-9A57-B410D5C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A4FA-85C0-448C-BF89-367F09D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8BA1-9799-4B9D-B7AF-34CE84E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C4E8-BC18-4F64-8E2F-6173B33B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573D-1774-40B1-85B1-F8E451B0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85E-5BEA-4096-BF4A-426ACF9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652-3778-4BD4-B507-3CCB1471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31A-7BA3-4B1B-833D-771D48E7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F43-2D5C-4E55-9900-E3D0FD7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F11-C213-4E89-9CEE-1CA68C0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091-9619-4176-9819-8F25C62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14F-7D5B-4B3E-8164-645B8CC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716-5292-4BD7-9EF7-B38F95C94B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DA6-956B-4E4E-915D-8FB6551579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G:\15374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642960" y="8571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Внеурочная работа на уроках географ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357800" y="4286160"/>
            <a:ext cx="4643280" cy="119124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Кадацкая Н. 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МБОУ СОШ №4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244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викторины и игры, конкур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14"/>
          <p:cNvPicPr/>
          <p:nvPr/>
        </p:nvPicPr>
        <p:blipFill>
          <a:blip r:embed="rId1"/>
          <a:stretch/>
        </p:blipFill>
        <p:spPr>
          <a:xfrm>
            <a:off x="0" y="58294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4"/>
          <p:cNvPicPr/>
          <p:nvPr/>
        </p:nvPicPr>
        <p:blipFill>
          <a:blip r:embed="rId2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admin\Desktop\Новая папка\DSC_0100.JPG"/>
          <p:cNvPicPr/>
          <p:nvPr/>
        </p:nvPicPr>
        <p:blipFill>
          <a:blip r:embed="rId3"/>
          <a:stretch/>
        </p:blipFill>
        <p:spPr>
          <a:xfrm>
            <a:off x="1258920" y="2212920"/>
            <a:ext cx="651348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Неделя географии в школ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Рисунок 4" descr="I:\гальцова\Изображение 044.jpg"/>
          <p:cNvPicPr/>
          <p:nvPr/>
        </p:nvPicPr>
        <p:blipFill>
          <a:blip r:embed="rId1"/>
          <a:srcRect l="21142" t="17916" r="12723" b="0"/>
          <a:stretch/>
        </p:blipFill>
        <p:spPr>
          <a:xfrm>
            <a:off x="338040" y="1413000"/>
            <a:ext cx="3929040" cy="274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admin\Desktop\Новая папка\DSC_0102.JPG"/>
          <p:cNvPicPr/>
          <p:nvPr/>
        </p:nvPicPr>
        <p:blipFill>
          <a:blip r:embed="rId2"/>
          <a:stretch/>
        </p:blipFill>
        <p:spPr>
          <a:xfrm>
            <a:off x="3492360" y="3789360"/>
            <a:ext cx="4896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ологичечкая акц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1871640" cy="17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admin\Desktop\Новая папка\DSC_0095.JPG"/>
          <p:cNvPicPr/>
          <p:nvPr/>
        </p:nvPicPr>
        <p:blipFill>
          <a:blip r:embed="rId2"/>
          <a:stretch/>
        </p:blipFill>
        <p:spPr>
          <a:xfrm>
            <a:off x="1511280" y="1708200"/>
            <a:ext cx="630072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696080" cy="472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Значение внеклассной работы в учебно-воспитательном процессе непрерывно возрастает, так как она способствует более тесному увязыванию теоретических знаний с жизнью, с практикой; формирует профессиональные интересы учащих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CD006@CT2000-01_wwwissen_p1600"/>
          <p:cNvPicPr/>
          <p:nvPr/>
        </p:nvPicPr>
        <p:blipFill>
          <a:blip r:embed="rId1"/>
          <a:stretch/>
        </p:blipFill>
        <p:spPr>
          <a:xfrm rot="21154200">
            <a:off x="4500360" y="337356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Цель внеурочной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еспечение всестороннего и гармонического развития школьник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e5764727241691ac77deee009ede1648"/>
          <p:cNvPicPr/>
          <p:nvPr/>
        </p:nvPicPr>
        <p:blipFill>
          <a:blip r:embed="rId2"/>
          <a:stretch/>
        </p:blipFill>
        <p:spPr>
          <a:xfrm>
            <a:off x="46836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e5764727241691ac77deee009ede1648"/>
          <p:cNvPicPr/>
          <p:nvPr/>
        </p:nvPicPr>
        <p:blipFill>
          <a:blip r:embed="rId3"/>
          <a:stretch/>
        </p:blipFill>
        <p:spPr>
          <a:xfrm>
            <a:off x="3564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e5764727241691ac77deee009ede1648"/>
          <p:cNvPicPr/>
          <p:nvPr/>
        </p:nvPicPr>
        <p:blipFill>
          <a:blip r:embed="rId4"/>
          <a:stretch/>
        </p:blipFill>
        <p:spPr>
          <a:xfrm>
            <a:off x="853272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e5764727241691ac77deee009ede1648"/>
          <p:cNvPicPr/>
          <p:nvPr/>
        </p:nvPicPr>
        <p:blipFill>
          <a:blip r:embed="rId5"/>
          <a:stretch/>
        </p:blipFill>
        <p:spPr>
          <a:xfrm>
            <a:off x="3708360" y="16286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9720" y="-119613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жнейшей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задаче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внеклассной работы по географии является формирование у учащихся черт личности: взаимопомощи, дружбы, умения работать в коллективе 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Рисунок1"/>
          <p:cNvPicPr/>
          <p:nvPr/>
        </p:nvPicPr>
        <p:blipFill>
          <a:blip r:embed="rId1"/>
          <a:stretch/>
        </p:blipFill>
        <p:spPr>
          <a:xfrm>
            <a:off x="6948360" y="5038560"/>
            <a:ext cx="21956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Направления во внеклассной рабо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глубление основных вопросов содержания школьного курса, имеющих большое образовательно-воспитательное знач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умений и навыков исследовательского характера при проведении практических работ, при работе с различными источниками информации в классе, при использовании П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Педагогические требов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щественно-полез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фессиональ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ологи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евед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временность содержания и форм внеклассной рабо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т возрастных и индивидуальных особенностей интересов учащихс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четание педагогического руководства с самостоятельностью и добровольностью  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4"/>
          <p:cNvSpPr/>
          <p:nvPr/>
        </p:nvSpPr>
        <p:spPr>
          <a:xfrm>
            <a:off x="1763640" y="0"/>
            <a:ext cx="5276880" cy="5205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ы внеуроч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-61920" y="1413000"/>
            <a:ext cx="478008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4716360" y="1413000"/>
            <a:ext cx="442764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изод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7"/>
          <p:cNvSpPr/>
          <p:nvPr/>
        </p:nvSpPr>
        <p:spPr>
          <a:xfrm rot="16200000">
            <a:off x="-154440" y="4834440"/>
            <a:ext cx="32209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круж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8"/>
          <p:cNvSpPr/>
          <p:nvPr/>
        </p:nvSpPr>
        <p:spPr>
          <a:xfrm rot="16200000">
            <a:off x="914400" y="4822560"/>
            <a:ext cx="324468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убы любителей прир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9"/>
          <p:cNvSpPr/>
          <p:nvPr/>
        </p:nvSpPr>
        <p:spPr>
          <a:xfrm rot="16200000">
            <a:off x="1935360" y="4985640"/>
            <a:ext cx="32846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е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0"/>
          <p:cNvSpPr/>
          <p:nvPr/>
        </p:nvSpPr>
        <p:spPr>
          <a:xfrm rot="16200000">
            <a:off x="375840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51"/>
          <p:cNvSpPr/>
          <p:nvPr/>
        </p:nvSpPr>
        <p:spPr>
          <a:xfrm rot="16200000">
            <a:off x="4655160" y="5041080"/>
            <a:ext cx="31734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я географ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2"/>
          <p:cNvSpPr/>
          <p:nvPr/>
        </p:nvSpPr>
        <p:spPr>
          <a:xfrm rot="16200000">
            <a:off x="563004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3"/>
          <p:cNvSpPr/>
          <p:nvPr/>
        </p:nvSpPr>
        <p:spPr>
          <a:xfrm rot="16200000">
            <a:off x="6889320" y="4675320"/>
            <a:ext cx="317340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, экскурсии, 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4"/>
          <p:cNvSpPr/>
          <p:nvPr/>
        </p:nvSpPr>
        <p:spPr>
          <a:xfrm flipH="1">
            <a:off x="971640" y="476280"/>
            <a:ext cx="57600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55"/>
          <p:cNvSpPr/>
          <p:nvPr/>
        </p:nvSpPr>
        <p:spPr>
          <a:xfrm flipH="1">
            <a:off x="1258920" y="2565360"/>
            <a:ext cx="21744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6"/>
          <p:cNvSpPr/>
          <p:nvPr/>
        </p:nvSpPr>
        <p:spPr>
          <a:xfrm>
            <a:off x="2484360" y="256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57"/>
          <p:cNvSpPr/>
          <p:nvPr/>
        </p:nvSpPr>
        <p:spPr>
          <a:xfrm>
            <a:off x="3348000" y="2565360"/>
            <a:ext cx="21600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8"/>
          <p:cNvSpPr/>
          <p:nvPr/>
        </p:nvSpPr>
        <p:spPr>
          <a:xfrm flipH="1">
            <a:off x="514800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9"/>
          <p:cNvSpPr/>
          <p:nvPr/>
        </p:nvSpPr>
        <p:spPr>
          <a:xfrm flipH="1">
            <a:off x="6300360" y="2637000"/>
            <a:ext cx="7164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60"/>
          <p:cNvSpPr/>
          <p:nvPr/>
        </p:nvSpPr>
        <p:spPr>
          <a:xfrm>
            <a:off x="7164360" y="2637000"/>
            <a:ext cx="14436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1"/>
          <p:cNvSpPr/>
          <p:nvPr/>
        </p:nvSpPr>
        <p:spPr>
          <a:xfrm>
            <a:off x="8459640" y="2637000"/>
            <a:ext cx="28908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62"/>
          <p:cNvSpPr/>
          <p:nvPr/>
        </p:nvSpPr>
        <p:spPr>
          <a:xfrm>
            <a:off x="7451640" y="476280"/>
            <a:ext cx="576360" cy="72072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3"/>
          <p:cNvSpPr/>
          <p:nvPr/>
        </p:nvSpPr>
        <p:spPr>
          <a:xfrm rot="16200000">
            <a:off x="-1272240" y="5017320"/>
            <a:ext cx="32209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 - изд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64"/>
          <p:cNvSpPr/>
          <p:nvPr/>
        </p:nvSpPr>
        <p:spPr>
          <a:xfrm flipH="1">
            <a:off x="25056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130040" y="447840"/>
            <a:ext cx="7099560" cy="10688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ой работы по географ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1916280"/>
            <a:ext cx="34923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на природ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524680" y="4498920"/>
            <a:ext cx="41295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с географическ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терату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рефера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докла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газет и стен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366880" y="1989000"/>
            <a:ext cx="373788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ые иг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Ны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95280" y="907920"/>
            <a:ext cx="504720" cy="865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8677440" y="907920"/>
            <a:ext cx="287280" cy="865440"/>
          </a:xfrm>
          <a:prstGeom prst="line">
            <a:avLst/>
          </a:prstGeom>
          <a:ln w="76320">
            <a:solidFill>
              <a:srgbClr val="cc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572000" y="1773360"/>
            <a:ext cx="0" cy="23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-171360"/>
            <a:ext cx="687060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круж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1" descr="6"/>
          <p:cNvPicPr/>
          <p:nvPr/>
        </p:nvPicPr>
        <p:blipFill>
          <a:blip r:embed="rId1"/>
          <a:stretch/>
        </p:blipFill>
        <p:spPr>
          <a:xfrm>
            <a:off x="0" y="0"/>
            <a:ext cx="1706400" cy="115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admin\Desktop\Новая папка\DSC_0099.JPG"/>
          <p:cNvPicPr/>
          <p:nvPr/>
        </p:nvPicPr>
        <p:blipFill>
          <a:blip r:embed="rId2"/>
          <a:srcRect l="9051" t="0" r="0" b="0"/>
          <a:stretch/>
        </p:blipFill>
        <p:spPr>
          <a:xfrm>
            <a:off x="468360" y="1341360"/>
            <a:ext cx="3608280" cy="223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admin\Desktop\Новая папка\DSC_0101.JPG"/>
          <p:cNvPicPr/>
          <p:nvPr/>
        </p:nvPicPr>
        <p:blipFill>
          <a:blip r:embed="rId3"/>
          <a:stretch/>
        </p:blipFill>
        <p:spPr>
          <a:xfrm>
            <a:off x="4211640" y="3860640"/>
            <a:ext cx="42242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773280"/>
            <a:ext cx="6870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скурсии, походы(ориентирование на местности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C:\Users\admin\Desktop\Новая папка\DSC_0134.JPG"/>
          <p:cNvPicPr/>
          <p:nvPr/>
        </p:nvPicPr>
        <p:blipFill>
          <a:blip r:embed="rId1"/>
          <a:stretch/>
        </p:blipFill>
        <p:spPr>
          <a:xfrm>
            <a:off x="539640" y="1916280"/>
            <a:ext cx="4224600" cy="23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admin\Desktop\Новая папка\DSC_0136.JPG"/>
          <p:cNvPicPr/>
          <p:nvPr/>
        </p:nvPicPr>
        <p:blipFill>
          <a:blip r:embed="rId2"/>
          <a:stretch/>
        </p:blipFill>
        <p:spPr>
          <a:xfrm>
            <a:off x="3819600" y="378936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01:00Z</dcterms:created>
  <dc:creator>User</dc:creator>
  <dc:description/>
  <dc:language>en-US</dc:language>
  <cp:lastModifiedBy>admin</cp:lastModifiedBy>
  <dcterms:modified xsi:type="dcterms:W3CDTF">2019-01-08T20:48:50Z</dcterms:modified>
  <cp:revision>18</cp:revision>
  <dc:subject/>
  <dc:title>Слайд 1</dc:title>
</cp:coreProperties>
</file>