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1E1-D17A-4125-83B0-1A3EECF4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565-16D7-46BA-8B61-A0478049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75F-57C2-4887-B874-5719906C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5B5-1E00-4770-95DE-17DE41A3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C4B4-8BFC-4014-B0FB-982E4A8C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F0A-12DC-4A4F-BB8C-29B00926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CA5-A938-446A-A313-6012241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DB3A-38B5-4198-B813-EDE2197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1A6F-9640-4280-B805-B50F78A6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9590-949E-467D-BBB8-3C8D1D9E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942A-36A7-4528-87EF-29C1F1F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113-767F-48B9-903A-593802E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08B-E8ED-4D49-BD2A-BC7EA50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8C6-5F7F-4693-98B6-3B374B2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31D7-1BC0-4522-AE59-DE367288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F4E-F523-4299-BDD7-7A236266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E313-6C96-4EAF-9D83-F2E51E7F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F0D-6376-460D-9014-AF195CE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A08-0460-40B1-B3E8-0F547D1A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2C7-6616-423F-B221-273C1A5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6E-7CE6-46AF-8E4E-08E5528F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07E-7D2F-4C61-A499-01865A9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BEA-5C97-4FF0-99E8-BEB533A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98A-D6F5-4009-888A-8F093CCC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F31-F4A2-4237-B36C-B0D25423EB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41F9-3762-4745-9BC9-5ADD7524B6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G:\15374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642960" y="8571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Внеурочная работа на уроках географ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357800" y="4286160"/>
            <a:ext cx="4643280" cy="119124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Кадацкая Н. 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МБОУ СОШ №4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244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викторины и игры, конкур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14"/>
          <p:cNvPicPr/>
          <p:nvPr/>
        </p:nvPicPr>
        <p:blipFill>
          <a:blip r:embed="rId1"/>
          <a:stretch/>
        </p:blipFill>
        <p:spPr>
          <a:xfrm>
            <a:off x="0" y="58294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4"/>
          <p:cNvPicPr/>
          <p:nvPr/>
        </p:nvPicPr>
        <p:blipFill>
          <a:blip r:embed="rId2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admin\Desktop\Новая папка\DSC_0100.JPG"/>
          <p:cNvPicPr/>
          <p:nvPr/>
        </p:nvPicPr>
        <p:blipFill>
          <a:blip r:embed="rId3"/>
          <a:stretch/>
        </p:blipFill>
        <p:spPr>
          <a:xfrm>
            <a:off x="1258920" y="2212920"/>
            <a:ext cx="651348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Неделя географии в школ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Рисунок 4" descr="I:\гальцова\Изображение 044.jpg"/>
          <p:cNvPicPr/>
          <p:nvPr/>
        </p:nvPicPr>
        <p:blipFill>
          <a:blip r:embed="rId1"/>
          <a:srcRect l="21142" t="17916" r="12723" b="0"/>
          <a:stretch/>
        </p:blipFill>
        <p:spPr>
          <a:xfrm>
            <a:off x="338040" y="1413000"/>
            <a:ext cx="3929040" cy="274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admin\Desktop\Новая папка\DSC_0102.JPG"/>
          <p:cNvPicPr/>
          <p:nvPr/>
        </p:nvPicPr>
        <p:blipFill>
          <a:blip r:embed="rId2"/>
          <a:stretch/>
        </p:blipFill>
        <p:spPr>
          <a:xfrm>
            <a:off x="3492360" y="3789360"/>
            <a:ext cx="4896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ологичечкая акц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1871640" cy="17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admin\Desktop\Новая папка\DSC_0095.JPG"/>
          <p:cNvPicPr/>
          <p:nvPr/>
        </p:nvPicPr>
        <p:blipFill>
          <a:blip r:embed="rId2"/>
          <a:stretch/>
        </p:blipFill>
        <p:spPr>
          <a:xfrm>
            <a:off x="1511280" y="1708200"/>
            <a:ext cx="630072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696080" cy="472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Значение внеклассной работы в учебно-воспитательном процессе непрерывно возрастает, так как она способствует более тесному увязыванию теоретических знаний с жизнью, с практикой; формирует профессиональные интересы учащих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CD006@CT2000-01_wwwissen_p1600"/>
          <p:cNvPicPr/>
          <p:nvPr/>
        </p:nvPicPr>
        <p:blipFill>
          <a:blip r:embed="rId1"/>
          <a:stretch/>
        </p:blipFill>
        <p:spPr>
          <a:xfrm rot="21154200">
            <a:off x="4500360" y="337356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Цель внеурочной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еспечение всестороннего и гармонического развития школьник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e5764727241691ac77deee009ede1648"/>
          <p:cNvPicPr/>
          <p:nvPr/>
        </p:nvPicPr>
        <p:blipFill>
          <a:blip r:embed="rId2"/>
          <a:stretch/>
        </p:blipFill>
        <p:spPr>
          <a:xfrm>
            <a:off x="46836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e5764727241691ac77deee009ede1648"/>
          <p:cNvPicPr/>
          <p:nvPr/>
        </p:nvPicPr>
        <p:blipFill>
          <a:blip r:embed="rId3"/>
          <a:stretch/>
        </p:blipFill>
        <p:spPr>
          <a:xfrm>
            <a:off x="3564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e5764727241691ac77deee009ede1648"/>
          <p:cNvPicPr/>
          <p:nvPr/>
        </p:nvPicPr>
        <p:blipFill>
          <a:blip r:embed="rId4"/>
          <a:stretch/>
        </p:blipFill>
        <p:spPr>
          <a:xfrm>
            <a:off x="853272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e5764727241691ac77deee009ede1648"/>
          <p:cNvPicPr/>
          <p:nvPr/>
        </p:nvPicPr>
        <p:blipFill>
          <a:blip r:embed="rId5"/>
          <a:stretch/>
        </p:blipFill>
        <p:spPr>
          <a:xfrm>
            <a:off x="3708360" y="16286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9720" y="-119613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жнейшей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задаче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внеклассной работы по географии является формирование у учащихся черт личности: взаимопомощи, дружбы, умения работать в коллективе 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Рисунок1"/>
          <p:cNvPicPr/>
          <p:nvPr/>
        </p:nvPicPr>
        <p:blipFill>
          <a:blip r:embed="rId1"/>
          <a:stretch/>
        </p:blipFill>
        <p:spPr>
          <a:xfrm>
            <a:off x="6948360" y="5038560"/>
            <a:ext cx="21956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Направления во внеклассной рабо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глубление основных вопросов содержания школьного курса, имеющих большое образовательно-воспитательное знач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умений и навыков исследовательского характера при проведении практических работ, при работе с различными источниками информации в классе, при использовании П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Педагогические требов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щественно-полез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фессиональ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ологи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евед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временность содержания и форм внеклассной рабо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т возрастных и индивидуальных особенностей интересов учащихс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четание педагогического руководства с самостоятельностью и добровольностью  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4"/>
          <p:cNvSpPr/>
          <p:nvPr/>
        </p:nvSpPr>
        <p:spPr>
          <a:xfrm>
            <a:off x="1763640" y="0"/>
            <a:ext cx="5276880" cy="5205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ы внеуроч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-61920" y="1413000"/>
            <a:ext cx="478008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4716360" y="1413000"/>
            <a:ext cx="442764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изод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7"/>
          <p:cNvSpPr/>
          <p:nvPr/>
        </p:nvSpPr>
        <p:spPr>
          <a:xfrm rot="16200000">
            <a:off x="-154440" y="4834440"/>
            <a:ext cx="32209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круж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8"/>
          <p:cNvSpPr/>
          <p:nvPr/>
        </p:nvSpPr>
        <p:spPr>
          <a:xfrm rot="16200000">
            <a:off x="914400" y="4822560"/>
            <a:ext cx="324468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убы любителей прир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9"/>
          <p:cNvSpPr/>
          <p:nvPr/>
        </p:nvSpPr>
        <p:spPr>
          <a:xfrm rot="16200000">
            <a:off x="1935360" y="4985640"/>
            <a:ext cx="32846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е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0"/>
          <p:cNvSpPr/>
          <p:nvPr/>
        </p:nvSpPr>
        <p:spPr>
          <a:xfrm rot="16200000">
            <a:off x="375840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51"/>
          <p:cNvSpPr/>
          <p:nvPr/>
        </p:nvSpPr>
        <p:spPr>
          <a:xfrm rot="16200000">
            <a:off x="4655160" y="5041080"/>
            <a:ext cx="31734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я географ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2"/>
          <p:cNvSpPr/>
          <p:nvPr/>
        </p:nvSpPr>
        <p:spPr>
          <a:xfrm rot="16200000">
            <a:off x="563004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3"/>
          <p:cNvSpPr/>
          <p:nvPr/>
        </p:nvSpPr>
        <p:spPr>
          <a:xfrm rot="16200000">
            <a:off x="6889320" y="4675320"/>
            <a:ext cx="317340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, экскурсии, 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4"/>
          <p:cNvSpPr/>
          <p:nvPr/>
        </p:nvSpPr>
        <p:spPr>
          <a:xfrm flipH="1">
            <a:off x="971640" y="476280"/>
            <a:ext cx="57600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55"/>
          <p:cNvSpPr/>
          <p:nvPr/>
        </p:nvSpPr>
        <p:spPr>
          <a:xfrm flipH="1">
            <a:off x="1258920" y="2565360"/>
            <a:ext cx="21744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6"/>
          <p:cNvSpPr/>
          <p:nvPr/>
        </p:nvSpPr>
        <p:spPr>
          <a:xfrm>
            <a:off x="2484360" y="256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57"/>
          <p:cNvSpPr/>
          <p:nvPr/>
        </p:nvSpPr>
        <p:spPr>
          <a:xfrm>
            <a:off x="3348000" y="2565360"/>
            <a:ext cx="21600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8"/>
          <p:cNvSpPr/>
          <p:nvPr/>
        </p:nvSpPr>
        <p:spPr>
          <a:xfrm flipH="1">
            <a:off x="514800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9"/>
          <p:cNvSpPr/>
          <p:nvPr/>
        </p:nvSpPr>
        <p:spPr>
          <a:xfrm flipH="1">
            <a:off x="6300360" y="2637000"/>
            <a:ext cx="7164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60"/>
          <p:cNvSpPr/>
          <p:nvPr/>
        </p:nvSpPr>
        <p:spPr>
          <a:xfrm>
            <a:off x="7164360" y="2637000"/>
            <a:ext cx="14436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1"/>
          <p:cNvSpPr/>
          <p:nvPr/>
        </p:nvSpPr>
        <p:spPr>
          <a:xfrm>
            <a:off x="8459640" y="2637000"/>
            <a:ext cx="28908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62"/>
          <p:cNvSpPr/>
          <p:nvPr/>
        </p:nvSpPr>
        <p:spPr>
          <a:xfrm>
            <a:off x="7451640" y="476280"/>
            <a:ext cx="576360" cy="72072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3"/>
          <p:cNvSpPr/>
          <p:nvPr/>
        </p:nvSpPr>
        <p:spPr>
          <a:xfrm rot="16200000">
            <a:off x="-1272240" y="5017320"/>
            <a:ext cx="32209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 - изд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64"/>
          <p:cNvSpPr/>
          <p:nvPr/>
        </p:nvSpPr>
        <p:spPr>
          <a:xfrm flipH="1">
            <a:off x="25056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130040" y="447840"/>
            <a:ext cx="7099560" cy="10688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ой работы по географ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1916280"/>
            <a:ext cx="34923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на природ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524680" y="4498920"/>
            <a:ext cx="41295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с географическ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терату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рефера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докла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газет и стен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366880" y="1989000"/>
            <a:ext cx="373788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ые иг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Ны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95280" y="907920"/>
            <a:ext cx="504720" cy="865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8677440" y="907920"/>
            <a:ext cx="287280" cy="865440"/>
          </a:xfrm>
          <a:prstGeom prst="line">
            <a:avLst/>
          </a:prstGeom>
          <a:ln w="76320">
            <a:solidFill>
              <a:srgbClr val="cc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572000" y="1773360"/>
            <a:ext cx="0" cy="23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-171360"/>
            <a:ext cx="687060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круж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1" descr="6"/>
          <p:cNvPicPr/>
          <p:nvPr/>
        </p:nvPicPr>
        <p:blipFill>
          <a:blip r:embed="rId1"/>
          <a:stretch/>
        </p:blipFill>
        <p:spPr>
          <a:xfrm>
            <a:off x="0" y="0"/>
            <a:ext cx="1706400" cy="115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admin\Desktop\Новая папка\DSC_0099.JPG"/>
          <p:cNvPicPr/>
          <p:nvPr/>
        </p:nvPicPr>
        <p:blipFill>
          <a:blip r:embed="rId2"/>
          <a:srcRect l="9051" t="0" r="0" b="0"/>
          <a:stretch/>
        </p:blipFill>
        <p:spPr>
          <a:xfrm>
            <a:off x="468360" y="1341360"/>
            <a:ext cx="3608280" cy="223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admin\Desktop\Новая папка\DSC_0101.JPG"/>
          <p:cNvPicPr/>
          <p:nvPr/>
        </p:nvPicPr>
        <p:blipFill>
          <a:blip r:embed="rId3"/>
          <a:stretch/>
        </p:blipFill>
        <p:spPr>
          <a:xfrm>
            <a:off x="4211640" y="3860640"/>
            <a:ext cx="42242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773280"/>
            <a:ext cx="6870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скурсии, походы(ориентирование на местности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C:\Users\admin\Desktop\Новая папка\DSC_0134.JPG"/>
          <p:cNvPicPr/>
          <p:nvPr/>
        </p:nvPicPr>
        <p:blipFill>
          <a:blip r:embed="rId1"/>
          <a:stretch/>
        </p:blipFill>
        <p:spPr>
          <a:xfrm>
            <a:off x="539640" y="1916280"/>
            <a:ext cx="4224600" cy="23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admin\Desktop\Новая папка\DSC_0136.JPG"/>
          <p:cNvPicPr/>
          <p:nvPr/>
        </p:nvPicPr>
        <p:blipFill>
          <a:blip r:embed="rId2"/>
          <a:stretch/>
        </p:blipFill>
        <p:spPr>
          <a:xfrm>
            <a:off x="3819600" y="378936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01:00Z</dcterms:created>
  <dc:creator>User</dc:creator>
  <dc:description/>
  <dc:language>en-US</dc:language>
  <cp:lastModifiedBy>admin</cp:lastModifiedBy>
  <dcterms:modified xsi:type="dcterms:W3CDTF">2019-01-08T20:48:50Z</dcterms:modified>
  <cp:revision>18</cp:revision>
  <dc:subject/>
  <dc:title>Слайд 1</dc:title>
</cp:coreProperties>
</file>