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DE6-5CAE-4D77-B52C-CA997E70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399-6771-43AB-993A-CCB5B931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29A-D017-4838-AAE9-6494AAE1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319-58A5-445F-846D-9DC7DBE5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0946-EB01-422B-AA44-86929FFF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8374-4DB7-4366-A93C-C30F87CB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F278-E349-40FE-BAC7-CFAFA34F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079C-FABF-4C1C-B58B-BE9A706C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600C-89F1-4A68-A511-83C3706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1750-E06C-4A17-A4AF-6D29E63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B1D9-C9BB-468E-9A8A-F95ABA0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4B5-7D5C-49D9-93B9-9E1D3FC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759D-5574-4C8D-B8B6-631228D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ED3C-F8D1-44C0-B929-8090D051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52B-C8D6-44D3-900E-8344EE7A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8C70-566F-4746-BA37-4B7E4171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E910-FB89-4909-A7EF-951A1343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343-9D6C-4091-A0F0-87B847C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2E1-8294-4C69-8827-DFC0387F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549-958E-4A50-A3C7-A6B7EA4B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ABD-E20C-4393-808C-4BB406F9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127-574B-4D03-8FA8-20537A2C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056-69B7-4117-A657-B5E4BD0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4BD-CA27-42D6-8461-3D60FBA7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DC67-D874-4EBA-BC07-2C7C9FA2BA9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1240" y="51480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7760" y="2772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7600" y="141804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26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1400" y="20736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1B1-5689-4692-848D-2023BC5C64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G:\15374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"/>
          <p:cNvSpPr/>
          <p:nvPr/>
        </p:nvSpPr>
        <p:spPr>
          <a:xfrm>
            <a:off x="642960" y="8571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Внеурочная работа на уроках географ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4357800" y="4286160"/>
            <a:ext cx="4643280" cy="119124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Кадацкая Н. 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Учитель географ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Comic Sans MS"/>
              </a:rPr>
              <a:t>МБОУ СОШ №4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244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Географические викторины и игры, конкур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14"/>
          <p:cNvPicPr/>
          <p:nvPr/>
        </p:nvPicPr>
        <p:blipFill>
          <a:blip r:embed="rId1"/>
          <a:stretch/>
        </p:blipFill>
        <p:spPr>
          <a:xfrm>
            <a:off x="0" y="58294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14"/>
          <p:cNvPicPr/>
          <p:nvPr/>
        </p:nvPicPr>
        <p:blipFill>
          <a:blip r:embed="rId2"/>
          <a:stretch/>
        </p:blipFill>
        <p:spPr>
          <a:xfrm>
            <a:off x="7956720" y="981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admin\Desktop\Новая папка\DSC_0100.JPG"/>
          <p:cNvPicPr/>
          <p:nvPr/>
        </p:nvPicPr>
        <p:blipFill>
          <a:blip r:embed="rId3"/>
          <a:stretch/>
        </p:blipFill>
        <p:spPr>
          <a:xfrm>
            <a:off x="1258920" y="2212920"/>
            <a:ext cx="651348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728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9933"/>
                </a:solidFill>
                <a:uFillTx/>
                <a:latin typeface="Comic Sans MS"/>
              </a:rPr>
              <a:t>Неделя географии в школ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Рисунок 4" descr="I:\гальцова\Изображение 044.jpg"/>
          <p:cNvPicPr/>
          <p:nvPr/>
        </p:nvPicPr>
        <p:blipFill>
          <a:blip r:embed="rId1"/>
          <a:srcRect l="21142" t="17916" r="12723" b="0"/>
          <a:stretch/>
        </p:blipFill>
        <p:spPr>
          <a:xfrm>
            <a:off x="338040" y="1413000"/>
            <a:ext cx="3929040" cy="274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admin\Desktop\Новая папка\DSC_0102.JPG"/>
          <p:cNvPicPr/>
          <p:nvPr/>
        </p:nvPicPr>
        <p:blipFill>
          <a:blip r:embed="rId2"/>
          <a:stretch/>
        </p:blipFill>
        <p:spPr>
          <a:xfrm>
            <a:off x="3492360" y="3789360"/>
            <a:ext cx="489600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Экологичечкая акц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1871640" cy="170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admin\Desktop\Новая папка\DSC_0095.JPG"/>
          <p:cNvPicPr/>
          <p:nvPr/>
        </p:nvPicPr>
        <p:blipFill>
          <a:blip r:embed="rId2"/>
          <a:stretch/>
        </p:blipFill>
        <p:spPr>
          <a:xfrm>
            <a:off x="1511280" y="1708200"/>
            <a:ext cx="6300720" cy="35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7696080" cy="472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Значение внеклассной работы в учебно-воспитательном процессе непрерывно возрастает, так как она способствует более тесному увязыванию теоретических знаний с жизнью, с практикой; формирует профессиональные интересы учащихс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CD006@CT2000-01_wwwissen_p1600"/>
          <p:cNvPicPr/>
          <p:nvPr/>
        </p:nvPicPr>
        <p:blipFill>
          <a:blip r:embed="rId1"/>
          <a:stretch/>
        </p:blipFill>
        <p:spPr>
          <a:xfrm rot="21154200">
            <a:off x="4500360" y="337356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Цель внеурочной раб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еспечение всестороннего и гармонического развития школьник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e5764727241691ac77deee009ede1648"/>
          <p:cNvPicPr/>
          <p:nvPr/>
        </p:nvPicPr>
        <p:blipFill>
          <a:blip r:embed="rId2"/>
          <a:stretch/>
        </p:blipFill>
        <p:spPr>
          <a:xfrm>
            <a:off x="468360" y="11253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e5764727241691ac77deee009ede1648"/>
          <p:cNvPicPr/>
          <p:nvPr/>
        </p:nvPicPr>
        <p:blipFill>
          <a:blip r:embed="rId3"/>
          <a:stretch/>
        </p:blipFill>
        <p:spPr>
          <a:xfrm>
            <a:off x="3564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e5764727241691ac77deee009ede1648"/>
          <p:cNvPicPr/>
          <p:nvPr/>
        </p:nvPicPr>
        <p:blipFill>
          <a:blip r:embed="rId4"/>
          <a:stretch/>
        </p:blipFill>
        <p:spPr>
          <a:xfrm>
            <a:off x="853272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e5764727241691ac77deee009ede1648"/>
          <p:cNvPicPr/>
          <p:nvPr/>
        </p:nvPicPr>
        <p:blipFill>
          <a:blip r:embed="rId5"/>
          <a:stretch/>
        </p:blipFill>
        <p:spPr>
          <a:xfrm>
            <a:off x="3708360" y="162864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9720" y="-1196136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жнейшей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задачей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внеклассной работы по географии является формирование у учащихся черт личности: взаимопомощи, дружбы, умения работать в коллективе и д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Рисунок1"/>
          <p:cNvPicPr/>
          <p:nvPr/>
        </p:nvPicPr>
        <p:blipFill>
          <a:blip r:embed="rId1"/>
          <a:stretch/>
        </p:blipFill>
        <p:spPr>
          <a:xfrm>
            <a:off x="6948360" y="5038560"/>
            <a:ext cx="219564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Направления во внеклассной работ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глубление основных вопросов содержания школьного курса, имеющих большое образовательно-воспитательное значен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умений и навыков исследовательского характера при проведении практических работ, при работе с различными источниками информации в классе, при использовании П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Педагогические требов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щественно-полезн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фессиональн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кологическ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еведческая направлен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временность содержания и форм внеклассной рабо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т возрастных и индивидуальных особенностей интересов учащихс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четание педагогического руководства с самостоятельностью и добровольностью   учащих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4"/>
          <p:cNvSpPr/>
          <p:nvPr/>
        </p:nvSpPr>
        <p:spPr>
          <a:xfrm>
            <a:off x="1763640" y="0"/>
            <a:ext cx="5276880" cy="5205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ы внеуроч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-61920" y="1413000"/>
            <a:ext cx="4780080" cy="9471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ческие фор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класс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4716360" y="1413000"/>
            <a:ext cx="4427640" cy="9471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изодические фор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класс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7"/>
          <p:cNvSpPr/>
          <p:nvPr/>
        </p:nvSpPr>
        <p:spPr>
          <a:xfrm rot="16200000">
            <a:off x="-154440" y="4834440"/>
            <a:ext cx="322092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круж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8"/>
          <p:cNvSpPr/>
          <p:nvPr/>
        </p:nvSpPr>
        <p:spPr>
          <a:xfrm rot="16200000">
            <a:off x="914400" y="4822560"/>
            <a:ext cx="324468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убы любителей прир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9"/>
          <p:cNvSpPr/>
          <p:nvPr/>
        </p:nvSpPr>
        <p:spPr>
          <a:xfrm rot="16200000">
            <a:off x="1935360" y="4985640"/>
            <a:ext cx="32846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е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0"/>
          <p:cNvSpPr/>
          <p:nvPr/>
        </p:nvSpPr>
        <p:spPr>
          <a:xfrm rot="16200000">
            <a:off x="3758400" y="4858200"/>
            <a:ext cx="3173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олимпиа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51"/>
          <p:cNvSpPr/>
          <p:nvPr/>
        </p:nvSpPr>
        <p:spPr>
          <a:xfrm rot="16200000">
            <a:off x="4655160" y="5041080"/>
            <a:ext cx="317340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я географ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2"/>
          <p:cNvSpPr/>
          <p:nvPr/>
        </p:nvSpPr>
        <p:spPr>
          <a:xfrm rot="16200000">
            <a:off x="5630040" y="4858200"/>
            <a:ext cx="317340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ие веч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3"/>
          <p:cNvSpPr/>
          <p:nvPr/>
        </p:nvSpPr>
        <p:spPr>
          <a:xfrm rot="16200000">
            <a:off x="6889320" y="4675320"/>
            <a:ext cx="317340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, экскурсии, экспеди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4"/>
          <p:cNvSpPr/>
          <p:nvPr/>
        </p:nvSpPr>
        <p:spPr>
          <a:xfrm flipH="1">
            <a:off x="971640" y="476280"/>
            <a:ext cx="576000" cy="7207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55"/>
          <p:cNvSpPr/>
          <p:nvPr/>
        </p:nvSpPr>
        <p:spPr>
          <a:xfrm flipH="1">
            <a:off x="1258920" y="2565360"/>
            <a:ext cx="217440" cy="93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56"/>
          <p:cNvSpPr/>
          <p:nvPr/>
        </p:nvSpPr>
        <p:spPr>
          <a:xfrm>
            <a:off x="2484360" y="256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57"/>
          <p:cNvSpPr/>
          <p:nvPr/>
        </p:nvSpPr>
        <p:spPr>
          <a:xfrm>
            <a:off x="3348000" y="2565360"/>
            <a:ext cx="21600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8"/>
          <p:cNvSpPr/>
          <p:nvPr/>
        </p:nvSpPr>
        <p:spPr>
          <a:xfrm flipH="1">
            <a:off x="5148000" y="2565360"/>
            <a:ext cx="360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59"/>
          <p:cNvSpPr/>
          <p:nvPr/>
        </p:nvSpPr>
        <p:spPr>
          <a:xfrm flipH="1">
            <a:off x="6300360" y="2637000"/>
            <a:ext cx="7164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60"/>
          <p:cNvSpPr/>
          <p:nvPr/>
        </p:nvSpPr>
        <p:spPr>
          <a:xfrm>
            <a:off x="7164360" y="2637000"/>
            <a:ext cx="14436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61"/>
          <p:cNvSpPr/>
          <p:nvPr/>
        </p:nvSpPr>
        <p:spPr>
          <a:xfrm>
            <a:off x="8459640" y="2637000"/>
            <a:ext cx="28908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62"/>
          <p:cNvSpPr/>
          <p:nvPr/>
        </p:nvSpPr>
        <p:spPr>
          <a:xfrm>
            <a:off x="7451640" y="476280"/>
            <a:ext cx="576360" cy="72072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3"/>
          <p:cNvSpPr/>
          <p:nvPr/>
        </p:nvSpPr>
        <p:spPr>
          <a:xfrm rot="16200000">
            <a:off x="-1272240" y="5017320"/>
            <a:ext cx="32209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 - изд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64"/>
          <p:cNvSpPr/>
          <p:nvPr/>
        </p:nvSpPr>
        <p:spPr>
          <a:xfrm flipH="1">
            <a:off x="250560" y="2565360"/>
            <a:ext cx="360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130040" y="447840"/>
            <a:ext cx="7099560" cy="10688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организаци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ой работы по географ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0" y="1916280"/>
            <a:ext cx="349236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на природ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ди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524680" y="4498920"/>
            <a:ext cx="412956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с географическ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тературо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рефера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докла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 газет и стен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366880" y="1989000"/>
            <a:ext cx="3737880" cy="2288520"/>
          </a:xfrm>
          <a:prstGeom prst="rect">
            <a:avLst/>
          </a:prstGeom>
          <a:solidFill>
            <a:srgbClr val="ff99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гровая деятельност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ч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импиа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ые иг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Ны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395280" y="907920"/>
            <a:ext cx="504720" cy="865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8677440" y="907920"/>
            <a:ext cx="287280" cy="865440"/>
          </a:xfrm>
          <a:prstGeom prst="line">
            <a:avLst/>
          </a:prstGeom>
          <a:ln w="76320">
            <a:solidFill>
              <a:srgbClr val="cc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572000" y="1773360"/>
            <a:ext cx="0" cy="23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-171360"/>
            <a:ext cx="687060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9933"/>
                </a:solidFill>
                <a:uFillTx/>
                <a:latin typeface="Comic Sans MS"/>
              </a:rPr>
              <a:t>Географические круж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1" descr="6"/>
          <p:cNvPicPr/>
          <p:nvPr/>
        </p:nvPicPr>
        <p:blipFill>
          <a:blip r:embed="rId1"/>
          <a:stretch/>
        </p:blipFill>
        <p:spPr>
          <a:xfrm>
            <a:off x="0" y="0"/>
            <a:ext cx="1706400" cy="1158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admin\Desktop\Новая папка\DSC_0099.JPG"/>
          <p:cNvPicPr/>
          <p:nvPr/>
        </p:nvPicPr>
        <p:blipFill>
          <a:blip r:embed="rId2"/>
          <a:srcRect l="9051" t="0" r="0" b="0"/>
          <a:stretch/>
        </p:blipFill>
        <p:spPr>
          <a:xfrm>
            <a:off x="468360" y="1341360"/>
            <a:ext cx="3608280" cy="223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admin\Desktop\Новая папка\DSC_0101.JPG"/>
          <p:cNvPicPr/>
          <p:nvPr/>
        </p:nvPicPr>
        <p:blipFill>
          <a:blip r:embed="rId3"/>
          <a:stretch/>
        </p:blipFill>
        <p:spPr>
          <a:xfrm>
            <a:off x="4211640" y="3860640"/>
            <a:ext cx="422424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773280"/>
            <a:ext cx="6870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9933"/>
                </a:solidFill>
                <a:uFillTx/>
                <a:latin typeface="Comic Sans MS"/>
              </a:rPr>
              <a:t>Экскурсии, походы(ориентирование на местности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5" descr="C:\Users\admin\Desktop\Новая папка\DSC_0134.JPG"/>
          <p:cNvPicPr/>
          <p:nvPr/>
        </p:nvPicPr>
        <p:blipFill>
          <a:blip r:embed="rId1"/>
          <a:stretch/>
        </p:blipFill>
        <p:spPr>
          <a:xfrm>
            <a:off x="539640" y="1916280"/>
            <a:ext cx="4224600" cy="23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admin\Desktop\Новая папка\DSC_0136.JPG"/>
          <p:cNvPicPr/>
          <p:nvPr/>
        </p:nvPicPr>
        <p:blipFill>
          <a:blip r:embed="rId2"/>
          <a:stretch/>
        </p:blipFill>
        <p:spPr>
          <a:xfrm>
            <a:off x="3819600" y="3789360"/>
            <a:ext cx="43527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01:00Z</dcterms:created>
  <dc:creator>User</dc:creator>
  <dc:description/>
  <dc:language>en-US</dc:language>
  <cp:lastModifiedBy>admin</cp:lastModifiedBy>
  <dcterms:modified xsi:type="dcterms:W3CDTF">2019-01-08T20:48:50Z</dcterms:modified>
  <cp:revision>18</cp:revision>
  <dc:subject/>
  <dc:title>Слайд 1</dc:title>
</cp:coreProperties>
</file>