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848-6C4E-4E38-B6AD-37E279F1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978-C133-4E7F-A7ED-63B1AA14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C88-C2B3-4F16-8E8A-78C1E816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8AF-10D1-4F01-A6A9-FD5F3FB0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4A85F-8BB5-4CDC-B532-8717860A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24F6E-8E58-4EF9-9A13-25B95125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2CF56-B4A7-4CBF-AADC-30360DF2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DBBB5-4FF0-4841-B356-AD98E6BE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2077B-BBF5-4F49-9128-D8E98A94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2E5ED-B64D-40BC-B46C-B6824064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D6757-8079-4720-BB33-DD402210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73E-1FF6-4EAB-82BF-04B20083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4EA1B-944C-4F6C-BD52-199FB1CD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B0CCC-5D97-4031-A951-2D49946C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78568-BA5F-4BF5-BBD4-38B906C9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28CA9-5938-4E12-9D85-F887DFB7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284DD-7B7E-4AC4-8ADA-FCDB6B1F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D2E-0007-4475-B60A-DA30514D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AE2-9B10-412D-A114-979EDE6B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F99-3278-4F97-9146-EC5BAA91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E59-6E14-40D9-B44C-73FE1352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C29-20B4-4DB4-AB0C-EC9549E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88B-103E-4DA8-BFA7-2C27D8A4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734-2D33-488B-ABE1-51B235C7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E9C6-2EB0-43AA-B719-CACEE3807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0D7E-7CA6-45FE-A680-F22296DA1F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ЛНЫ В ОКЕАН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9080" cy="4903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ahoma"/>
              </a:rPr>
              <a:t>Последствия цун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ahoma"/>
              </a:rPr>
              <a:t>3 Приливы и отлив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Еще один вид волн – приливы и отли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Это периодические, не зависящие от ветра поднятия и опускания уровня воды на берегах океанов и некоторых мор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редняя продолжительность одного прилива или отлива составляет примерно 6 час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Энергия приливов используется для получения электроэнергии на приливных электростанц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При отливах местные жители выходят на берег и собирают принесенные приливом дары моря: водоросли, крабов, креветок и проч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Tahoma"/>
              </a:rPr>
              <a:t>Ветровые вол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Ветровые волны возникают под действием ветра на большом пространстве открытой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ол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ол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24720" cy="5543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356000" y="299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еб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780000" y="5445000"/>
            <a:ext cx="16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724360" y="4221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ота вол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ahoma"/>
              </a:rPr>
              <a:t>2 Цун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чины возникновения цунам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1 Подводные землетряс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2 Опол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3 Извержения подводных вулка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5084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4362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 отличие от ветровых волн, цунами охватывают всю толщу воды от дна до поверх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930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20000" cy="5290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ahoma"/>
              </a:rPr>
              <a:t>Последствия цун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ahoma"/>
              </a:rPr>
              <a:t>Последствия цун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74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7:30:17Z</dcterms:created>
  <dc:creator>**</dc:creator>
  <dc:description/>
  <dc:language>en-US</dc:language>
  <cp:lastModifiedBy>Пользователь Windows</cp:lastModifiedBy>
  <dcterms:modified xsi:type="dcterms:W3CDTF">2019-10-16T16:44:22Z</dcterms:modified>
  <cp:revision>15</cp:revision>
  <dc:subject/>
  <dc:title>ВОЛНЫ В ОКЕАНЕ</dc:title>
</cp:coreProperties>
</file>