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camera.wav" ContentType="audio/x-wav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9.jpeg" ContentType="image/jpeg"/>
  <Override PartName="/ppt/media/image2.gif" ContentType="image/gif"/>
  <Override PartName="/ppt/media/image27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16.jpeg" ContentType="image/jpeg"/>
  <Override PartName="/ppt/media/image21.jpeg" ContentType="image/jpeg"/>
  <Override PartName="/ppt/media/chimes.wav" ContentType="audio/x-wav"/>
  <Override PartName="/ppt/media/image32.jpeg" ContentType="image/jpeg"/>
  <Override PartName="/ppt/media/image6.png" ContentType="image/png"/>
  <Override PartName="/ppt/media/image24.jpeg" ContentType="image/jpeg"/>
  <Override PartName="/ppt/media/projctor.wav" ContentType="audio/x-wav"/>
  <Override PartName="/ppt/media/image1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717-008E-495E-990B-9DD6E291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C25-6372-46AA-B894-9C5A1D70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931-33E7-45FF-B15C-77A4420E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C76-08BC-4897-8C09-26B1F6F2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DE92-45A8-4FA5-901F-8FE6D777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BA3C-84CB-4379-9056-2172CE88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DBB7-44F5-46B1-8703-99E572C1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4063-FD85-4617-937F-E933B9D3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A83F-BDA1-4802-A8EE-9563B2DF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86C5-0BC6-43E2-A14E-47B80ED7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E5D0-C5EF-44ED-A02B-141A22B2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900-278E-4A3F-A63B-AD8F7882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D21F-D34E-4CEC-A754-87D6A64F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E5AC-2E04-4F77-BB95-420DE65A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843A-9DDB-4546-ABB3-110361C4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A064-99D5-4357-BA3B-9AA2D67E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9ABC-DDDB-4FA0-BE76-91BB6BDB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ADD-B910-4096-8489-91A79A15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F9A-EC01-4ABA-A0A2-3880467F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C2B-B4FD-49EC-92B4-8FE53CF9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4F7-BE0F-4D92-8BB7-F6F1E204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5DE-468C-4104-A977-482674CC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FC2-84DB-4DD3-985D-461D38F8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496-FF91-4360-AD27-A3A50BE3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7A5E-79A3-4A4B-8F4B-67F86563EFC2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Line 5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6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10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1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2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13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Group 14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Line 15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6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7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9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20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21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22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23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Line 24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25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26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27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28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29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0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31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32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Line 33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34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35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6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37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8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39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40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41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43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44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45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46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47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48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49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50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Line 52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53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54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55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56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57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58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59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60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Line 61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62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63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64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65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66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67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68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69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Line 70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71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72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73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74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75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76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77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78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Line 79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80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81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82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83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84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85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86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87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Group 88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Line 89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90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91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92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93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94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95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96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97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Line 98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99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00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01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02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03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04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05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06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Line 107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08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09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10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111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112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113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114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115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Line 116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117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118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119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120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121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122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123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124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Group 125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Line 126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127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128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129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130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131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132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133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134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Line 135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136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137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138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139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140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141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142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143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Line 144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145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146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147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148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149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150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151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152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Line 153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154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155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156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157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158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159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160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161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Group 162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Line 163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164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165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166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167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168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169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170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171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Line 172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173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174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175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176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177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178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179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180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Line 181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182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183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184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185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186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187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188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189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Line 190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191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192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193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194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195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196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197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198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Line 199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00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01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02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03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04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05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06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07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08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209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210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Rectangle 211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212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213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14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215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16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Group 217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Rectangle 218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219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220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Rectangle 221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222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223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Rectangle 224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225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226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Rectangle 227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228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229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Rectangle 230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231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232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Rectangle 233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234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235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Rectangle 236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237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238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Rectangle 239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240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246" descr="posbul1a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3E29-3661-41A2-901A-3F4A8CA2C72C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jpeg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жпнры искусства"/>
          <p:cNvPicPr/>
          <p:nvPr/>
        </p:nvPicPr>
        <p:blipFill>
          <a:blip r:embed="rId1"/>
          <a:stretch/>
        </p:blipFill>
        <p:spPr>
          <a:xfrm>
            <a:off x="1692360" y="765000"/>
            <a:ext cx="5495760" cy="542772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2590920" y="2784600"/>
            <a:ext cx="36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990099"/>
                </a:solidFill>
                <a:latin typeface="Times New Roman"/>
              </a:rPr>
              <a:t>ЖАНРЫ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990099"/>
                </a:solidFill>
                <a:latin typeface="Times New Roman"/>
              </a:rPr>
              <a:t>ЖИВОПИСИ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1" name="Прямоугольник 1"/>
          <p:cNvSpPr/>
          <p:nvPr/>
        </p:nvSpPr>
        <p:spPr>
          <a:xfrm>
            <a:off x="-17640" y="314280"/>
            <a:ext cx="916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детский сад №32 городского округа Кинешма Ивановской области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6244560" y="635940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: Захарова К.С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Bookman Old Style"/>
              </a:rPr>
              <a:t>АВТОПОРТРЕТ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Автопортреты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- 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изображение художником самого себя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( Рембрант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ван Рейн, Леонардо да Винчи, В. Тропинин)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9" name="Picture 6" descr="автопортрет"/>
          <p:cNvPicPr/>
          <p:nvPr/>
        </p:nvPicPr>
        <p:blipFill>
          <a:blip r:embed="rId2"/>
          <a:stretch/>
        </p:blipFill>
        <p:spPr>
          <a:xfrm>
            <a:off x="1019160" y="1981080"/>
            <a:ext cx="3143160" cy="41148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7"/>
          <p:cNvSpPr/>
          <p:nvPr/>
        </p:nvSpPr>
        <p:spPr>
          <a:xfrm>
            <a:off x="471240" y="6167520"/>
            <a:ext cx="525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Garamond"/>
              </a:rPr>
              <a:t>В.Тропинин.</a:t>
            </a:r>
            <a:r>
              <a:rPr b="0" lang="ru-RU" sz="1600" spc="-1" strike="noStrike">
                <a:solidFill>
                  <a:srgbClr val="333399"/>
                </a:solidFill>
                <a:latin typeface="Garamond"/>
              </a:rPr>
              <a:t> Автопортрет с палитрой и кистями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Garamond"/>
              </a:rPr>
              <a:t>на фоне окна с видом на Кремль.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3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пейзаж"/>
          <p:cNvPicPr/>
          <p:nvPr/>
        </p:nvPicPr>
        <p:blipFill>
          <a:blip r:embed="rId1"/>
          <a:stretch/>
        </p:blipFill>
        <p:spPr>
          <a:xfrm>
            <a:off x="3622680" y="457200"/>
            <a:ext cx="5216400" cy="61722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3"/>
          <p:cNvSpPr/>
          <p:nvPr/>
        </p:nvSpPr>
        <p:spPr>
          <a:xfrm>
            <a:off x="3962520" y="3429000"/>
            <a:ext cx="309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99"/>
                </a:solidFill>
                <a:latin typeface="Bookman Old Style"/>
              </a:rPr>
              <a:t>ПЕЙЗАЖ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36440" y="509760"/>
            <a:ext cx="336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aramond"/>
                <a:ea typeface="Arial"/>
              </a:rPr>
              <a:t>Это изображение природы «пайс» (фран.) «природа».</a:t>
            </a:r>
            <a:r>
              <a:rPr b="0" lang="ru-RU" sz="2400" spc="-1" strike="noStrike">
                <a:solidFill>
                  <a:srgbClr val="333399"/>
                </a:solidFill>
                <a:latin typeface="Garamond"/>
                <a:ea typeface="Arial"/>
              </a:rPr>
              <a:t> Самостоятельным жанром его сделали  голландские  художники  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Garamond"/>
                <a:ea typeface="Arial"/>
              </a:rPr>
              <a:t>14 – 15 веке; в русском искусстве – во второй половине 19 век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2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99"/>
                </a:solidFill>
                <a:latin typeface="Bookman Old Style"/>
              </a:rPr>
              <a:t>ГОРОДСКОЙ ПЕЙЗАЖ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Городской пейзаж – изображение города (зданий, мостов, городских парков, улиц, набережных)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6" name="Picture 9" descr="городской 2"/>
          <p:cNvPicPr/>
          <p:nvPr/>
        </p:nvPicPr>
        <p:blipFill>
          <a:blip r:embed="rId2"/>
          <a:stretch/>
        </p:blipFill>
        <p:spPr>
          <a:xfrm>
            <a:off x="380880" y="2362320"/>
            <a:ext cx="3962520" cy="312408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0"/>
          <p:cNvSpPr/>
          <p:nvPr/>
        </p:nvSpPr>
        <p:spPr>
          <a:xfrm>
            <a:off x="-144720" y="5611680"/>
            <a:ext cx="476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aramond"/>
              </a:rPr>
              <a:t>Ф. Алексеев.</a:t>
            </a: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 Вид на Воскресенские и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Никольские ворота и Неглинный мост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от Тверской улиц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3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99"/>
                </a:solidFill>
                <a:latin typeface="Bookman Old Style"/>
              </a:rPr>
              <a:t>СЕЛЬСКИЙ ПЕЙЗАЖ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ельский пейзаж – изображение деревень и сёл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астера сельского пейзажа – И.Левитан, К. Юон, А.Куинджи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0" name="Picture 6" descr="сельский"/>
          <p:cNvPicPr/>
          <p:nvPr/>
        </p:nvPicPr>
        <p:blipFill>
          <a:blip r:embed="rId3"/>
          <a:stretch/>
        </p:blipFill>
        <p:spPr>
          <a:xfrm>
            <a:off x="304920" y="2514600"/>
            <a:ext cx="4267080" cy="312408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7"/>
          <p:cNvSpPr/>
          <p:nvPr/>
        </p:nvSpPr>
        <p:spPr>
          <a:xfrm>
            <a:off x="-140400" y="5610240"/>
            <a:ext cx="45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Garamond"/>
              </a:rPr>
              <a:t>И. Левитан.</a:t>
            </a: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 Саввинская слобода под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Звенигородом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4" name="chimes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99"/>
                </a:solidFill>
                <a:latin typeface="Bookman Old Style"/>
              </a:rPr>
              <a:t>МОРСКОЙ ПЕЙЗАЖ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чень часто морской пейзаж называют «мариной»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амым знаменитым русским маринистом был И.К. Айвазовский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4" name="Picture 6" descr="морина"/>
          <p:cNvPicPr/>
          <p:nvPr/>
        </p:nvPicPr>
        <p:blipFill>
          <a:blip r:embed="rId3"/>
          <a:stretch/>
        </p:blipFill>
        <p:spPr>
          <a:xfrm>
            <a:off x="380880" y="2514600"/>
            <a:ext cx="4191120" cy="312408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7"/>
          <p:cNvSpPr/>
          <p:nvPr/>
        </p:nvSpPr>
        <p:spPr>
          <a:xfrm>
            <a:off x="-41400" y="5587920"/>
            <a:ext cx="40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И.Айвазовский.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</a:rPr>
              <a:t> Девятый вал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4" name="chimes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Bookman Old Style"/>
              </a:rPr>
              <a:t>КАРТИНЫ «ЧИСТОЙ» ПРИРОДЫ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артины «чистой» природы 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( И.Шишкин, И. Левитан, А. Куин -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джи; К. Юон; А. Саврасов)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8" name="Picture 6" descr="чистая природа"/>
          <p:cNvPicPr/>
          <p:nvPr/>
        </p:nvPicPr>
        <p:blipFill>
          <a:blip r:embed="rId2"/>
          <a:stretch/>
        </p:blipFill>
        <p:spPr>
          <a:xfrm>
            <a:off x="609480" y="1981080"/>
            <a:ext cx="3679920" cy="411480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7"/>
          <p:cNvSpPr/>
          <p:nvPr/>
        </p:nvSpPr>
        <p:spPr>
          <a:xfrm>
            <a:off x="303480" y="606888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aramond"/>
              </a:rPr>
              <a:t>Ф. Васильев.</a:t>
            </a: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 После гроз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3" name="chimes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интерьер"/>
          <p:cNvPicPr/>
          <p:nvPr/>
        </p:nvPicPr>
        <p:blipFill>
          <a:blip r:embed="rId1"/>
          <a:stretch/>
        </p:blipFill>
        <p:spPr>
          <a:xfrm>
            <a:off x="380880" y="533520"/>
            <a:ext cx="5064120" cy="609588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1828800" y="3733920"/>
            <a:ext cx="335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Bookman Old Style"/>
              </a:rPr>
              <a:t>ИНТЕРЬЕР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5622840" y="498600"/>
            <a:ext cx="3521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Жанр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терьера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вящён изображению внутреннего пространства зданий или помещений – с их убранством, мебелью и вещам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астера изображения интерьера – Питер де Хох, Я. Вермеер, Г. Сорок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России развитие жанра связано с именем А. Г. Венецианов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2" name="chimes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Bookman Old Style"/>
              </a:rPr>
              <a:t>ИНТЕРЬЕР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34" name="Picture 3" descr="интерьер"/>
          <p:cNvPicPr/>
          <p:nvPr/>
        </p:nvPicPr>
        <p:blipFill>
          <a:blip r:embed="rId1"/>
          <a:stretch/>
        </p:blipFill>
        <p:spPr>
          <a:xfrm>
            <a:off x="2362320" y="1523880"/>
            <a:ext cx="4190760" cy="44960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4"/>
          <p:cNvSpPr/>
          <p:nvPr/>
        </p:nvSpPr>
        <p:spPr>
          <a:xfrm>
            <a:off x="1128240" y="6121440"/>
            <a:ext cx="58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Times New Roman"/>
              </a:rPr>
              <a:t>                 </a:t>
            </a: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Ф. Решетников.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</a:rPr>
              <a:t> Уголок мастерской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2" name="chimes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анималистический"/>
          <p:cNvPicPr/>
          <p:nvPr/>
        </p:nvPicPr>
        <p:blipFill>
          <a:blip r:embed="rId1"/>
          <a:stretch/>
        </p:blipFill>
        <p:spPr>
          <a:xfrm>
            <a:off x="3659040" y="533520"/>
            <a:ext cx="5104080" cy="609588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"/>
          <p:cNvSpPr/>
          <p:nvPr/>
        </p:nvSpPr>
        <p:spPr>
          <a:xfrm>
            <a:off x="0" y="1565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imes New Roman"/>
              </a:rPr>
              <a:t>АНИМАЛИСТИЧЕСКИЙ ЖАНР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3794040" y="2185920"/>
            <a:ext cx="3444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Это изображение животных «анимал» (лат.) « животное»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Этот жанр возник ещё у первобытных художников. Они изображали сцены охоты на оленей, мамонтов, бизонов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В Россию анималистический жанр пришёл лишь в 19 веке.  </a:t>
            </a: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Художники :Суриков, А. Дюрер, В. Ватагин, В. Сутеев, Е. Чарушин. 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39" name="Picture 6" descr="Дюрер"/>
          <p:cNvPicPr/>
          <p:nvPr/>
        </p:nvPicPr>
        <p:blipFill>
          <a:blip r:embed="rId2"/>
          <a:stretch/>
        </p:blipFill>
        <p:spPr>
          <a:xfrm>
            <a:off x="457200" y="2666880"/>
            <a:ext cx="2971800" cy="32004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7"/>
          <p:cNvSpPr/>
          <p:nvPr/>
        </p:nvSpPr>
        <p:spPr>
          <a:xfrm>
            <a:off x="207720" y="589104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А. Дюрер.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</a:rPr>
              <a:t> Кролик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3" name="chimes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3" descr="история"/>
          <p:cNvPicPr/>
          <p:nvPr/>
        </p:nvPicPr>
        <p:blipFill>
          <a:blip r:embed="rId1"/>
          <a:stretch/>
        </p:blipFill>
        <p:spPr>
          <a:xfrm>
            <a:off x="380880" y="533520"/>
            <a:ext cx="5050080" cy="609588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4"/>
          <p:cNvSpPr/>
          <p:nvPr/>
        </p:nvSpPr>
        <p:spPr>
          <a:xfrm>
            <a:off x="2117880" y="1717560"/>
            <a:ext cx="672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Bookman Old Style"/>
              </a:rPr>
              <a:t>ИСТОРИЧЕСКИЙ ЖАНР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1965240" y="2643120"/>
            <a:ext cx="3368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Это  изображение жизни людей прошлого, конкретного исторического события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Быть историческим живописцем очень непросто. Нужно хорошо знать изображаемую эпоху, детали и приметы того времени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Художники: К. Брюллов, В. Суриков, А. Иванов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44" name="Picture 6" descr="суриков"/>
          <p:cNvPicPr/>
          <p:nvPr/>
        </p:nvPicPr>
        <p:blipFill>
          <a:blip r:embed="rId2"/>
          <a:stretch/>
        </p:blipFill>
        <p:spPr>
          <a:xfrm>
            <a:off x="5638680" y="259092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8"/>
          <p:cNvSpPr/>
          <p:nvPr/>
        </p:nvSpPr>
        <p:spPr>
          <a:xfrm>
            <a:off x="5322600" y="5816520"/>
            <a:ext cx="33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В. Суриков.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</a:rPr>
              <a:t>Меньшиков в Берёзовке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291600" y="6056280"/>
            <a:ext cx="179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К. Брюллов. Фрагменты 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картины «Последний 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день Помпеи».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3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extBox 1" descr=""/>
          <p:cNvPicPr/>
          <p:nvPr/>
        </p:nvPicPr>
        <p:blipFill>
          <a:blip r:embed="rId1"/>
          <a:stretch/>
        </p:blipFill>
        <p:spPr>
          <a:xfrm>
            <a:off x="324000" y="1054080"/>
            <a:ext cx="8350200" cy="5261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3" descr="быт"/>
          <p:cNvPicPr/>
          <p:nvPr/>
        </p:nvPicPr>
        <p:blipFill>
          <a:blip r:embed="rId1"/>
          <a:stretch/>
        </p:blipFill>
        <p:spPr>
          <a:xfrm>
            <a:off x="380880" y="533520"/>
            <a:ext cx="5034240" cy="609588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4"/>
          <p:cNvSpPr/>
          <p:nvPr/>
        </p:nvSpPr>
        <p:spPr>
          <a:xfrm>
            <a:off x="367560" y="3618000"/>
            <a:ext cx="152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Г. Метсю. 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Девушка за работой.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365400" y="5827680"/>
            <a:ext cx="122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А. Венецианов. 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83ad"/>
                </a:solidFill>
                <a:latin typeface="Times New Roman"/>
              </a:rPr>
              <a:t>Жнецы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2209680" y="17002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Bookman Old Style"/>
              </a:rPr>
              <a:t>БЫТОВОЙ ЖАНР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1905120" y="2643120"/>
            <a:ext cx="3429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Он изображает разные стороны жизни человека: труд и отдых, праздники и будни, забавы и серьёзные занятия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Сформировался в 16 веке  в Европе ( Голландии). В России активно развивался в 19 веке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Художники : А. Венецианов, П. Фёдоров, И.Репин, В. Маковский, Б. Кустодиев,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52" name="Picture 8" descr="бытовой"/>
          <p:cNvPicPr/>
          <p:nvPr/>
        </p:nvPicPr>
        <p:blipFill>
          <a:blip r:embed="rId2"/>
          <a:stretch/>
        </p:blipFill>
        <p:spPr>
          <a:xfrm>
            <a:off x="5715000" y="2666880"/>
            <a:ext cx="2895480" cy="350532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9"/>
          <p:cNvSpPr/>
          <p:nvPr/>
        </p:nvSpPr>
        <p:spPr>
          <a:xfrm>
            <a:off x="5438160" y="6221520"/>
            <a:ext cx="27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aramond"/>
              </a:rPr>
              <a:t>Ф. Решетников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Прибыл на каникул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3" name="chimes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3" descr="батальны"/>
          <p:cNvPicPr/>
          <p:nvPr/>
        </p:nvPicPr>
        <p:blipFill>
          <a:blip r:embed="rId1"/>
          <a:stretch/>
        </p:blipFill>
        <p:spPr>
          <a:xfrm>
            <a:off x="304920" y="533520"/>
            <a:ext cx="5114880" cy="609588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4"/>
          <p:cNvSpPr/>
          <p:nvPr/>
        </p:nvSpPr>
        <p:spPr>
          <a:xfrm>
            <a:off x="517680" y="1600200"/>
            <a:ext cx="83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6666"/>
                </a:solidFill>
                <a:latin typeface="Bookman Old Style"/>
              </a:rPr>
              <a:t>БАТАЛЬНЫЙ ЖАНР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56" name="Picture 6" descr="Верещагин"/>
          <p:cNvPicPr/>
          <p:nvPr/>
        </p:nvPicPr>
        <p:blipFill>
          <a:blip r:embed="rId2"/>
          <a:stretch/>
        </p:blipFill>
        <p:spPr>
          <a:xfrm>
            <a:off x="4572000" y="4038480"/>
            <a:ext cx="4267080" cy="251460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7"/>
          <p:cNvSpPr/>
          <p:nvPr/>
        </p:nvSpPr>
        <p:spPr>
          <a:xfrm>
            <a:off x="2477880" y="4087800"/>
            <a:ext cx="23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aramond"/>
              </a:rPr>
              <a:t>В. Суриков.</a:t>
            </a: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Переход Суворова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через Альп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2512440" y="568800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aramond"/>
              </a:rPr>
              <a:t>Верещагин.</a:t>
            </a: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Апофеоз войн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297000" y="1981080"/>
            <a:ext cx="855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Он посвящён сценам сражений и военным походам.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 Сложился в Древнем Риме. От художника требуется точность в показе событий, обмундировании, оружия. « Батай» (фран). « битва»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В России одним из самых замечательных баталистов был </a:t>
            </a: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В. Вере-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щагин, а также В. Суриков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3" name="chimes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3" descr="мифологически"/>
          <p:cNvPicPr/>
          <p:nvPr/>
        </p:nvPicPr>
        <p:blipFill>
          <a:blip r:embed="rId1"/>
          <a:stretch/>
        </p:blipFill>
        <p:spPr>
          <a:xfrm>
            <a:off x="380880" y="533520"/>
            <a:ext cx="5106960" cy="609588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4"/>
          <p:cNvSpPr/>
          <p:nvPr/>
        </p:nvSpPr>
        <p:spPr>
          <a:xfrm>
            <a:off x="1432080" y="179388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914400" y="1641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Bookman Old Style"/>
              </a:rPr>
              <a:t>МИФОЛОГИЧЕСКИЙ ЖАНР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2209680" y="2338560"/>
            <a:ext cx="327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Начало мифологическому жанру было положено в Древней Греции. </a:t>
            </a: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Это изображение картин на сюжеты античных мифов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В России он развился лишь в 19 веке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Художники: Сандро Боттичелли, М. Врубель, В. Васнецов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64" name="Picture 7" descr="Васнецов"/>
          <p:cNvPicPr/>
          <p:nvPr/>
        </p:nvPicPr>
        <p:blipFill>
          <a:blip r:embed="rId2"/>
          <a:stretch/>
        </p:blipFill>
        <p:spPr>
          <a:xfrm>
            <a:off x="5410080" y="3048120"/>
            <a:ext cx="3505320" cy="274320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9"/>
          <p:cNvSpPr/>
          <p:nvPr/>
        </p:nvSpPr>
        <p:spPr>
          <a:xfrm>
            <a:off x="5140440" y="589284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Васнецов.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</a:rPr>
              <a:t> Три богатыря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365040" y="6324480"/>
            <a:ext cx="181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С. Боттичелли. Весна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3" name="chimes.wav"/>
      </p:stSnd>
    </p:sndAc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религиозный"/>
          <p:cNvPicPr/>
          <p:nvPr/>
        </p:nvPicPr>
        <p:blipFill>
          <a:blip r:embed="rId1"/>
          <a:stretch/>
        </p:blipFill>
        <p:spPr>
          <a:xfrm>
            <a:off x="3630600" y="533520"/>
            <a:ext cx="5208480" cy="609588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3"/>
          <p:cNvSpPr/>
          <p:nvPr/>
        </p:nvSpPr>
        <p:spPr>
          <a:xfrm>
            <a:off x="365040" y="1641600"/>
            <a:ext cx="573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Bookman Old Style"/>
              </a:rPr>
              <a:t>РЕЛИГИОЗНЫЙ ЖАНР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3870360" y="3100320"/>
            <a:ext cx="4816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Garamond"/>
                <a:ea typeface="Arial"/>
              </a:rPr>
              <a:t>В основе его темы и сюжеты Библии, священной книги христиан</a:t>
            </a:r>
            <a:r>
              <a:rPr b="0" lang="ru-RU" sz="1800" spc="-1" strike="noStrike">
                <a:solidFill>
                  <a:srgbClr val="333399"/>
                </a:solidFill>
                <a:latin typeface="Garamond"/>
                <a:ea typeface="Arial"/>
              </a:rPr>
              <a:t>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Garamond"/>
                <a:ea typeface="Arial"/>
              </a:rPr>
              <a:t>Художники расписывали в храмах и монастырях стены, украшали культовую архитектуру скульптурой и орнаментом, выполняли миниатюры в церковных книгах, вырезали и расписывали алтари,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Garamond"/>
                <a:ea typeface="Arial"/>
              </a:rPr>
              <a:t>писали иконы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aramond"/>
                <a:ea typeface="Arial"/>
              </a:rPr>
              <a:t>Иконы – это картины, изображающие сюжеты из Библии, христианских святых, их жизнь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aramond"/>
                <a:ea typeface="Arial"/>
              </a:rPr>
              <a:t>Известные художники: Леонардо да Винчи, А. Рублёв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70" name="Picture 5" descr="Рублёв"/>
          <p:cNvPicPr/>
          <p:nvPr/>
        </p:nvPicPr>
        <p:blipFill>
          <a:blip r:embed="rId2"/>
          <a:stretch/>
        </p:blipFill>
        <p:spPr>
          <a:xfrm>
            <a:off x="457200" y="3048120"/>
            <a:ext cx="2895480" cy="320040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7"/>
          <p:cNvSpPr/>
          <p:nvPr/>
        </p:nvSpPr>
        <p:spPr>
          <a:xfrm>
            <a:off x="40680" y="621972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Garamond"/>
              </a:rPr>
              <a:t>А. Рублёв.</a:t>
            </a: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 Святая Троица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3" name="chimes.wav"/>
      </p:stSnd>
    </p:sndAc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extBox 1" descr=""/>
          <p:cNvPicPr/>
          <p:nvPr/>
        </p:nvPicPr>
        <p:blipFill>
          <a:blip r:embed="rId1"/>
          <a:stretch/>
        </p:blipFill>
        <p:spPr>
          <a:xfrm>
            <a:off x="3419640" y="549360"/>
            <a:ext cx="3670200" cy="91908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2" descr=""/>
          <p:cNvPicPr/>
          <p:nvPr/>
        </p:nvPicPr>
        <p:blipFill>
          <a:blip r:embed="rId2"/>
          <a:stretch/>
        </p:blipFill>
        <p:spPr>
          <a:xfrm>
            <a:off x="1116000" y="1488960"/>
            <a:ext cx="6588000" cy="4940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натюрморт"/>
          <p:cNvPicPr/>
          <p:nvPr/>
        </p:nvPicPr>
        <p:blipFill>
          <a:blip r:embed="rId1"/>
          <a:stretch/>
        </p:blipFill>
        <p:spPr>
          <a:xfrm>
            <a:off x="3657600" y="533520"/>
            <a:ext cx="5105520" cy="60958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3"/>
          <p:cNvSpPr/>
          <p:nvPr/>
        </p:nvSpPr>
        <p:spPr>
          <a:xfrm>
            <a:off x="387036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3795120" y="4006800"/>
            <a:ext cx="31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imes New Roman"/>
              </a:rPr>
              <a:t>НАТЮРМОРТ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36440" y="509760"/>
            <a:ext cx="33688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Это изображение различных предметов, вещей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( домашней утвари, музыкальных инструментов, цветов, фруктов, овощей, дичи) и других неодушевленных предметов. В переводе с французского « мертвая тишина»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Возник этот жанр в Голландии и Испании в 17 веке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Известные художники этого жанра: Б. Кустодиев, В.Перов, И. Грабарь,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  <a:ea typeface="Arial"/>
              </a:rPr>
              <a:t>К. Коровин, Ж. Б. С. Шарден, Питер Класс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99"/>
                </a:solidFill>
                <a:latin typeface="Bookman Old Style"/>
              </a:rPr>
              <a:t>НАТЮРМОРТ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91" name="Picture 3" descr="Питер Класс - завтрак с ветчиной"/>
          <p:cNvPicPr/>
          <p:nvPr/>
        </p:nvPicPr>
        <p:blipFill>
          <a:blip r:embed="rId1"/>
          <a:stretch/>
        </p:blipFill>
        <p:spPr>
          <a:xfrm>
            <a:off x="1676520" y="1565280"/>
            <a:ext cx="5943600" cy="39211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4"/>
          <p:cNvSpPr/>
          <p:nvPr/>
        </p:nvSpPr>
        <p:spPr>
          <a:xfrm>
            <a:off x="-197640" y="5692680"/>
            <a:ext cx="84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333399"/>
                </a:solidFill>
                <a:latin typeface="Garamond"/>
              </a:rPr>
              <a:t>Питер Класс</a:t>
            </a:r>
            <a:r>
              <a:rPr b="0" lang="ru-RU" sz="2400" spc="-1" strike="noStrike">
                <a:solidFill>
                  <a:srgbClr val="333399"/>
                </a:solidFill>
                <a:latin typeface="Garamond"/>
              </a:rPr>
              <a:t> (Голландия). Завтрак с ветчиной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2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99"/>
                </a:solidFill>
                <a:latin typeface="Bookman Old Style"/>
              </a:rPr>
              <a:t>НАТЮРМОРТ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94" name="Picture 3" descr="Голвин"/>
          <p:cNvPicPr/>
          <p:nvPr/>
        </p:nvPicPr>
        <p:blipFill>
          <a:blip r:embed="rId1"/>
          <a:stretch/>
        </p:blipFill>
        <p:spPr>
          <a:xfrm>
            <a:off x="2438280" y="1600200"/>
            <a:ext cx="4191120" cy="4419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4"/>
          <p:cNvSpPr/>
          <p:nvPr/>
        </p:nvSpPr>
        <p:spPr>
          <a:xfrm>
            <a:off x="693360" y="6100920"/>
            <a:ext cx="73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</a:rPr>
              <a:t>А.Головин.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 Натюрморт. Цветы в ваз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2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портрет"/>
          <p:cNvPicPr/>
          <p:nvPr/>
        </p:nvPicPr>
        <p:blipFill>
          <a:blip r:embed="rId1"/>
          <a:stretch/>
        </p:blipFill>
        <p:spPr>
          <a:xfrm>
            <a:off x="3581280" y="457200"/>
            <a:ext cx="5181840" cy="61722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3"/>
          <p:cNvSpPr/>
          <p:nvPr/>
        </p:nvSpPr>
        <p:spPr>
          <a:xfrm>
            <a:off x="3887280" y="4038480"/>
            <a:ext cx="263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</a:rPr>
              <a:t>ПОРТРЕТ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136440" y="509760"/>
            <a:ext cx="336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aramond"/>
                <a:ea typeface="Arial"/>
              </a:rPr>
              <a:t>Это изображение человека или группы людей</a:t>
            </a:r>
            <a:r>
              <a:rPr b="0" lang="ru-RU" sz="2400" spc="-1" strike="noStrike">
                <a:solidFill>
                  <a:srgbClr val="333399"/>
                </a:solidFill>
                <a:latin typeface="Garamond"/>
                <a:ea typeface="Arial"/>
              </a:rPr>
              <a:t>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Garamond"/>
                <a:ea typeface="Arial"/>
              </a:rPr>
              <a:t>Искусство портрета  родилось несколько тысяч лет назад в Древнем Египте, Древней Греции, Древнем Риме. Основное качество портрета – сходство с оригинало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2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Garamond"/>
              </a:rPr>
              <a:t>ПАРАДНЫЙ ПОРТРЕТ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Парадные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ртреты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 –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посвящены общественному деятелю. Их заказывает человек. 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(В. Боровиковский, А. Герасимов)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0" y="5985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Garamond"/>
              </a:rPr>
              <a:t>                </a:t>
            </a:r>
            <a:r>
              <a:rPr b="1" lang="ru-RU" sz="1600" spc="-1" strike="noStrike">
                <a:solidFill>
                  <a:srgbClr val="333399"/>
                </a:solidFill>
                <a:latin typeface="Garamond"/>
              </a:rPr>
              <a:t>А.Герасимов.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Garamond"/>
              </a:rPr>
              <a:t>                </a:t>
            </a:r>
            <a:r>
              <a:rPr b="0" lang="ru-RU" sz="1600" spc="-1" strike="noStrike">
                <a:solidFill>
                  <a:srgbClr val="333399"/>
                </a:solidFill>
                <a:latin typeface="Garamond"/>
              </a:rPr>
              <a:t>Портрет балерины О. В. Лепешинской.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2" name="Picture 7" descr="парадный портрет"/>
          <p:cNvPicPr/>
          <p:nvPr/>
        </p:nvPicPr>
        <p:blipFill>
          <a:blip r:embed="rId2"/>
          <a:stretch/>
        </p:blipFill>
        <p:spPr>
          <a:xfrm>
            <a:off x="968400" y="1981080"/>
            <a:ext cx="32446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3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Bookman Old Style"/>
              </a:rPr>
              <a:t>КАМЕРНЫЙ ПОРТРЕТ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амерны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ртреты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-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предназначен для небольших помещений, на них изображаются простые люди.(</a:t>
            </a:r>
            <a:r>
              <a:rPr b="1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А. Венецианов, В. Серов, И. Крамской).</a:t>
            </a:r>
            <a:r>
              <a:rPr b="0" lang="ru-RU" sz="2800" spc="-1" strike="noStrike">
                <a:solidFill>
                  <a:srgbClr val="333399"/>
                </a:solidFill>
                <a:latin typeface="Garamond"/>
                <a:ea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5" name="Picture 6" descr="камерный"/>
          <p:cNvPicPr/>
          <p:nvPr/>
        </p:nvPicPr>
        <p:blipFill>
          <a:blip r:embed="rId2"/>
          <a:stretch/>
        </p:blipFill>
        <p:spPr>
          <a:xfrm>
            <a:off x="915840" y="1981080"/>
            <a:ext cx="3349800" cy="4114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7"/>
          <p:cNvSpPr/>
          <p:nvPr/>
        </p:nvSpPr>
        <p:spPr>
          <a:xfrm>
            <a:off x="465840" y="6068880"/>
            <a:ext cx="41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aramond"/>
              </a:rPr>
              <a:t>И. Репин.</a:t>
            </a:r>
            <a:r>
              <a:rPr b="0" lang="ru-RU" sz="1800" spc="-1" strike="noStrike">
                <a:solidFill>
                  <a:srgbClr val="333399"/>
                </a:solidFill>
                <a:latin typeface="Garamond"/>
              </a:rPr>
              <a:t> Портрет Нади Репиной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3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4:03:44Z</dcterms:created>
  <dc:creator>з.к</dc:creator>
  <dc:description/>
  <dc:language>en-US</dc:language>
  <cp:lastModifiedBy>IvanZ</cp:lastModifiedBy>
  <dcterms:modified xsi:type="dcterms:W3CDTF">2019-12-07T15:59:58Z</dcterms:modified>
  <cp:revision>6</cp:revision>
  <dc:subject/>
  <dc:title>Презентация PowerPoint</dc:title>
</cp:coreProperties>
</file>