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044-4B98-4F17-A02E-10D36631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017-41A5-4F06-AEC1-BF53B2E8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348-6603-4D41-AEB4-697D9171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428-DB89-4F3C-A475-0993E27F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4AC-BBBA-40FE-84AE-57D6BE80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5E1-2334-471B-B6C7-91531625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CF6-363D-4113-B343-9836ED5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CFC-01C3-4AED-83FB-04FF9AFB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45A-A836-4922-83E3-12838F2A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D68-E322-4DA1-BCBB-81B1E22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A1C-99C2-4063-8157-B42CADD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DBD-65D4-49D3-97D1-E65FB935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ECB1-2049-4314-8E64-EC54E82A2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ulya</dc:creator>
  <dc:description/>
  <dc:language>en-US</dc:language>
  <cp:lastModifiedBy>Yulya</cp:lastModifiedBy>
  <dcterms:modified xsi:type="dcterms:W3CDTF">2020-01-09T10:04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