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290-2A5F-4421-9882-8F4856F6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CD4-8DC6-43EB-9759-10F0FE0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D3E-0877-4C0D-BAAD-4B8FFF09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1A9-D1A3-4EAA-9DB0-3FD206E7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9AF-1B18-463C-98CD-0FABD49B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364-B445-4DFA-9184-BB4D916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EBF-6E5B-4BEC-BCDB-853C503F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B77-A940-472B-A7A0-FFBDD92A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33E-E333-4BC6-9A1D-9CE2AE4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D13-FC1A-488F-B332-4CC6243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63E-9E9C-4D39-8146-7838A82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704-F2B8-4F67-A3AF-32D2314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7FA-DEFB-4D36-8A84-1DAA608E5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2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3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14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15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16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7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2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2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2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7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8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9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23 L -0.05902 0.00023 E">
                                      <p:cBhvr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2775E-006 L -0.05503 -2.42775E-006 E"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552 -2.42775E-006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1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1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1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2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2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3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3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3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4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4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4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5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5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5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6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1 0.0544 L -0.05069 0.10417 L -0.09027 0.09028 L -0.11041 0.03958 L -0.11041 -0.00833 L -0.09375 -0.05602 L -0.06041 -0.07292 L -0.03125 -0.0537 L -0.00399 0.00023 Z">
                                      <p:cBhvr>
                                        <p:cTn id="16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6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5 L -0.11649 0.01273 L -0.10104 -0.04028 L -0.08524 -0.06875 C -0.04601 -0.07547 -0.04636 -0.09074 -0.03524 -0.06366 L -0.00399 0.00023 Z">
                                      <p:cBhvr>
                                        <p:cTn id="16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0316 0.08403 E">
                                      <p:cBhvr>
                                        <p:cTn id="17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3542 0.1051 E">
                                      <p:cBhvr>
                                        <p:cTn id="17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-0.02344 0.09445 E">
                                      <p:cBhvr>
                                        <p:cTn id="1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3541 0.1051 E">
                                      <p:cBhvr>
                                        <p:cTn id="1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2340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2700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19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5"/>
          <p:cNvSpPr/>
          <p:nvPr/>
        </p:nvSpPr>
        <p:spPr>
          <a:xfrm>
            <a:off x="5580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57004E-007 L 0.10625 0.00023 E">
                                      <p:cBhvr>
                                        <p:cTn id="1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1743E-006 L 0.11025 -2.11743E-006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11743E-006 L 0.11024 -2.11743E-006 E">
                                      <p:cBhvr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0.11024 0.00046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284328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320364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572292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08328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9.57004E-007 L -0.00382 -0.06264 E">
                                      <p:cBhvr>
                                        <p:cTn id="3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1743E-006 L 0.00017 -0.06287 E">
                                      <p:cBhvr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57004E-007 L -0.00382 -0.06264 E">
                                      <p:cBhvr>
                                        <p:cTn id="3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11743E-006 L 0.00017 -0.06287 E">
                                      <p:cBhvr>
                                        <p:cTn id="3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284328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3132000" y="2852640"/>
            <a:ext cx="21600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5724360" y="2349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5"/>
          <p:cNvSpPr/>
          <p:nvPr/>
        </p:nvSpPr>
        <p:spPr>
          <a:xfrm>
            <a:off x="6012000" y="2852640"/>
            <a:ext cx="215640" cy="576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51826E-006 L 0.00017 0.16759 E">
                                      <p:cBhvr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869E-006 L 0.00399 0.16782 E">
                                      <p:cBhvr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1826E-006 L -3.88889E-006 0.16759 E">
                                      <p:cBhvr>
                                        <p:cTn id="4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7869E-006 L 0.00399 0.16782 E">
                                      <p:cBhvr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7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8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8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9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9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9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9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234000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334800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6"/>
          <p:cNvSpPr/>
          <p:nvPr/>
        </p:nvSpPr>
        <p:spPr>
          <a:xfrm flipH="1" flipV="1">
            <a:off x="2410560" y="1439280"/>
            <a:ext cx="576360" cy="982440"/>
          </a:xfrm>
          <a:custGeom>
            <a:avLst/>
            <a:gdLst/>
            <a:ahLst/>
            <a:rect l="l" t="t" r="r" b="b"/>
            <a:pathLst>
              <a:path fill="none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</a:path>
              <a:path stroke="0" w="21600" h="27791">
                <a:moveTo>
                  <a:pt x="7230" y="-1"/>
                </a:moveTo>
                <a:cubicBezTo>
                  <a:pt x="15844" y="3060"/>
                  <a:pt x="21600" y="11211"/>
                  <a:pt x="21600" y="20354"/>
                </a:cubicBezTo>
                <a:cubicBezTo>
                  <a:pt x="21600" y="22891"/>
                  <a:pt x="21152" y="25408"/>
                  <a:pt x="20279" y="27791"/>
                </a:cubicBezTo>
                <a:lnTo>
                  <a:pt x="0" y="20354"/>
                </a:lnTo>
                <a:lnTo>
                  <a:pt x="723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7"/>
          <p:cNvSpPr/>
          <p:nvPr/>
        </p:nvSpPr>
        <p:spPr>
          <a:xfrm flipH="1" flipV="1">
            <a:off x="1908000" y="1772640"/>
            <a:ext cx="741600" cy="787320"/>
          </a:xfrm>
          <a:custGeom>
            <a:avLst/>
            <a:gdLst/>
            <a:ahLst/>
            <a:rect l="l" t="t" r="r" b="b"/>
            <a:pathLst>
              <a:path fill="none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</a:path>
              <a:path stroke="0" w="21600" h="3242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401"/>
                  <a:pt x="20596" y="29135"/>
                  <a:pt x="18691" y="3242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8"/>
          <p:cNvSpPr/>
          <p:nvPr/>
        </p:nvSpPr>
        <p:spPr>
          <a:xfrm flipH="1" flipV="1">
            <a:off x="1476360" y="2348640"/>
            <a:ext cx="960480" cy="56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370836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10"/>
          <p:cNvSpPr/>
          <p:nvPr/>
        </p:nvSpPr>
        <p:spPr>
          <a:xfrm flipV="1">
            <a:off x="6443640" y="1341360"/>
            <a:ext cx="528840" cy="1008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11"/>
          <p:cNvSpPr/>
          <p:nvPr/>
        </p:nvSpPr>
        <p:spPr>
          <a:xfrm flipV="1">
            <a:off x="6588000" y="1557360"/>
            <a:ext cx="793800" cy="1008000"/>
          </a:xfrm>
          <a:custGeom>
            <a:avLst/>
            <a:gdLst/>
            <a:ahLst/>
            <a:rect l="l" t="t" r="r" b="b"/>
            <a:pathLst>
              <a:path fill="none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</a:path>
              <a:path stroke="0" w="30446" h="21600">
                <a:moveTo>
                  <a:pt x="0" y="1951"/>
                </a:moveTo>
                <a:cubicBezTo>
                  <a:pt x="2815" y="665"/>
                  <a:pt x="5875" y="0"/>
                  <a:pt x="8971" y="0"/>
                </a:cubicBezTo>
                <a:cubicBezTo>
                  <a:pt x="20001" y="0"/>
                  <a:pt x="29260" y="8311"/>
                  <a:pt x="30445" y="19279"/>
                </a:cubicBezTo>
                <a:lnTo>
                  <a:pt x="8971" y="21600"/>
                </a:lnTo>
                <a:lnTo>
                  <a:pt x="0" y="195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2"/>
          <p:cNvSpPr/>
          <p:nvPr/>
        </p:nvSpPr>
        <p:spPr>
          <a:xfrm flipV="1">
            <a:off x="6877080" y="1844640"/>
            <a:ext cx="1008000" cy="936720"/>
          </a:xfrm>
          <a:custGeom>
            <a:avLst/>
            <a:gdLst/>
            <a:ahLst/>
            <a:rect l="l" t="t" r="r" b="b"/>
            <a:pathLst>
              <a:path fill="none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</a:path>
              <a:path stroke="0" w="21364" h="21600">
                <a:moveTo>
                  <a:pt x="-1" y="0"/>
                </a:moveTo>
                <a:cubicBezTo>
                  <a:pt x="10698" y="0"/>
                  <a:pt x="19785" y="7831"/>
                  <a:pt x="21363" y="1841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219640" y="2276640"/>
            <a:ext cx="1871640" cy="28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6227640" y="2781360"/>
            <a:ext cx="86364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6588000" y="3284640"/>
            <a:ext cx="216000" cy="57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625 0.05811 L -0.04584 0.10024 L -0.08542 0.08588 L -0.10625 0.0419 L -0.10625 -0.00972 L -0.08959 -0.06088 L -0.05625 -0.07893 L -0.02709 -0.05833 L 1.94444E-006 -4.44444E-006 Z">
                                      <p:cBhvr>
                                        <p:cTn id="10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1042 0.0544 L -0.05069 0.10417 L -0.09028 0.09028 L -0.11042 0.03959 L -0.11042 -0.00833 L -0.09375 -0.05602 L -0.06042 -0.07291 L -0.03125 -0.0537 L -0.00399 0.00023 Z">
                                      <p:cBhvr>
                                        <p:cTn id="10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00417 0.05556 L -0.02708 0.08889 L -0.07622 0.08727 L -0.08663 0.06783 L -0.1125 0.01389 L -0.09497 -0.04328 L -0.08125 -0.075 C -0.0717 -0.08148 -0.06163 -0.06921 -0.0533 -0.06828 C -0.04618 -0.06666 -0.04358 -0.06828 -0.03872 -0.0655 C -0.03386 -0.06273 -0.03056 -0.0625 -0.02413 -0.05162 L 1.38889E-006 -4.81481E-006 Z">
                                      <p:cBhvr>
                                        <p:cTn id="10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L -0.00816 0.05116 L -0.03108 0.08171 L -0.07188 0.0875 L -0.08854 0.06806 L -0.11649 0.01273 L -0.10104 -0.04028 L -0.08524 -0.06875 C -0.04601 -0.07546 -0.04636 -0.09074 -0.03524 -0.06366 L -0.00399 0.00023 Z">
                                      <p:cBhvr>
                                        <p:cTn id="10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1:08:35Z</dcterms:created>
  <dc:creator>Математика</dc:creator>
  <dc:description/>
  <dc:language>en-US</dc:language>
  <cp:lastModifiedBy>Yulya</cp:lastModifiedBy>
  <dcterms:modified xsi:type="dcterms:W3CDTF">2020-01-09T10:04:34Z</dcterms:modified>
  <cp:revision>1</cp:revision>
  <dc:subject/>
  <dc:title>Слайд 1</dc:title>
</cp:coreProperties>
</file>