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A23-627B-4AEF-A893-05A179F5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55C-A270-4F73-A115-E9C091E7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8DA-33C7-48E1-86BD-2009491F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4A0-27ED-403B-9BF8-259E32F6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A0A-0893-4D89-A666-AE503C76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271-A04E-4099-A863-CCA960AE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F76-0316-41FC-8DBA-338DC8B2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24A-5C00-481D-B034-BE2E941B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B07-0689-4183-9608-33F0F007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B55-41B5-46C0-8ED7-F3381E9B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C9A-8732-45B5-A054-4DD8CD9D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5BF-73B9-40FB-A59D-B2C2E8AC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29CD-075B-4092-AF42-C563357F0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9"/>
          <p:cNvSpPr/>
          <p:nvPr/>
        </p:nvSpPr>
        <p:spPr>
          <a:xfrm>
            <a:off x="5148360" y="981000"/>
            <a:ext cx="2590560" cy="5040360"/>
          </a:xfrm>
          <a:prstGeom prst="flowChartMagneticDisk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476360" y="981000"/>
            <a:ext cx="2590920" cy="5040360"/>
          </a:xfrm>
          <a:prstGeom prst="flowChartMagneticDisk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1476360" y="4653000"/>
            <a:ext cx="2590920" cy="136836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5148360" y="4653000"/>
            <a:ext cx="2590560" cy="136836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1476360" y="3716280"/>
            <a:ext cx="2590920" cy="136836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"/>
          <p:cNvSpPr/>
          <p:nvPr/>
        </p:nvSpPr>
        <p:spPr>
          <a:xfrm>
            <a:off x="1476360" y="2781360"/>
            <a:ext cx="2590920" cy="136836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476360" y="2637000"/>
            <a:ext cx="2590920" cy="352584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2411280" y="260280"/>
            <a:ext cx="4681800" cy="1008000"/>
          </a:xfrm>
          <a:custGeom>
            <a:avLst/>
            <a:gdLst>
              <a:gd name="textAreaLeft" fmla="*/ 819360 w 4681800"/>
              <a:gd name="textAreaRight" fmla="*/ 3394440 w 468180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851280" y="476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 л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2195640" y="285264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7"/>
          <p:cNvSpPr/>
          <p:nvPr/>
        </p:nvSpPr>
        <p:spPr>
          <a:xfrm>
            <a:off x="5148360" y="4437000"/>
            <a:ext cx="2590560" cy="64764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8"/>
          <p:cNvSpPr/>
          <p:nvPr/>
        </p:nvSpPr>
        <p:spPr>
          <a:xfrm>
            <a:off x="1476360" y="4365720"/>
            <a:ext cx="2590920" cy="179712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4140360" y="4365720"/>
            <a:ext cx="9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3:46:44Z</dcterms:created>
  <dc:creator>Test4</dc:creator>
  <dc:description/>
  <dc:language>en-US</dc:language>
  <cp:lastModifiedBy>Yulya</cp:lastModifiedBy>
  <dcterms:modified xsi:type="dcterms:W3CDTF">2020-01-09T10:05:03Z</dcterms:modified>
  <cp:revision>5</cp:revision>
  <dc:subject/>
  <dc:title>Слайд 1</dc:title>
</cp:coreProperties>
</file>