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B0C-D2A4-4AF7-B6A9-F15E45CA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4A6-233B-4676-82AC-FCE1C7F1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B47-E54A-48A8-82A2-C35D1041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6B8-1FC0-4518-994F-ED3670AF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8D39-4AD0-4CC9-9073-7EA6803F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C49C-A7B5-4DF1-A3C1-8BC6C719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66A8-3A73-4B69-83E8-C22A3DAD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70C1-E281-4C1A-8E34-77B03D52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B9BF-CB14-4D6B-90BF-86902E4A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38C0-CD21-4B6C-B009-404E1623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9DED-29F2-47D9-9C67-CE81073C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B26-7E58-4D7D-B698-6C62C8D6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B550-929F-4033-9291-3FFA153E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C7C5-B176-49DF-BAC4-91A3DD2E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1EB1-2EE1-46B7-B7E6-4F635567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E0AF-6F48-4040-B933-77FD3752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A901-F6C4-46A8-962E-D55ACF99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57B7-2607-4AFA-941D-2C83E252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F71-5D70-4D55-9A9A-D03D7DEB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3A0-FF40-439B-8D28-77F88D09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7AB-E82E-4278-BCC7-38C3D498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A81-0DD3-4E14-8FBE-01A09C11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BFF-6503-4844-A33B-A269A968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59E-B850-4255-8E51-450BD84D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20C0-B950-4E6A-8871-92B3FED329A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05E6-85BA-4FFA-86D6-FE88814DCA19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268280"/>
            <a:ext cx="8242200" cy="1938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полнила ученица 1 класса  Усманова Диана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уководитель Салихова Г.М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Содержимое 3" descr="а4.jpg"/>
          <p:cNvPicPr/>
          <p:nvPr/>
        </p:nvPicPr>
        <p:blipFill>
          <a:blip r:embed="rId1"/>
          <a:stretch/>
        </p:blipFill>
        <p:spPr>
          <a:xfrm>
            <a:off x="1349280" y="2057400"/>
            <a:ext cx="7261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Содержимое 3" descr="а11.jpg"/>
          <p:cNvPicPr/>
          <p:nvPr/>
        </p:nvPicPr>
        <p:blipFill>
          <a:blip r:embed="rId1"/>
          <a:stretch/>
        </p:blipFill>
        <p:spPr>
          <a:xfrm>
            <a:off x="457200" y="1523880"/>
            <a:ext cx="8305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Содержимое 3" descr="17.png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потом это искусство разлетелось по всему миру, приобретая в каждой местности свои особенности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ротяжении столетий многие народы для украшения одежды и предметов быта использовали технику ажурного вырезания из разных материалов. Ажурное вырезание из бумаги, кожи, ткани, бересты стало традиционным ремеслом очень многих народов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естьяне украшали ими свои жилища к праздникам - Рождеству и Пасхе, позднее - к Новому году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мин «Вытынанка» в те годы ёще не существовал. Он появился лишь в 1913 году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Содержимое 3" descr="а2.jpg"/>
          <p:cNvPicPr/>
          <p:nvPr/>
        </p:nvPicPr>
        <p:blipFill>
          <a:blip r:embed="rId1"/>
          <a:stretch/>
        </p:blipFill>
        <p:spPr>
          <a:xfrm>
            <a:off x="2666880" y="2209680"/>
            <a:ext cx="4724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Содержимое 3" descr="а5.jpg"/>
          <p:cNvPicPr/>
          <p:nvPr/>
        </p:nvPicPr>
        <p:blipFill>
          <a:blip r:embed="rId1"/>
          <a:stretch/>
        </p:blipFill>
        <p:spPr>
          <a:xfrm>
            <a:off x="1447920" y="1981080"/>
            <a:ext cx="70866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метричные вытынанки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их изготовления лист бумаги предварительно складывали, а затем уже вырезали узоры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луэтное вырезание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резные картинки из белого листа бумаги - портреты, пейзажи, которые потом помещали на темном фоне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Содержимое 3" descr="а7.jpg"/>
          <p:cNvPicPr/>
          <p:nvPr/>
        </p:nvPicPr>
        <p:blipFill>
          <a:blip r:embed="rId1"/>
          <a:stretch/>
        </p:blipFill>
        <p:spPr>
          <a:xfrm>
            <a:off x="380880" y="1600200"/>
            <a:ext cx="7925040" cy="470844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3" descr="а7.jpg"/>
          <p:cNvPicPr/>
          <p:nvPr/>
        </p:nvPicPr>
        <p:blipFill>
          <a:blip r:embed="rId2"/>
          <a:stretch/>
        </p:blipFill>
        <p:spPr>
          <a:xfrm>
            <a:off x="533520" y="1752480"/>
            <a:ext cx="79246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Содержимое 3" descr="а3.jpg"/>
          <p:cNvPicPr/>
          <p:nvPr/>
        </p:nvPicPr>
        <p:blipFill>
          <a:blip r:embed="rId1"/>
          <a:stretch/>
        </p:blipFill>
        <p:spPr>
          <a:xfrm>
            <a:off x="990720" y="1787400"/>
            <a:ext cx="735480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Содержимое 3" descr="а9.jpg"/>
          <p:cNvPicPr/>
          <p:nvPr/>
        </p:nvPicPr>
        <p:blipFill>
          <a:blip r:embed="rId1"/>
          <a:stretch/>
        </p:blipFill>
        <p:spPr>
          <a:xfrm>
            <a:off x="1143000" y="1600200"/>
            <a:ext cx="6629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 видела чудо,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 чудо видала -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умага в руках у ребят оживала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 если  возьмём этот лист мы с тобой -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южет из бумаги получим иной …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то-то любит мудреным зигзагом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шивать по журналам старинным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 ж люблю из обычной бумаги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вать кружевные картины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тынанками их называют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 народно и просто. И нежно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заметно они возникают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к рисунок затейливый - нежный …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Содержимое 3" descr="а8.jpg"/>
          <p:cNvPicPr/>
          <p:nvPr/>
        </p:nvPicPr>
        <p:blipFill>
          <a:blip r:embed="rId1"/>
          <a:stretch/>
        </p:blipFill>
        <p:spPr>
          <a:xfrm>
            <a:off x="1905120" y="1447920"/>
            <a:ext cx="487656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жницы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ей ПВ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нейк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нцелярский нож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рандаш простой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стик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кладная доск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умага и картон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ходе работы помните о технике безопасности и правила работы с ножницами и канцелярским ножом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используйте только хорошо заточенные ножи и инструменты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ледите, чтобы руки и рукоятка ножа были сухими и чистыми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не оставлять нож в положении режущей кромкой вверх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е пытаться поймать падающий нож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репко держите рукоятку ножа, угол между лезвием ножа и вырезаемой поверхностью должен быть не более 35 градусов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работая ножницами, следите за пальцами левой руки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не держите ножницы острыми концами вверх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е оставляйте их в раскрытом виде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и вырезании круглых деталей поворачивайте заготовку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глубже изучу технику и приемы работы по вырезанию из бумаги, то смогу выполнять очень красивые изделия этим способом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3" descr="15.jpg"/>
          <p:cNvPicPr/>
          <p:nvPr/>
        </p:nvPicPr>
        <p:blipFill>
          <a:blip r:embed="rId2"/>
          <a:stretch/>
        </p:blipFill>
        <p:spPr>
          <a:xfrm>
            <a:off x="1219320" y="1703520"/>
            <a:ext cx="617220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Содержимое 3" descr="15.jpg"/>
          <p:cNvPicPr/>
          <p:nvPr/>
        </p:nvPicPr>
        <p:blipFill>
          <a:blip r:embed="rId1"/>
          <a:stretch/>
        </p:blipFill>
        <p:spPr>
          <a:xfrm>
            <a:off x="1219320" y="1541520"/>
            <a:ext cx="72388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Содержимое 3" descr="16.jpg"/>
          <p:cNvPicPr/>
          <p:nvPr/>
        </p:nvPicPr>
        <p:blipFill>
          <a:blip r:embed="rId1"/>
          <a:stretch/>
        </p:blipFill>
        <p:spPr>
          <a:xfrm>
            <a:off x="1015920" y="1600200"/>
            <a:ext cx="7112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Содержимое 3" descr="а10.jpg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Содержимое 3" descr="а6.jpg"/>
          <p:cNvPicPr/>
          <p:nvPr/>
        </p:nvPicPr>
        <p:blipFill>
          <a:blip r:embed="rId1"/>
          <a:stretch/>
        </p:blipFill>
        <p:spPr>
          <a:xfrm>
            <a:off x="533520" y="1523880"/>
            <a:ext cx="6933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ть представление о технике ажурного вырезания поделок из бумаги - вытынанках, их видах и практическом применении в быту и повседневной жизни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история появления вытынанки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виды вытынанок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техника выполнения вытынанок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инструменты для работы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ехника безопасности и правила работы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тынанки - искусство вырезания из бумаги. Это удивительные картины из бумаги. Искусство это зародилось очень давно…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оначальником этого рукоделия стал Китай - так как там впервые появилась бумага. Только называется оно там - «Цзяньчжи»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кусство вырезания ажурных узоров из бумаги существует в Китае с тех пор, когда была изобретена бумага. Сначала вырезали драконов, позже - героев легенд, духов, бабочек, рыб, птиц, людей и цветов. Такие картинки вывешивали на окна, чтобы защитить дом от зла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4T08:25:30Z</dcterms:created>
  <dc:creator>User</dc:creator>
  <dc:description/>
  <dc:language>en-US</dc:language>
  <cp:lastModifiedBy>User</cp:lastModifiedBy>
  <dcterms:modified xsi:type="dcterms:W3CDTF">2019-05-14T14:39:47Z</dcterms:modified>
  <cp:revision>13</cp:revision>
  <dc:subject/>
  <dc:title>Название проекта Искусства мастерства «Вытынанка». Что такое вытынанка?</dc:title>
</cp:coreProperties>
</file>