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1C26-EE1A-4E6F-98C4-04D134A07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1D9A-5F43-441B-8B63-7984ECAC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0C92-257B-4157-8183-876AF8210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46FC-59BD-43BD-A228-C929C54B4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AEACBB-D54C-4D6E-84B4-5FFD4DC0E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31487-D796-4222-ADEE-8A53D46C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8AA8D-0CF0-459C-9A8C-D5BA21D2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A6BAE-609D-472C-A4FA-BCDCC8DF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2C3C3-6709-430D-A3E6-61D7A812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DB411-9F71-47E4-9547-3D4E0EDF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73855-44F4-4EC9-B0A6-903CFB02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069B-D0E5-427F-B912-457EF2B7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184E3-74E6-441D-A47D-8E95A2E7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0266F-4C65-4AA1-8EA8-E8591B31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7FF7C-7E6D-4CD2-BC23-5B0DAB9B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674BB-F615-4619-8FD1-359708C17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45FA7-F560-4BEA-BC7E-47948FDAF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DAAE-B42F-4C49-A570-77E36CEF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2882-D7ED-46E3-B781-6CA0151E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25A7-0DF4-4A66-9E90-2F999686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4224-0B74-44F3-8D01-F1985C7A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C760-383F-46B0-8858-BE92D1F1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B7B1-7F66-4A25-BF4A-97094AD7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5E91-4952-4FE4-8677-F1E27D82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4424-A3E3-42E2-8197-F3DB70FA9C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939D-50B4-4F99-9F70-A99EB86300D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1920" y="291960"/>
            <a:ext cx="85345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Тема: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Дельфины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52480" y="4647960"/>
            <a:ext cx="73915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Работу выполнила: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ница 4б класса МОБУ лицея №1 с. Большеустьикинск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Корякова Поли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дельфин 5"/>
          <p:cNvPicPr/>
          <p:nvPr/>
        </p:nvPicPr>
        <p:blipFill>
          <a:blip r:embed="rId1"/>
          <a:stretch/>
        </p:blipFill>
        <p:spPr>
          <a:xfrm>
            <a:off x="4448160" y="1600200"/>
            <a:ext cx="469584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C:\Users\1\Desktop\9fca93.jpg"/>
          <p:cNvPicPr/>
          <p:nvPr/>
        </p:nvPicPr>
        <p:blipFill>
          <a:blip r:embed="rId1"/>
          <a:stretch/>
        </p:blipFill>
        <p:spPr>
          <a:xfrm>
            <a:off x="228600" y="228600"/>
            <a:ext cx="3106800" cy="3886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Users\1\Desktop\dolph38_.jpg"/>
          <p:cNvPicPr/>
          <p:nvPr/>
        </p:nvPicPr>
        <p:blipFill>
          <a:blip r:embed="rId2"/>
          <a:stretch/>
        </p:blipFill>
        <p:spPr>
          <a:xfrm>
            <a:off x="3492360" y="3645000"/>
            <a:ext cx="5651640" cy="3213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Users\1\Desktop\delfin_i_trener-zu2p4.jpg"/>
          <p:cNvPicPr/>
          <p:nvPr/>
        </p:nvPicPr>
        <p:blipFill>
          <a:blip r:embed="rId3"/>
          <a:stretch/>
        </p:blipFill>
        <p:spPr>
          <a:xfrm>
            <a:off x="5105520" y="152280"/>
            <a:ext cx="403848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0" y="4581360"/>
            <a:ext cx="9144000" cy="17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700" spc="-1" strike="noStrike">
                <a:solidFill>
                  <a:srgbClr val="ffffff"/>
                </a:solidFill>
                <a:latin typeface="Tahoma"/>
              </a:rPr>
              <a:t>Мифы многих народов говорят о дельфине как о существе божественном, обладающем даром пророчества, способном одним прыжком вылететь из воды и достичь неба, чтобы занять свое место среди созвездий…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2" descr="C:\Users\1\Desktop\1201684596.jpg"/>
          <p:cNvPicPr/>
          <p:nvPr/>
        </p:nvPicPr>
        <p:blipFill>
          <a:blip r:embed="rId1"/>
          <a:stretch/>
        </p:blipFill>
        <p:spPr>
          <a:xfrm>
            <a:off x="2286000" y="5335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457200"/>
            <a:ext cx="3846240" cy="403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4000"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Спасибо за    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    </a:t>
            </a: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внимание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2" descr="D:\save\1234\Pictures\Видео и фото класса Лысовой О.Г\фото 3б класса\DSC07392.JPG"/>
          <p:cNvPicPr/>
          <p:nvPr/>
        </p:nvPicPr>
        <p:blipFill>
          <a:blip r:embed="rId1"/>
          <a:stretch/>
        </p:blipFill>
        <p:spPr>
          <a:xfrm>
            <a:off x="152280" y="228600"/>
            <a:ext cx="4572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Задача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яснить, где живут дельфи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м питаются дельфи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 какому отряду они относят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дельфины находят пищ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й характер у дельфи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Цель: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как дельфины находят пищу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Гипотезы: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льфины живут в теплых моря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льфины питаются рыб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льфины родственники ки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льфины очень умные и добрые созда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441972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 знаю, что дельфины живут в морях, океанах, заливах, встречаются даже в реках. Дельфинье семейство – самое многочисленное из китообразных: оно включает в себя 40 вид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4" descr="дельфин 1"/>
          <p:cNvPicPr/>
          <p:nvPr/>
        </p:nvPicPr>
        <p:blipFill>
          <a:blip r:embed="rId1"/>
          <a:stretch/>
        </p:blipFill>
        <p:spPr>
          <a:xfrm>
            <a:off x="762120" y="-1440"/>
            <a:ext cx="731520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8320" y="228240"/>
            <a:ext cx="44956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 газеты я узнала, что японские ученые с 2003 года с помощью акустической аппаратуры проводили эксперименты с дельфинами в популярном  водном парк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5" descr="C:\Users\1\Desktop\1241419400_dolphin_2.jpg"/>
          <p:cNvPicPr/>
          <p:nvPr/>
        </p:nvPicPr>
        <p:blipFill>
          <a:blip r:embed="rId1"/>
          <a:stretch/>
        </p:blipFill>
        <p:spPr>
          <a:xfrm>
            <a:off x="0" y="3078000"/>
            <a:ext cx="5041800" cy="3780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нылый протяжный свист, и следующий за ним высокий и мелодичный - означает, что дельфин зовет на помощь. Когда дельфины сердятся – они начинают лаять... Особенно широкий диапазон звуков у дельфина- афалины. Это могут быть стоны, писки, скуление, визг, похрюкивание, лай, различной высоты скрипы, щелчки, мяуканье, чириканье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2" descr="C:\Users\1\Desktop\c1e35e214a.jpg"/>
          <p:cNvPicPr/>
          <p:nvPr/>
        </p:nvPicPr>
        <p:blipFill>
          <a:blip r:embed="rId1"/>
          <a:stretch/>
        </p:blipFill>
        <p:spPr>
          <a:xfrm>
            <a:off x="6248520" y="2819520"/>
            <a:ext cx="2651040" cy="4038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Users\1\Desktop\15-3.jpg"/>
          <p:cNvPicPr/>
          <p:nvPr/>
        </p:nvPicPr>
        <p:blipFill>
          <a:blip r:embed="rId2"/>
          <a:stretch/>
        </p:blipFill>
        <p:spPr>
          <a:xfrm>
            <a:off x="539640" y="4724280"/>
            <a:ext cx="2144880" cy="1704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Users\1\Desktop\кер54.jpeg"/>
          <p:cNvPicPr/>
          <p:nvPr/>
        </p:nvPicPr>
        <p:blipFill>
          <a:blip r:embed="rId3"/>
          <a:stretch/>
        </p:blipFill>
        <p:spPr>
          <a:xfrm>
            <a:off x="3059280" y="3068640"/>
            <a:ext cx="1901520" cy="15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48320" y="151920"/>
            <a:ext cx="44956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ельфины держатся дружными группами. Вместе они способны защитить себя от прожорливых акул. Дельфины очень умные, своей смекалкой они превосходят даже шимпанзе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2" descr="C:\Users\1\Desktop\638e4456b4d60d6c_Jumping_Bottlenose_Dolphins.preview.jpg"/>
          <p:cNvPicPr/>
          <p:nvPr/>
        </p:nvPicPr>
        <p:blipFill>
          <a:blip r:embed="rId1"/>
          <a:stretch/>
        </p:blipFill>
        <p:spPr>
          <a:xfrm>
            <a:off x="457200" y="3200400"/>
            <a:ext cx="4495680" cy="3376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Users\1\Desktop\еп.jpeg"/>
          <p:cNvPicPr/>
          <p:nvPr/>
        </p:nvPicPr>
        <p:blipFill>
          <a:blip r:embed="rId2"/>
          <a:stretch/>
        </p:blipFill>
        <p:spPr>
          <a:xfrm>
            <a:off x="228600" y="34920"/>
            <a:ext cx="36576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C:\Users\1\Desktop\55731091_1267208535_0_c4c1_60767d30_XL.jpg"/>
          <p:cNvPicPr/>
          <p:nvPr/>
        </p:nvPicPr>
        <p:blipFill>
          <a:blip r:embed="rId1"/>
          <a:stretch/>
        </p:blipFill>
        <p:spPr>
          <a:xfrm>
            <a:off x="4213080" y="3357720"/>
            <a:ext cx="4930920" cy="3295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1\Desktop\delf.jpg"/>
          <p:cNvPicPr/>
          <p:nvPr/>
        </p:nvPicPr>
        <p:blipFill>
          <a:blip r:embed="rId2"/>
          <a:stretch/>
        </p:blipFill>
        <p:spPr>
          <a:xfrm>
            <a:off x="250920" y="1052640"/>
            <a:ext cx="4789440" cy="316836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3"/>
          <p:cNvSpPr/>
          <p:nvPr/>
        </p:nvSpPr>
        <p:spPr>
          <a:xfrm>
            <a:off x="4419720" y="2286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ои наблюдения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Мои наблюдения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2" descr="C:\Users\1\Desktop\0_19b70_244e354d_XL.jpeg"/>
          <p:cNvPicPr/>
          <p:nvPr/>
        </p:nvPicPr>
        <p:blipFill>
          <a:blip r:embed="rId1"/>
          <a:stretch/>
        </p:blipFill>
        <p:spPr>
          <a:xfrm>
            <a:off x="1371600" y="1828800"/>
            <a:ext cx="6175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p</cp:lastModifiedBy>
  <dcterms:modified xsi:type="dcterms:W3CDTF">2015-11-25T15:00:5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