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420D-154C-4143-9094-378B731657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1EE-8794-4B41-95A1-125F8E07F3E0}" type="slidenum">
              <a:rPr b="1" lang="ru-RU" sz="1200" spc="-1" strike="noStrike">
                <a:solidFill>
                  <a:srgbClr val="000000"/>
                </a:solidFill>
                <a:latin typeface="Rockwell Condense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Rockwell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44A-988D-4EBC-BE44-AE74F699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21F-501F-4E37-B920-ABA75D9E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EC9-74A0-42D1-B34D-EE9C55DF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3C8-6E12-4070-90CD-38F87494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04B-1CC1-4AB5-AFE6-C5C50D59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5D00-AFFC-400D-A7F3-0649DD2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9BB9-1352-48EE-87D4-2B09B40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13A-E272-49B6-B6B6-17CD97E9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6F2-FC93-4F30-B2CC-19C8E4B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B06D-47B0-42C4-BBFE-F84121F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6424-BD26-4062-A1A9-1AB953C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CC1-9D9D-4D51-9D75-E7DB03B4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D596-1D4F-4667-BAF4-DAADB7B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EEB1-EC45-43FC-A6FD-C6E93415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0FB-E52D-4F02-B7ED-3A42599E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048-CB3B-4303-B9BB-E6F13B9A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D91-5680-4A2F-B103-CD898732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74ECD-FA11-440D-B56C-CDC4A2B5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90727-8D41-41A8-9818-BB30BD79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2F0B5-414B-4E5B-82EE-984A971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2A7F0-E3AE-442C-B96D-CF95D9F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0144A-076D-4944-9171-60AABBA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BB0-207F-42F0-8821-4AA4E84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FC6B0-DD00-46C2-984B-8695113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6E6A2-9AC1-4772-99ED-2145BC0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5EB7E-F69D-400D-8FEF-9C5C910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9C6E2-6DDB-4103-8ABE-F0B3AA0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175C8-8880-4E26-A368-2E691E5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B0971-86B5-4AF2-B45A-9FF3461E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1B056-1774-47D5-BB0A-D3BD53DD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AE4A-940E-42D8-879B-7A8E4808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44D1-3B01-4302-BF29-5420A71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512CD-BFDE-4C25-9C37-A38DE190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F89-6B16-4049-B987-23C035EF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B21B-B240-423D-82AF-E9DA047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630D-7E4A-4943-B5E7-4311DD2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BECF-1F5C-4C74-A2C2-44BEE9A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7F4D-377B-4331-8B21-1A0C822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8B8F-4976-46E4-AE9C-FB1F0BD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1B94-5760-46F8-B03A-C99C4CE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CA10-9650-4072-9574-02C7492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40926-5A60-40BC-B63E-8F3F8D78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64E0-FB6C-4F64-A2E4-5A8FC248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0B4-0A9A-47FA-BDC5-065A04B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202-C2BF-4FDE-8393-E90A9A7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33B-1454-4A37-A337-9419103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9A8-2060-41CD-AD72-54CE10A5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BFE-59C8-4AD3-AFF4-3AD4CDF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278-38C5-411B-90D2-3999372F200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8F9A-305E-454B-8F2C-4BBC7786BDEF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534-1A3D-4D63-8776-507001B4E34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Rockwell Condensed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Rockwell Condensed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Rockwell Condensed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74D3-A926-456E-BA56-4A09529F080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Rockwell Condensed"/>
              </a:rPr>
              <a:t>Что мы знаем о   лете?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Rockwell Condensed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Rockwell Condensed"/>
              </a:rPr>
              <a:t>Андриенко Л.А.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Прямоугольник 15"/>
          <p:cNvSpPr/>
          <p:nvPr/>
        </p:nvSpPr>
        <p:spPr>
          <a:xfrm>
            <a:off x="1066680" y="2286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МБОУ СОШ №1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pic>
        <p:nvPicPr>
          <p:cNvPr id="344" name="Picture 18" descr="Картинки по запросу лето картинки"/>
          <p:cNvPicPr/>
          <p:nvPr/>
        </p:nvPicPr>
        <p:blipFill>
          <a:blip r:embed="rId1"/>
          <a:stretch/>
        </p:blipFill>
        <p:spPr>
          <a:xfrm>
            <a:off x="1066680" y="646200"/>
            <a:ext cx="685800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612720"/>
            <a:ext cx="8496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1" lang="ru-RU" sz="4900" spc="-1" strike="noStrike">
                <a:solidFill>
                  <a:srgbClr val="ff0000"/>
                </a:solidFill>
                <a:latin typeface="Century Gothic"/>
              </a:rPr>
              <a:t>Рефлексия</a:t>
            </a:r>
            <a:br>
              <a:rPr sz="4900"/>
            </a:b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     </a:t>
            </a:r>
            <a:r>
              <a:rPr b="0" lang="ru-RU" sz="4900" spc="-1" strike="noStrike">
                <a:solidFill>
                  <a:srgbClr val="000000"/>
                </a:solidFill>
                <a:latin typeface="Century Gothic"/>
              </a:rPr>
              <a:t>Да                          Нет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2158920" y="196992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ckwell Condensed"/>
              </a:rPr>
              <a:t>Воздух прозрачный?</a:t>
            </a:r>
            <a:endParaRPr b="1" lang="en-US" sz="36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1523880" y="2771640"/>
            <a:ext cx="60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ckwell Condensed"/>
              </a:rPr>
              <a:t>Красное солнце к ветру?</a:t>
            </a:r>
            <a:endParaRPr b="1" lang="en-US" sz="36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1247040" y="37735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ckwell Condensed"/>
              </a:rPr>
              <a:t>Пчелы отдыхают на цветке?</a:t>
            </a:r>
            <a:endParaRPr b="1" lang="en-US" sz="36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49" name="TextBox 17"/>
          <p:cNvSpPr/>
          <p:nvPr/>
        </p:nvSpPr>
        <p:spPr>
          <a:xfrm>
            <a:off x="769320" y="48006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ckwell Condensed"/>
              </a:rPr>
              <a:t>Цветы закрываются к вечеру?</a:t>
            </a:r>
            <a:endParaRPr b="1" lang="en-US" sz="36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0" name="TextBox 18"/>
          <p:cNvSpPr/>
          <p:nvPr/>
        </p:nvSpPr>
        <p:spPr>
          <a:xfrm>
            <a:off x="25560" y="5715000"/>
            <a:ext cx="94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Rockwell Condensed"/>
              </a:rPr>
              <a:t>Подсолнух поворачивается на восток?</a:t>
            </a:r>
            <a:endParaRPr b="1" lang="en-US" sz="3600" spc="-1" strike="noStrike">
              <a:solidFill>
                <a:srgbClr val="000000"/>
              </a:solidFill>
              <a:latin typeface="Rockwell Condense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entury Gothic"/>
              </a:rPr>
              <a:t>Атрибуты лета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5-конечная звезда 3"/>
          <p:cNvSpPr/>
          <p:nvPr/>
        </p:nvSpPr>
        <p:spPr>
          <a:xfrm>
            <a:off x="6324480" y="1050840"/>
            <a:ext cx="2362320" cy="1524240"/>
          </a:xfrm>
          <a:prstGeom prst="pie">
            <a:avLst/>
          </a:prstGeom>
          <a:solidFill>
            <a:srgbClr val="aaea2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Rockwell Condensed"/>
              </a:rPr>
              <a:t>НЕТ</a:t>
            </a:r>
            <a:endParaRPr b="1" lang="en-US" sz="2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3" name="5-конечная звезда 2"/>
          <p:cNvSpPr/>
          <p:nvPr/>
        </p:nvSpPr>
        <p:spPr>
          <a:xfrm>
            <a:off x="762120" y="1035000"/>
            <a:ext cx="1904760" cy="1371600"/>
          </a:xfrm>
          <a:prstGeom prst="pie">
            <a:avLst/>
          </a:prstGeom>
          <a:solidFill>
            <a:srgbClr val="caf27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Rockwell Condensed"/>
              </a:rPr>
              <a:t>ДА</a:t>
            </a:r>
            <a:endParaRPr b="1" lang="en-US" sz="2800" spc="-1" strike="noStrike">
              <a:solidFill>
                <a:srgbClr val="000000"/>
              </a:solidFill>
              <a:latin typeface="Rockwell Condensed"/>
            </a:endParaRPr>
          </a:p>
        </p:txBody>
      </p:sp>
      <p:pic>
        <p:nvPicPr>
          <p:cNvPr id="354" name="Picture 12" descr="newy112"/>
          <p:cNvPicPr/>
          <p:nvPr/>
        </p:nvPicPr>
        <p:blipFill>
          <a:blip r:embed="rId1"/>
          <a:stretch/>
        </p:blipFill>
        <p:spPr>
          <a:xfrm>
            <a:off x="3948120" y="1123920"/>
            <a:ext cx="1773360" cy="217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jiv417"/>
          <p:cNvPicPr/>
          <p:nvPr/>
        </p:nvPicPr>
        <p:blipFill>
          <a:blip r:embed="rId2"/>
          <a:stretch/>
        </p:blipFill>
        <p:spPr>
          <a:xfrm>
            <a:off x="6773760" y="3249720"/>
            <a:ext cx="1463760" cy="1127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Картинки по запросу лето фрукты картинки"/>
          <p:cNvPicPr/>
          <p:nvPr/>
        </p:nvPicPr>
        <p:blipFill>
          <a:blip r:embed="rId3"/>
          <a:stretch/>
        </p:blipFill>
        <p:spPr>
          <a:xfrm>
            <a:off x="914400" y="2857680"/>
            <a:ext cx="2313000" cy="15382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"/>
          <p:cNvPicPr/>
          <p:nvPr/>
        </p:nvPicPr>
        <p:blipFill>
          <a:blip r:embed="rId4"/>
          <a:stretch/>
        </p:blipFill>
        <p:spPr>
          <a:xfrm>
            <a:off x="4343400" y="360036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"/>
          <p:cNvPicPr/>
          <p:nvPr/>
        </p:nvPicPr>
        <p:blipFill>
          <a:blip r:embed="rId5"/>
          <a:stretch/>
        </p:blipFill>
        <p:spPr>
          <a:xfrm>
            <a:off x="2070000" y="3973680"/>
            <a:ext cx="2448000" cy="285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C -0.00833 -0.01528 -0.0375 -0.03033 -0.04757 -0.03033 C -0.1118 -0.03033 -0.17795 0.20856 -0.17795 0.44745 C -0.17795 0.32685 -0.21111 0.20856 -0.24236 0.20856 C -0.27534 0.20856 -0.30659 0.32893 -0.30659 0.44745 C -0.30659 0.38796 -0.32309 0.32685 -0.33975 0.32685 C -0.35625 0.32685 -0.37274 0.38634 -0.37274 0.44745 C -0.37274 0.4169 -0.38107 0.38796 -0.38923 0.38796 C -0.39757 0.38796 -0.4059 0.41852 -0.4059 0.44745 C -0.4059 0.43217 -0.41007 0.4169 -0.41406 0.4169 C -0.41632 0.4169 -0.42239 0.43217 -0.42239 0.44745 C -0.42239 0.43981 -0.42448 0.43217 -0.42673 0.43217 C -0.42673 0.43009 -0.4309 0.43981 -0.4309 0.44745 C -0.4309 0.44329 -0.4309 0.43981 -0.43316 0.43981 C -0.43316 0.44167 -0.43524 0.44375 -0.43524 0.44745 C -0.43524 0.44537 -0.43524 0.44329 -0.43524 0.44167 C -0.4375 0.44167 -0.4375 0.44375 -0.4375 0.4456 C -0.43958 0.4456 -0.43958 0.44375 -0.43958 0.44167 C -0.44166 0.44167 -0.44166 0.44375 -0.44166 0.4456 E">
                                      <p:cBhvr>
                                        <p:cTn id="19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C 2.5E-006 -0.04676 0.03871 -0.08264 0.08611 -0.08264 C 0.13472 -0.08264 0.17361 -0.04676 0.17361 -3.33333E-006 C 0.17361 0.04676 0.2125 0.08264 0.26111 0.08264 C 0.3085 0.08264 0.34739 0.04676 0.34739 -3.33333E-006 E">
                                      <p:cBhvr>
                                        <p:cTn id="2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предели автора этих ст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685800" y="125424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ckwell Condensed"/>
              </a:rPr>
              <a:t>А. С. Пушкин</a:t>
            </a:r>
            <a:endParaRPr b="1" lang="en-US" sz="2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570640" y="1252440"/>
            <a:ext cx="242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ckwell Condense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Rockwell Condensed"/>
              </a:rPr>
              <a:t>А. Л. Барто</a:t>
            </a:r>
            <a:endParaRPr b="1" lang="en-US" sz="2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2362320" y="197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Последняя туча рассеянной бури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Одна ты несешься по ясной лазури,</a:t>
            </a: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3962520" y="4110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Когда по синеве мор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Зефир скользит и тихо веет</a:t>
            </a: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838080" y="489096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Румяной заре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Покрылся восто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В селе за реко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Потух огонек.</a:t>
            </a: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5" name="Прямоугольник 18"/>
          <p:cNvSpPr/>
          <p:nvPr/>
        </p:nvSpPr>
        <p:spPr>
          <a:xfrm>
            <a:off x="3962520" y="5029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Левая! Правая! Бегая, Плавая, Мы растем Смелыми, На солнце Загорелыми.</a:t>
            </a: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6" name="Прямоугольник 19"/>
          <p:cNvSpPr/>
          <p:nvPr/>
        </p:nvSpPr>
        <p:spPr>
          <a:xfrm>
            <a:off x="1295280" y="2863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 Condensed"/>
              </a:rPr>
              <a:t>Я знаю, что надо придумать, Чтоб не было больше зимы, Чтоб вместо высоких сугробов Вокруг зеленели холмы.</a:t>
            </a:r>
            <a:endParaRPr b="1" lang="en-US" sz="1800" spc="-1" strike="noStrike">
              <a:solidFill>
                <a:srgbClr val="000000"/>
              </a:solidFill>
              <a:latin typeface="Rockwell Condensed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Ольга А. Салеева</cp:lastModifiedBy>
  <dcterms:modified xsi:type="dcterms:W3CDTF">2019-12-17T04:12:12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