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97A-F457-4A2E-BA1B-BF0F65E1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375-E5DA-4A79-BAA1-33D5F579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DE0-4578-4C14-988E-7DC1CBD6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318-DDB1-46B6-B038-984573C8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6976-117B-4585-A170-DEF30F03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8F4-B0A7-4328-9574-126B4BA1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2B9-5376-452E-AEE7-402D8B85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388E-4080-4FA0-AA79-5241EDA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A95-DFF3-4677-AFBA-F72BBB49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3008-3B34-473B-B6DF-C3C83C0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2CD1-BFE4-49B2-AF6D-ED4B40B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340-83C7-4EB7-9A22-D1336189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082-06D1-47C1-97B1-6BCD76C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9CCA-BE3A-4162-9ADC-B914E68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A557-12D6-49C4-ACAE-E86697C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C3F7-62DB-4389-9818-11D4B034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C851-B00A-48EF-8CD4-E03DF5B2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FAE5-8D28-4A36-8102-154D3058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0BF5-411B-420F-B7C9-34A78C8E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E753-7102-419F-B38B-91B04D9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CCF3-F81C-4231-B721-EAB8A82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0EBC-4742-48AB-B8FF-A798038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475-0ACC-4A94-909E-9584EBFC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3194-2A70-425A-8959-13E80171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C2BB-F074-4B74-98F2-0EB69999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DCFD-3AA9-48B3-9C83-051AC42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9EE3-F925-4ADD-B0E9-73E9325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8F33-5F64-41DF-A9F7-1452C841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08C5-7396-4F2A-B1A6-3DF5AF1E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F679-249F-43E8-81E7-9F849F9C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4A95B-BED1-4C48-AC60-0BA65723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158D-B405-4F10-BDCE-3AB8996B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848E-70C4-4AAC-A9BD-474F8D4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1DC-F7EF-4BD0-9E1B-4C170AB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65E5-E03C-46B9-B95F-095E7FDB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EBD4-68BB-4ACB-A5D8-1BF27E60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C002-23D4-4BF3-8E10-125478F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A3BB-A70A-4D5D-9111-6037A24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8F22-36F1-4AF2-A973-A9EF28A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AF37-58E1-4E56-94B0-F6BBF2C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D11BA-BD78-4F5B-B33B-60048C0F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718C-337B-49AC-8662-9E121301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A88A-A663-49D5-8482-4977B537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1BE5-E10C-43D1-8879-D7413CA8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26B-5FA8-4BE9-A1A4-C7DF3D1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04FA-A279-4B3E-BA63-696EA760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BE55-0961-4776-BD21-7BB39A8D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6289-E511-46EE-9DBE-ED44C797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854D-292E-4D6E-8026-850A2528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1D816-8EA9-4CAD-9007-978014D5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AA04-6A47-4F32-975B-5597DE2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C66E-E038-49B7-BB19-E59CBF3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793E-6FD7-4B12-B7DB-1354D7F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F7B70-7199-43AB-B332-EAF34B7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7C1F-169C-447A-842D-ED5AF755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CA7-CD2D-47A3-A421-4F1DC996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E3F7B-8E40-4F29-9C5F-2577B400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D066-410A-4D3D-A877-045D363E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6EFB3-9A3E-4EE2-B4B3-0A20FDC8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C1D6-4CA7-4384-B42E-FE870E71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2CDF-1B11-4F39-A47E-6FC9B5AE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F4E2-D24B-474A-B954-8AF822AF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4370-4A2C-4CC1-B73A-2534E84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7E7C-FD6C-4320-8EAE-9FA8051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D9D76-65C9-418E-A03B-7747CEA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26AE0-21F4-4918-B3CA-6A6B689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6FA-47AD-47F6-8241-3D88CD8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D043D-B5DE-4845-9CAC-90549DF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F0CA-A5F6-4A53-8B5C-9FA10102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9DC8-501C-4DA4-BF11-EE34E86F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956D6-578A-4822-A5CF-A725DC53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7E0D-B3F5-4173-B377-46EBA3D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CB040-34FB-4051-9A6E-7C65B91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C08EF-274A-44A6-A50A-53AFF2F8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86DE-9D17-4912-BE5A-565FABA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4D3F-F13E-4DC6-B761-8C08F229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1D00-9421-4671-A7DD-A9514357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E08-5E67-471C-9853-23CDA0E5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BADA7-7410-4CC0-BB93-5E867ECF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8054-87FB-4AED-8510-0EE08FA1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88C7-EF20-483E-A6DC-7C9F4D0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4919-6B21-47E6-8F62-972D5EB5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524C7-3484-4D43-AE27-2898186E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DE8-D7F0-4C6D-A90C-6C32EB0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349-AF4C-4A64-88CC-81821BEE0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D53F-EC1D-44F9-BCD3-982A45245D3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7B57-FB3F-4419-A23E-0F4205EE5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0082-9CE7-4935-BE16-CB96D4EF1C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859C-C399-4AE7-BC33-D88AA6CF04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235-29A6-43B0-B0A5-C1D192DAE93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E2A8-6632-4939-8DD7-FA8A3A4929A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303800" y="1414440"/>
            <a:ext cx="5175000" cy="288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426px-Tuqay_portrait"/>
          <p:cNvPicPr/>
          <p:nvPr/>
        </p:nvPicPr>
        <p:blipFill>
          <a:blip r:embed="rId2"/>
          <a:stretch/>
        </p:blipFill>
        <p:spPr>
          <a:xfrm>
            <a:off x="585720" y="542880"/>
            <a:ext cx="3834000" cy="1069200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572000" y="4365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подготов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жко Екатерина Чаннам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4419720" y="255600"/>
            <a:ext cx="4973400" cy="5627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721070388"/>
          <p:cNvPicPr/>
          <p:nvPr/>
        </p:nvPicPr>
        <p:blipFill>
          <a:blip r:embed="rId2"/>
          <a:stretch/>
        </p:blipFill>
        <p:spPr>
          <a:xfrm>
            <a:off x="395280" y="333360"/>
            <a:ext cx="40323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4638600" y="378000"/>
            <a:ext cx="4730760" cy="6083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183826200"/>
          <p:cNvPicPr/>
          <p:nvPr/>
        </p:nvPicPr>
        <p:blipFill>
          <a:blip r:embed="rId2"/>
          <a:stretch/>
        </p:blipFill>
        <p:spPr>
          <a:xfrm>
            <a:off x="179280" y="333360"/>
            <a:ext cx="43880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3054240" y="469800"/>
            <a:ext cx="5821560" cy="5772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в уральске работает в типографии"/>
          <p:cNvPicPr/>
          <p:nvPr/>
        </p:nvPicPr>
        <p:blipFill>
          <a:blip r:embed="rId2"/>
          <a:stretch/>
        </p:blipFill>
        <p:spPr>
          <a:xfrm>
            <a:off x="250920" y="476280"/>
            <a:ext cx="2403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206960" y="-6480"/>
            <a:ext cx="5089320" cy="6870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три друга поэта тукай, сагит рамеев, фахрелисман агиев"/>
          <p:cNvPicPr/>
          <p:nvPr/>
        </p:nvPicPr>
        <p:blipFill>
          <a:blip r:embed="rId2"/>
          <a:stretch/>
        </p:blipFill>
        <p:spPr>
          <a:xfrm>
            <a:off x="179280" y="620640"/>
            <a:ext cx="4073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-6480" y="4700520"/>
            <a:ext cx="9156960" cy="2138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5188AFC292F6-1"/>
          <p:cNvPicPr/>
          <p:nvPr/>
        </p:nvPicPr>
        <p:blipFill>
          <a:blip r:embed="rId2"/>
          <a:stretch/>
        </p:blipFill>
        <p:spPr>
          <a:xfrm>
            <a:off x="971640" y="0"/>
            <a:ext cx="6624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5284800" y="378000"/>
            <a:ext cx="3700440" cy="6083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18"/>
          <p:cNvPicPr/>
          <p:nvPr/>
        </p:nvPicPr>
        <p:blipFill>
          <a:blip r:embed="rId2"/>
          <a:stretch/>
        </p:blipFill>
        <p:spPr>
          <a:xfrm>
            <a:off x="250920" y="189000"/>
            <a:ext cx="48402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63680" y="4346640"/>
            <a:ext cx="8040600" cy="1609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прижизненные издания тукая"/>
          <p:cNvPicPr/>
          <p:nvPr/>
        </p:nvPicPr>
        <p:blipFill>
          <a:blip r:embed="rId2"/>
          <a:stretch/>
        </p:blipFill>
        <p:spPr>
          <a:xfrm>
            <a:off x="1332000" y="765000"/>
            <a:ext cx="6264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9:17:33Z</dcterms:created>
  <dc:creator>tanja</dc:creator>
  <dc:description/>
  <dc:language>en-US</dc:language>
  <cp:lastModifiedBy>1</cp:lastModifiedBy>
  <dcterms:modified xsi:type="dcterms:W3CDTF">2020-01-09T05:52:15Z</dcterms:modified>
  <cp:revision>14</cp:revision>
  <dc:subject/>
  <dc:title>Габдулла  Тукай 1886-1913</dc:title>
</cp:coreProperties>
</file>