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7DCB-8AD8-4196-B454-9BA589C6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1A82-DE99-4447-8490-BE2ACB57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F88-9F19-4454-BDCD-EEFB7C49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42B4-22D4-46E6-A901-49E5CB6D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515E-0DEC-4599-8FFB-73099470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D24B-7BA6-4E50-8B8A-2DF81718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2AD1-4865-48CF-BFF9-3C45E932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3166-F71B-4596-BAA4-7B0FF821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2D7C-3C2B-4132-9ACB-2409B6B0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5A08-2058-4490-AD4D-B6C02CED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0E7A-BC5A-4BBB-B594-0AAC1B1F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6261-373C-4C87-BF30-38FD0E13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A53E-7DFF-4908-9487-D1C09EA012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ые символы – знаки государства, объявляющие всем другим государствам мира о самобытности данного государства, о его суверенит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826920" y="1641600"/>
            <a:ext cx="6769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ое государство должно иметь свой символ — гер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б России появился в 1497 г. С тех пор прошло более пятисот лет, но герб России — золотой двуглавый орел — не изменился. Орла венчают три короны — символ единства нашей страны. В лапах он держит скипетр и держа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такое скипет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украшенный богато жезл — символ власти. Скипетр в современном понимании — знак государственности. Держава — украшенный шар, знак законности и пр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груди орла расположен красный щит, на нем серебряный всадник, поражающий копьем дракона. Всадник — знак неустрашимости, торжества добра над злом, истины над лож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же означает изображение двуглавого орла на гербе России?  Единство и независимость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значает изображение всадни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еду добра над зл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look_com__ua-29956"/>
          <p:cNvPicPr/>
          <p:nvPr/>
        </p:nvPicPr>
        <p:blipFill>
          <a:blip r:embed="rId1"/>
          <a:stretch/>
        </p:blipFill>
        <p:spPr>
          <a:xfrm>
            <a:off x="-1405080" y="0"/>
            <a:ext cx="11531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ерб Российской Федер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го описание и порядок официального использования установлены Федеральным конституционным законом "О Государственном гербе Российской Федерации" от 25 декабря 2000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 представляет собой четырехугольный, с закругленными нижними углами, заостренный в оконечности красный геральдический щит с золотым двуглавым орлом, поднявшим вверх распущенные крылья. Орел увенчан двумя малыми коронами и — над ними — одной большой короной, соединенными лентой. В правой лапе орла — скипетр, в левой — держава. На груди орла, в красном щите, — серебряный всадник в синем плаще на серебряном коне, поражающий серебряным копьем черного опрокинутого навзничь и попранного конем драк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ктовка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ый цвет олицетворяет чистоту помыслов, благородность, а также откров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ий цвет символизирует величие, верность, целомудр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ный цвет обозначает отвагу, мужество, смелость и великодуш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я происхождения флага уходит в XIX век, но ранее его могли установить только на военных кораблях. В большей степени он был образом русского флота. Как только начали происходить географические открытия, флаг начал применяться и на суше. И если ранее на месте открытия ставили памятный крест, то теперь на новых землях стали водружать трехцветный флаг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отяжении практически 150 лет облик российского флага постоянно меня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сударственный флаг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го описание и порядок официального использования установлены Федеральным конституционным законом "О Государственном флаге Российской Федерации" от 25 декабря 2000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тья 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сударственный флаг Российской Федерации является официальным государственным символом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й флаг Российской Федерации представляет собой прямоугольное полотнище из трех равновеликих горизонтальных полос: верхней - белого, средней - синего и нижней - красного цвета. Отношение ширины флага к его длине 2: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М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азом президента РФ от 30 декабря 2000 года утвержден текст гимна, написанный Сергеем Михалковым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500120" y="0"/>
            <a:ext cx="4613400" cy="67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ссия - священная наша держав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ссия - любимая наша стран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гучая воля, великая слава 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вое достоянье на все времен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вься, Отечество наше свободно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ратских народов союз веково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ками данная мудрость народная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вься, страна! Мы гордимся тоб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 южных морей до полярного кра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кинулись наши леса и пол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а ты на свете! Одна ты такая 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анимая Богом родная земл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вься, Отечество наше свободно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ратских народов союз веково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ками данная мудрость народная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вься, страна! Мы гордимся тоб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рокий простор для мечты и для жизн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ядущие нам открывают го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м силу дает наша верность Отчизн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 было, так есть и так будет всегд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вься, Отечество наше свободно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ратских народов союз веково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ками данная мудрость народная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вься, страна! Мы гордимся тоб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3T13:28:14Z</dcterms:created>
  <dc:creator>ЕГЭ</dc:creator>
  <dc:description/>
  <dc:language>en-US</dc:language>
  <cp:lastModifiedBy>teacher</cp:lastModifiedBy>
  <dcterms:modified xsi:type="dcterms:W3CDTF">2020-01-09T06:45:10Z</dcterms:modified>
  <cp:revision>7</cp:revision>
  <dc:subject/>
  <dc:title>ГЕРБ</dc:title>
</cp:coreProperties>
</file>