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EC8-7232-424A-ACF1-DBA7C72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9F3-3DF1-4A25-90B6-FBE331EE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742CB-DFBC-4727-B406-9DD66F9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2536E-0680-4C28-83B8-53EC8EF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CE603-A6FE-4149-BACF-D114458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26332-A56B-4CC3-8B65-A5D2EDE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6B778-027D-49EC-A900-7DE090B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1A5C2-BA9B-4E4A-A6C0-B82C8CB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91799-316E-4F56-8FB4-0CBD5BA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8B2EB-E6B9-4285-8490-554C6099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DB9C8-C26D-480C-B005-E349184F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D382A-2482-4DBD-B092-632CBD9D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E91-28F3-4967-9CB1-9A8B457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0881E-C2FC-4850-8253-B0A1608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536A6-1BD4-490A-B349-452271C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E02D2-0C55-4B53-90B2-3A3CED3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7E1D3-6367-41AF-83D8-6978A3AC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C2C5E-F842-465D-9E27-3022D4A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E34A7-C0A1-42E0-97A9-43C9E39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85853-7FFC-4F60-B13A-9995DAA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EC638-EB26-4FA9-94F6-B0EB6D5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1718F-3FF4-4D5B-B945-DBABC2E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36EC1-4A8A-4ADF-96A9-2E5F6EA5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248-F5B5-4389-9ECA-F0A0A031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C4C51-A77F-4291-B3D3-41B27214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B2C91-69C9-47CB-BCC3-509233B9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1904-92C6-47B0-AAE6-4333025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C228-02BD-4E38-8EA5-2AAF132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2CB5-8A00-425A-8CB7-4EB7B70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3E965-4ECA-4330-8EB2-A981B97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DD2A-77D8-4B52-B52E-C9C6AF6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6B50E-FCB6-43E3-963B-27E7FD6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678A4-5C7C-44F0-924B-FA973E6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6FE09-8AF7-4B4F-963D-1461037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29E-5294-4E00-9E1F-D7400421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86A44-9607-41F6-A057-DA6BF84C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9F118-3681-4002-92DD-F9C235A2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E78A7-8D02-42CC-B5CF-573859F7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68C71-BB61-4DED-A86E-884B5E52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ED0CD-BD09-49E2-A292-0FFA211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B6EA3-3B43-4016-B3AA-6D93284C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9606A-5570-433B-96DE-A5A782D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42658-7257-4B3E-82E9-A1C514E7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8E41A-4147-4CAC-83DC-87B1901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1337D-2D8A-4A4C-8B26-F833B51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663-126C-46C2-9511-9DFB5BA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A698B-F81C-4782-A7AC-5B34A11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2908-3A18-4AE7-9F5D-B4224EFA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57A75-9713-47FB-A545-02BEE15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D3A3B-0734-4366-9F42-36C152EF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1E0C9-7BD1-49CA-835D-D95A6205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CAD-3396-4607-9B1A-AE414F5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C1CB-F517-4CF0-B058-96958391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476-493B-4CD8-B98B-ABFF4374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8D5-25F1-4BFE-A838-C6F1FD4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5B6-BB76-4B92-8615-81F0C1F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880-74B7-4DDB-89BC-5370D96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AEAE-8474-491D-A52E-4C5BA0D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8711-8D6E-4D1F-BABE-ED7272A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620B-21AB-4145-857C-752EEF40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026-612C-49C2-BDDE-4DB404B7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D02-ADE5-459A-87ED-55DF8109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72EA-7A1B-4EC9-8D5F-1003CCAE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F592-E5CE-47D1-9CF8-B731F36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9EF2-9349-44D4-9942-69A717E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C04E-6B24-4095-A862-E3A773DD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0F75-A610-4212-B109-ED964E9A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649-533B-4582-9619-35550ED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593B-E4B4-4C22-AF2A-DDFEAE9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887B-39F7-449D-B51F-2F7247F7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21BE-3602-4A29-BE7E-475C8E65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05EA-2B25-4AD8-A21E-3E4C91C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E053-55B1-4BAD-9A43-E01DB79B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C2A9-D04F-456B-988E-59184296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F47E-728D-419A-BB33-C573A23D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F206-2AFA-4794-AF95-0FEFB68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E13F-5170-4743-848C-F1124A6D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8F85-5AD7-49A4-B48C-3C4ED21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8E8-FE28-4046-A4A7-C5D5ADB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CF59-5C79-4DEA-A3C6-E2B791BE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9432-7B2C-4FB9-8C0D-4AAFF4D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94D7-1B0A-4FDB-A3AF-5A08FD7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AC49-C390-447D-B79E-418197B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EA70-E99B-4E44-B5E5-689E5F1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A180-3A69-4328-A674-CBB5B9B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1EDF-D1E0-4E39-9B1E-9A7E192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F527-C684-435C-8B12-4DFE50E7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A39D-8466-402F-AF35-033E72F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8EC0-42C5-42EF-BCB2-029FE767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517-98BF-458A-8333-817A9476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8C93-2116-4659-B6CA-80FDDB5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7980-8A41-4797-AA78-9FDAC70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EC20-3FF2-4626-ABD2-5FD3AE14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B4B1-F8D0-4097-8C4E-C08F6883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042A-B014-4AB0-A291-02C7148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B69E-4B68-4431-ABAB-B9311F9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4DFE-049C-481C-9E5C-83B6AFF3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227C-CA78-4DEB-ADD6-30898FC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01D4-505C-4898-9FEC-29931EC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BD29-F2C3-44E1-8B11-3BE7107C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98C-E646-4612-B92B-E49B8EA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A450-8D76-4EBD-91A9-CCE9FC66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9FB1-CA97-4B14-8C61-085878E9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7B94-B689-4F5D-9BF1-3557E7D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9DEE-61B5-4460-B97E-13A4C3B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C155-4A83-47D4-AB31-6C4136AF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0B55-F7FB-4C41-ABDF-6F8C724E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0206-F35A-4798-ADF2-8E9ACFB0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4C01-65FE-4697-8310-8CF0973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F2C4-BE99-4C2F-BB74-E99F5F8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EAF0-1BF1-4603-B1AC-66983BF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145-0A9A-4BE0-8A58-C52F5C1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CFCA-2C36-4307-90AE-B636FB2A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7A1D-46FA-4AF8-A6C6-ABDB82FB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FA03-D9AE-40E5-A318-129E8211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65F1-9AA7-4F9D-9447-54E08F8D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80DE3-9392-4B85-93FC-02A35D8B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971A-6880-4826-A563-DBB7C3E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CF0B-35CF-4B17-B1CD-325B5E3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F2BA-94E2-49EB-897A-5948D2EF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EFDC-B260-4F7C-852D-918F0A17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A041-C054-41F2-96A7-09C73FC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3FF-3CC0-40BE-9FBE-97C3772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302A-A2F3-4154-A158-431ECBC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6F736-AF9B-4099-B9FE-422C70D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EA77-2465-437F-B65D-8E6A735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A139-6402-48D7-8189-60F5331E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B6124-B597-4C63-93E6-95E6FDE4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4820-B3A4-4112-9A1D-7E0611DE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D1D1-6ED8-4C7A-9869-C9447919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EBAE-86E4-4520-8142-0068392F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B726-32BE-4FE0-821A-1E8945D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11E7-D583-43B1-9A1D-53366B2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141-D520-4C5A-A9C4-053EFF6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7C0B3-C1F8-4B7F-AE46-FC23C97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EA11-9B74-4DE1-B8A3-5B59F81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16495-5895-4437-851B-6F2F944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493E-338C-4BC1-A2B6-BF9344E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7F20F-F5CA-4AE7-9CEB-3341E71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B15E-5100-477A-8016-525DBCFE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62247-2FB2-483B-97F4-2A276F88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9BE93-447A-48A4-9325-311B6953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A2D1F-2CF9-4E31-BE7D-1E56CCDE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E1A46-7BC4-4BBD-8996-EA6AFFC3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47A-60C4-4A14-A3F3-A0AC97E288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470-EBC1-4D66-BE7B-EE6E9925DF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682-5D57-4750-A1E3-2F11BA9404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A4BB-4716-4C41-8C58-AAB10F0BAB7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E75-9F6B-45C0-9368-67A8C228807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7C2-BCD0-4DEE-BDEB-F5EBD1FEE0C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A91-5C6E-4A21-A5FC-ABD9441935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AEF-49BF-4B84-BE9A-7913A009C4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6AE1-4393-4B63-AAFC-E93B56E391A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8F9-FA89-4BC1-B728-74570768274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E65-270B-4DA2-82A4-338C364E12F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04F-5552-4304-91D2-853ABB19D4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C:\Users\Семья\Desktop\на занятие\Солнышко-картинка-без-лучиков-очень-красивые-016.jpg"/>
          <p:cNvPicPr/>
          <p:nvPr/>
        </p:nvPicPr>
        <p:blipFill>
          <a:blip r:embed="rId1"/>
          <a:stretch/>
        </p:blipFill>
        <p:spPr>
          <a:xfrm>
            <a:off x="3851280" y="62064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4"/>
          <p:cNvSpPr/>
          <p:nvPr/>
        </p:nvSpPr>
        <p:spPr>
          <a:xfrm>
            <a:off x="324000" y="1557360"/>
            <a:ext cx="35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группы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ятина Е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C:\Users\Семья\Desktop\на занятие\1.jpg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046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C:\Users\Семья\Desktop\на занятие\2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C:\Users\Семья\Desktop\на занятие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C:\Users\Семья\Desktop\на занятие\4.jpg"/>
          <p:cNvPicPr/>
          <p:nvPr/>
        </p:nvPicPr>
        <p:blipFill>
          <a:blip r:embed="rId1"/>
          <a:stretch/>
        </p:blipFill>
        <p:spPr>
          <a:xfrm>
            <a:off x="0" y="333360"/>
            <a:ext cx="9209160" cy="614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Семья\Desktop\на занятие\5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C:\Users\Семья\Desktop\на занятие\6.jpg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C:\Users\Семья\Desktop\на занятие\1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Georgi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0T15:19:17Z</dcterms:created>
  <dc:creator>Семья</dc:creator>
  <dc:description/>
  <dc:language>en-US</dc:language>
  <cp:lastModifiedBy>Семья</cp:lastModifiedBy>
  <dcterms:modified xsi:type="dcterms:W3CDTF">2020-01-09T12:54:12Z</dcterms:modified>
  <cp:revision>8</cp:revision>
  <dc:subject/>
  <dc:title>Слайд 1</dc:title>
</cp:coreProperties>
</file>